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166A-6D02-4938-B973-63D87A133A6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630-46CB-4170-ADD5-8E61C2F12B4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5FC5-69DD-4A1F-81B1-82561572869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C0E-371E-4C17-8A43-97B5FF8E7D2D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6429-DB80-4DE8-9588-CA5B02C65E2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6B89-5A73-4319-AA04-7730DEC9C37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C8CC-CFC1-48FE-98DF-6D133AA1701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11AE-B49B-4578-9B45-1A52A680EF2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4854-B23D-472B-AF63-24B45EF1878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30E8-ABE9-4B7C-B890-D7C8E6B4426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E1E8-5816-4A01-B71C-9952F826BB9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C725-61F0-43BA-A5FE-B3AE0703217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1BBE-DC46-40B8-AC81-3D25BBB4FCE2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A394-8D40-44C7-B33B-08DE6391A697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0D0B-C92F-423E-B22B-C2A4E5DC79C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861C-7FDE-4082-94D5-A9FFE9C9A25C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B945-7233-4994-98FF-4EFBD3BC1DB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2F13-F580-4145-BA42-DB0F52B5D914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981-B2C4-43B3-A81C-8053B1FD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1AF-381E-4EB8-97AB-590E84A3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77A4-F994-49E9-BA42-E6C90742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E5AC-9D98-4EAF-A587-7FFC15E3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7419-5DFE-411D-B9D7-B3B28CC6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9FA-480D-45EE-920A-4E40B261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6CD0-9999-44AF-9B4A-AD3E59F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6BEC-54E4-4BEF-8B1C-A3AB4EB6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D88A-CF66-46BD-AD18-60EBD3C3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823C-049F-4E9E-9C3B-5CA60B85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D12D-C9DC-46C9-B1FC-4A180003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9294-7366-4BDF-89E8-019C4BE9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97DF-CAEB-40E4-8B1B-3F891C82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A5A6-ACA7-4DA2-B2FD-79C8B2B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1C67-3E4D-4E89-B3F8-EF30C25C0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C0CD-58FA-4DB6-8DB9-1868C133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4D78-9BC4-4E2D-80C6-CEFC018E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CB96C-A911-4421-A437-6E67C4E5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5890-E406-4A04-BF4A-F0F4B2D6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98D6C-24B4-48DB-8946-40BF2E73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178B7-E1CE-4254-BF29-587EDC75B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BD1D-899A-4095-9BB9-1C0029A7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A21-D4E3-4CB8-B1B1-CBC811CA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68347-CEE7-45F4-9B83-8D8AFA9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6DB0A-8359-4F2B-97BC-1AD36148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405D2-9DD5-4E84-911E-D09E6515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54E5-48F4-45F8-8008-FB877EFD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1184F-B9B3-4071-9F23-1F23F73D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A3BD0-6ABE-4D1A-8870-CFA280F1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F3B0-C31C-42FC-847F-0D7CD8B3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4EE-C173-4F1A-A740-69DA10B7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04FA-465E-43A5-BE51-C2EC9EDC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6F28-44F4-4665-A02B-F518B4D7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DA8-682C-4A0F-BC71-3E2C944C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FB2-D001-42AE-BAC9-A06FBB8B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963-A2B4-4041-9F33-1D7EA1A7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3C64-A9E0-45DD-8A12-AB91FD879BBD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1440" y="560232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7"/>
          <a:stretch/>
        </p:blipFill>
        <p:spPr>
          <a:xfrm>
            <a:off x="6454800" y="6261120"/>
            <a:ext cx="2689200" cy="5968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2C28-E0BE-40A1-9DB2-E223D84CBC42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8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9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2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AED4-0995-47B7-B017-C93AF6506E08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541440" y="4653000"/>
            <a:ext cx="82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Dr H Gifford, Dr A Boulton, Dr S Triggs, Prof C Cunning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mic Sans MS"/>
              </a:rPr>
              <a:t>Ngā Pae o te Māramatan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International Indigenous Development Con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uckland, 27-30 Jun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603360" y="1989000"/>
            <a:ext cx="822960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ipping the balan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the impact of the Working for Families (WFF) policy on Māori whān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4000" y="1341360"/>
            <a:ext cx="7972200" cy="4967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- eligible whānau demonstrated the need for financial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rior to the policy’s existence, the living standards of WFF-eligible whānau were markedly and significantly lower than ineligible Māori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neficiary families with dependant children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ere the worst-off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ollowed by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other beneficiary households (excl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As) and low-income working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amilies with dependant childr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468360" y="4745160"/>
            <a:ext cx="273528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eligible whānau experienced an improvemen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decline in the proportion of whānau whose income was ‘not enough’ to meet their everyday need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n equivalent increase in the                               ‘just enough’ categ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using satisfaction also improv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higher proportion of families having                     to economise on the purchase of fruit                   and vegetables in 2011 compared to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6647040" y="3357720"/>
            <a:ext cx="2414520" cy="25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460520"/>
            <a:ext cx="8177040" cy="3408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dynamics play an important part in income 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hanges in household circumstances such as family formation and split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fluctuation in labour force status between full-time and part-time work and between work, parenting,                      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   study and looking for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51640" indent="-203040"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3276720" y="4653000"/>
            <a:ext cx="53276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ole of whānau in caring for whānau members and/or giving money to help whānau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lnSpc>
                <a:spcPct val="100000"/>
              </a:lnSpc>
              <a:spcBef>
                <a:spcPts val="4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tretch/>
        </p:blipFill>
        <p:spPr>
          <a:xfrm>
            <a:off x="468360" y="4438800"/>
            <a:ext cx="31338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6227640" y="2997360"/>
            <a:ext cx="2802240" cy="3735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 txBox="1"/>
          <p:nvPr/>
        </p:nvSpPr>
        <p:spPr>
          <a:xfrm>
            <a:off x="539280" y="1341000"/>
            <a:ext cx="8116920" cy="5256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mpact of WFF was significant but modest, and possibly frag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FF payments do make a contribution  towards improving income adequac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owever gains may be fragile, as                        the economic situation of low                                -income families remains one of                   considerable hardship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economising on basic necessities                   such as fruit and vegetables, and                     visits to the doctor, evid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23640" y="1412640"/>
            <a:ext cx="8475480" cy="2663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vident tensions between WFF policy obj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3240" indent="-24336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ceptualised as a tool to target those experiencing social disadvantage with a view to increasing overall living standards and reducing poverty in the commun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tretch/>
        </p:blipFill>
        <p:spPr>
          <a:xfrm>
            <a:off x="179280" y="4149720"/>
            <a:ext cx="3294000" cy="2325600"/>
          </a:xfrm>
          <a:prstGeom prst="rect">
            <a:avLst/>
          </a:prstGeom>
          <a:ln w="0">
            <a:noFill/>
          </a:ln>
        </p:spPr>
      </p:pic>
      <p:sp>
        <p:nvSpPr>
          <p:cNvPr id="202" name="Content Placeholder 2"/>
          <p:cNvSpPr/>
          <p:nvPr/>
        </p:nvSpPr>
        <p:spPr>
          <a:xfrm>
            <a:off x="3708360" y="4149720"/>
            <a:ext cx="52434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however a divergence between the ‘making work pay’ and the ‘income adequacy’ aims of the WFF policy is apparent, with significant impact on Māor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68000" y="1484280"/>
            <a:ext cx="835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FF targeted whānau who were financially limited but excluded the most economically disadvantaged i.e. beneficiaries, and therefore the children of benefici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discernible but “modest” improvement in income adequacy for those in receipt of WFF during the period 2004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95280" y="148428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research setting of considerable complex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Policy:  inherently complex, with inter-related components, which changed during the period of examin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ext: a time of social and economic change, including recession and changing gover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ānau: dynamic entities, moving in and out of employment, changing household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entre for Māori Health an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oundation for Research Science an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ther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5280" y="1484280"/>
            <a:ext cx="84247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year study with an overarching aim to identify whether Working for Families (WFF) has contributed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unded by the Health Research Council of New Zealand (HRC) and the Foundation for Research Science and Technology (FoR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440" indent="-25344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aboration between an iwi-based research centre &amp; a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9" descr="C:\Users\Amohia_2\AppData\Local\Microsoft\Windows\Temporary Internet Files\Content.Outlook\GK2I35KW\Professor Chris Cunningham.jpg"/>
          <p:cNvPicPr/>
          <p:nvPr/>
        </p:nvPicPr>
        <p:blipFill>
          <a:blip r:embed="rId1"/>
          <a:stretch/>
        </p:blipFill>
        <p:spPr>
          <a:xfrm>
            <a:off x="7156440" y="4013280"/>
            <a:ext cx="1898640" cy="2852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0920" y="1511280"/>
            <a:ext cx="7972200" cy="4968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WRMHD                                         Dr Heather Gifford (Lead) &amp;                      Dr Amohia Boulton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rom the Research Centre for           Māori Health and Development,     Massey University                                Dr Sue Triggs &amp;                                         Prof Chris Cunningh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138720" y="189000"/>
            <a:ext cx="1541520" cy="2160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Users\Amohia_2\Pictures\Photos of Me\WRMHD Photo of Me.JPG"/>
          <p:cNvPicPr/>
          <p:nvPr/>
        </p:nvPicPr>
        <p:blipFill>
          <a:blip r:embed="rId3"/>
          <a:stretch/>
        </p:blipFill>
        <p:spPr>
          <a:xfrm>
            <a:off x="7551720" y="1052640"/>
            <a:ext cx="1484280" cy="207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4"/>
          <a:stretch/>
        </p:blipFill>
        <p:spPr>
          <a:xfrm>
            <a:off x="6759720" y="2924280"/>
            <a:ext cx="158436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dditional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280" y="1484280"/>
            <a:ext cx="8280360" cy="4897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dertake new analysis using an existing and on-going Māori data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est Outcomes for Māori: Te Hoe Nuku Roa (THN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is a stratified, random, longitudinal survey of Māori households, initiated in a series of waves beginning in 199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high-quality research to inform policy development for Māo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Background to the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3640" y="148428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troduced in 2004, by a Labour gover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tempted to address a number of social policy goals (Johnson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duce child pover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mprove the incomes of working famil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strengthen work incentives for unemployed par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ake it easier for families to access financial assista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588240" indent="-226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Johnson, N. (2005). ‘Working for Families’ in New Zealand: Some Early Lessons. http://www.fulbright.org.nz/voices/axford/johnson.html. Accessed 26 August 2008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mponents of WF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34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NR Analysis - 3 Ph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14240" y="1557000"/>
            <a:ext cx="7972560" cy="469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dentification of households in the THNR dataset with characteristics qualifying them to receive W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scriptive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ntitativ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analysis of the longitudinal dataset of Māori househo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llection of new </a:t>
            </a: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ta on whānau wellbe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4000" y="1699920"/>
            <a:ext cx="7972200" cy="4692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HNR survey collected data on broad range of issues includ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Living Standards Indicator (ELSI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S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rst part of the research examined changes in living standards of whānau using data from households interviewed in Wave 4 (2004-2007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second part of the research examined changes in the living circumstances of households between Wave 4 and Wave 5 of THNR and looked at the </a:t>
            </a:r>
            <a:r>
              <a:rPr b="0" i="1" lang="en-AU" sz="26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of these changes on living standard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Samp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26920" y="1413000"/>
          <a:ext cx="7561440" cy="5208480"/>
        </p:xfrm>
        <a:graphic>
          <a:graphicData uri="http://schemas.openxmlformats.org/drawingml/2006/table">
            <a:tbl>
              <a:tblPr/>
              <a:tblGrid>
                <a:gridCol w="2065680"/>
                <a:gridCol w="981000"/>
                <a:gridCol w="1150920"/>
                <a:gridCol w="852480"/>
                <a:gridCol w="2511360"/>
              </a:tblGrid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hanau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4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ave 5 s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</a:tr>
              <a:tr h="1590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fore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fter W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12247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FF-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t elig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NZ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e0d6"/>
                    </a:solidFill>
                  </a:tcPr>
                </a:tc>
              </a:tr>
              <a:tr h="8589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a37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7-03T00:30:59Z</dcterms:modified>
  <cp:revision>201</cp:revision>
  <dc:subject/>
  <dc:title>Slide 1</dc:title>
</cp:coreProperties>
</file>