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8.png" ContentType="image/png"/>
  <Override PartName="/ppt/media/image4.png" ContentType="image/png"/>
  <Override PartName="/ppt/media/image34.png" ContentType="image/png"/>
  <Override PartName="/ppt/media/image5.jpeg" ContentType="image/jpeg"/>
  <Override PartName="/ppt/media/image26.jpeg" ContentType="image/jpeg"/>
  <Override PartName="/ppt/media/image27.jpeg" ContentType="image/jpeg"/>
  <Override PartName="/ppt/media/image9.jpeg" ContentType="image/jpeg"/>
  <Override PartName="/ppt/media/image29.jpeg" ContentType="image/jpeg"/>
  <Override PartName="/ppt/media/image30.png" ContentType="image/png"/>
  <Override PartName="/ppt/media/image13.png" ContentType="image/png"/>
  <Override PartName="/ppt/media/image7.png" ContentType="image/png"/>
  <Override PartName="/ppt/media/image31.jpeg" ContentType="image/jpeg"/>
  <Override PartName="/ppt/media/image2.png" ContentType="image/png"/>
  <Override PartName="/ppt/media/image25.png" ContentType="image/png"/>
  <Override PartName="/ppt/media/image33.png" ContentType="image/png"/>
  <Override PartName="/ppt/media/image3.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2DD9-157F-4F43-9743-1066B9A182B6}"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17640" y="744480"/>
            <a:ext cx="4962600" cy="3722760"/>
          </a:xfrm>
          <a:prstGeom prst="rect">
            <a:avLst/>
          </a:prstGeom>
          <a:ln w="0">
            <a:noFill/>
          </a:ln>
        </p:spPr>
      </p:sp>
      <p:sp>
        <p:nvSpPr>
          <p:cNvPr id="4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2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5456-A838-4A27-94DF-735A7ACF75F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7640" y="744480"/>
            <a:ext cx="4962600" cy="3722760"/>
          </a:xfrm>
          <a:prstGeom prst="rect">
            <a:avLst/>
          </a:prstGeom>
          <a:ln w="0">
            <a:noFill/>
          </a:ln>
        </p:spPr>
      </p:sp>
      <p:sp>
        <p:nvSpPr>
          <p:cNvPr id="4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2"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B746-6B1B-41D4-8FDF-2932CC8E766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7640" y="744480"/>
            <a:ext cx="4962600" cy="3722760"/>
          </a:xfrm>
          <a:prstGeom prst="rect">
            <a:avLst/>
          </a:prstGeom>
          <a:ln w="0">
            <a:noFill/>
          </a:ln>
        </p:spPr>
      </p:sp>
      <p:sp>
        <p:nvSpPr>
          <p:cNvPr id="4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55"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51DA-61CF-4377-8308-7DEA3262992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7640" y="744480"/>
            <a:ext cx="4962600" cy="3722760"/>
          </a:xfrm>
          <a:prstGeom prst="rect">
            <a:avLst/>
          </a:prstGeom>
          <a:ln w="0">
            <a:noFill/>
          </a:ln>
        </p:spPr>
      </p:sp>
      <p:sp>
        <p:nvSpPr>
          <p:cNvPr id="4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400" spc="-1" strike="noStrike">
              <a:solidFill>
                <a:srgbClr val="ff0000"/>
              </a:solidFill>
              <a:latin typeface="Calibri"/>
            </a:endParaRPr>
          </a:p>
        </p:txBody>
      </p:sp>
      <p:sp>
        <p:nvSpPr>
          <p:cNvPr id="45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78BB-50A5-4FC2-845C-CC8814FDAC4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7640" y="744480"/>
            <a:ext cx="4962600" cy="3722760"/>
          </a:xfrm>
          <a:prstGeom prst="rect">
            <a:avLst/>
          </a:prstGeom>
          <a:ln w="0">
            <a:noFill/>
          </a:ln>
        </p:spPr>
      </p:sp>
      <p:sp>
        <p:nvSpPr>
          <p:cNvPr id="4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B4FCE-AA69-45D8-9436-6847D378F5C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7640" y="744480"/>
            <a:ext cx="4962600" cy="3722760"/>
          </a:xfrm>
          <a:prstGeom prst="rect">
            <a:avLst/>
          </a:prstGeom>
          <a:ln w="0">
            <a:noFill/>
          </a:ln>
        </p:spPr>
      </p:sp>
      <p:sp>
        <p:nvSpPr>
          <p:cNvPr id="4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84B3B-D205-4F7C-845D-C9DE26ABBFC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17640" y="744480"/>
            <a:ext cx="4962600" cy="3722760"/>
          </a:xfrm>
          <a:prstGeom prst="rect">
            <a:avLst/>
          </a:prstGeom>
          <a:ln w="0">
            <a:noFill/>
          </a:ln>
        </p:spPr>
      </p:sp>
      <p:sp>
        <p:nvSpPr>
          <p:cNvPr id="4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436D-5BD8-4DDC-8AA3-937B493DAED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17640" y="744480"/>
            <a:ext cx="4962600" cy="3722760"/>
          </a:xfrm>
          <a:prstGeom prst="rect">
            <a:avLst/>
          </a:prstGeom>
          <a:ln w="0">
            <a:noFill/>
          </a:ln>
        </p:spPr>
      </p:sp>
      <p:sp>
        <p:nvSpPr>
          <p:cNvPr id="4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7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15EF8-C1EE-4695-A855-8F8ECDEFC3F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7640" y="744480"/>
            <a:ext cx="4962600" cy="3722760"/>
          </a:xfrm>
          <a:prstGeom prst="rect">
            <a:avLst/>
          </a:prstGeom>
          <a:ln w="0">
            <a:noFill/>
          </a:ln>
        </p:spPr>
      </p:sp>
      <p:sp>
        <p:nvSpPr>
          <p:cNvPr id="4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700" spc="-1" strike="noStrike" baseline="30000">
              <a:solidFill>
                <a:srgbClr val="000000"/>
              </a:solidFill>
              <a:latin typeface="Calibri"/>
            </a:endParaRPr>
          </a:p>
        </p:txBody>
      </p:sp>
      <p:sp>
        <p:nvSpPr>
          <p:cNvPr id="428"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F12FF-72CB-4341-B304-B1E7AF5B093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31"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52AC-12B4-4077-BD49-670D53BEE55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7640" y="744480"/>
            <a:ext cx="4962600" cy="3722760"/>
          </a:xfrm>
          <a:prstGeom prst="rect">
            <a:avLst/>
          </a:prstGeom>
          <a:ln w="0">
            <a:noFill/>
          </a:ln>
        </p:spPr>
      </p:sp>
      <p:sp>
        <p:nvSpPr>
          <p:cNvPr id="4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4"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8F70-302A-4DBB-B83C-36064B76C4B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7640" y="744480"/>
            <a:ext cx="4962600" cy="3722760"/>
          </a:xfrm>
          <a:prstGeom prst="rect">
            <a:avLst/>
          </a:prstGeom>
          <a:ln w="0">
            <a:noFill/>
          </a:ln>
        </p:spPr>
      </p:sp>
      <p:sp>
        <p:nvSpPr>
          <p:cNvPr id="4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D138-A049-428D-A709-5847FCB5ED8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7640" y="744480"/>
            <a:ext cx="4962600" cy="3722760"/>
          </a:xfrm>
          <a:prstGeom prst="rect">
            <a:avLst/>
          </a:prstGeom>
          <a:ln w="0">
            <a:noFill/>
          </a:ln>
        </p:spPr>
      </p:sp>
      <p:sp>
        <p:nvSpPr>
          <p:cNvPr id="4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A20B-88CB-4D64-A870-26931DE1FA8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7640" y="744480"/>
            <a:ext cx="4962600" cy="3722760"/>
          </a:xfrm>
          <a:prstGeom prst="rect">
            <a:avLst/>
          </a:prstGeom>
          <a:ln w="0">
            <a:noFill/>
          </a:ln>
        </p:spPr>
      </p:sp>
      <p:sp>
        <p:nvSpPr>
          <p:cNvPr id="4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NZ" sz="1200" spc="-1" strike="noStrike">
              <a:solidFill>
                <a:srgbClr val="4f6228"/>
              </a:solidFill>
              <a:latin typeface="Calibri"/>
            </a:endParaRPr>
          </a:p>
        </p:txBody>
      </p:sp>
      <p:sp>
        <p:nvSpPr>
          <p:cNvPr id="44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2064-45D9-4D56-BC31-3EB9C64C321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7640" y="744480"/>
            <a:ext cx="4962600" cy="3722760"/>
          </a:xfrm>
          <a:prstGeom prst="rect">
            <a:avLst/>
          </a:prstGeom>
          <a:ln w="0">
            <a:noFill/>
          </a:ln>
        </p:spPr>
      </p:sp>
      <p:sp>
        <p:nvSpPr>
          <p:cNvPr id="4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100" spc="-1" strike="noStrike">
              <a:solidFill>
                <a:srgbClr val="000000"/>
              </a:solidFill>
              <a:latin typeface="Calibri"/>
            </a:endParaRPr>
          </a:p>
        </p:txBody>
      </p:sp>
      <p:sp>
        <p:nvSpPr>
          <p:cNvPr id="4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B65B-0B63-4233-994F-B23AB39EB5A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7640" y="744480"/>
            <a:ext cx="4962600" cy="3722760"/>
          </a:xfrm>
          <a:prstGeom prst="rect">
            <a:avLst/>
          </a:prstGeom>
          <a:ln w="0">
            <a:noFill/>
          </a:ln>
        </p:spPr>
      </p:sp>
      <p:sp>
        <p:nvSpPr>
          <p:cNvPr id="4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4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1088-1827-40F6-8129-10F3C49AF54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AA228-16F7-49E2-B962-7F9C30072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D88DB-D0A1-4462-8AFE-3AD16DE95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4FE1D-3A05-4E19-81F5-6F86C6305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2D731-81D3-4AE6-80CC-1692CBEDA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8A6ED-1B7F-46BE-9EEE-B6E8777157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6F200-1B48-4D2B-95E2-29B9D523B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EC8B8-6047-4E22-9D73-B2253A40C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AD30E-8FD7-4CC6-A236-4F38D380F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CC7AD9-7EFC-46F9-8309-38C8F9C86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35AE9-895F-481D-A869-DC9460215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4CF88-B9B3-4DFA-ACA4-9959538FC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5440C-4EFC-446A-939B-005F93F61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534E97-2E7E-45F8-B37C-56CB73D8C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2A3C3-78D4-465C-B999-78B1FB8C6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B27B2-26A3-408F-A68C-36160E385F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20E78B-0421-433A-B818-50F455DDE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E55578-6A20-489A-9405-F1EBFE596D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61F93C-35E6-4DAA-9A3E-397123B619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A7DCA4-0533-4589-A344-CFDF29E245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45E27E-EF43-4333-8A00-D2E25671C4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B1C634-BE34-4A43-841C-0409E3E1D3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054F2-1573-44A2-9C67-BCAA5C9D2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BA8FF-2965-403D-B174-E43828C7B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FEA6A-F29F-48C9-9BC4-E61A02167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38830-4695-44CF-A92B-03AAECBCC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6C2332-8685-441F-85C7-A5686C3602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FB5AF-2915-42D4-9176-9D2F084F52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048FE-6B8A-41BF-B4A2-543E9E0E9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933AB1-4409-4F55-9667-672382BF39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ED3927-948E-4584-8278-1F69280F7E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E24F8D-4EC7-4703-9D85-4E7C5C16B6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4FCAA6-810D-4D4E-8D21-BADEFD0A7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061B70-D748-4265-A82B-6D80E16D2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9ED6D-1017-4665-A7C8-2DD4ADD0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783336-F75F-47A6-8CD0-24B1FB9398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754D9-E884-4117-BE4F-725E794FB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CE40E5-47B0-4E23-BA47-59D4B8A356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3B487-2374-4CCE-A6F8-097BBEE3B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5B5D9-2F17-45DE-BD35-D48DB1CFB1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246858-6DBE-4752-9415-5E75988C8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2DCBB-0F8F-4801-BDFD-2DFCBEC84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F64E3-1887-41F5-BA0C-FC87ABE91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17E36D-7EB2-4D75-A086-34D78CCF16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26D47F-2862-4580-8C89-EB627337D8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062C-4F42-4841-AE95-E48D3358F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CB1594-5706-42E1-9A19-BF31335E69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81CB1C-C69F-4543-ADB0-F8A494E1BD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516FA9-5DD3-4E47-93DD-48FC98FD75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9F7E5B-8B97-44F9-9F7D-08CF9D7A4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5350D-F4FB-4B72-B184-4BCBFDD4D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9EEDB-D5C1-406A-8FF7-B416D4076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48F02-E3E5-41C0-BA2D-B56541CC4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A3278D-F828-4A31-BD57-9DEE178EA8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9C5AB8-256B-4194-B9D3-D20D49CB48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7889D8-2F8A-4291-8851-2BE10244B0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CBDE5-CC5C-4ADE-BF8D-442BDDAB2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1A1FBD-2D5F-4F55-929D-DAB58514CF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CBCB76A-4539-4BFE-9AD8-04FB313628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99FFFA-3E29-4391-A23E-50305CBB83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BAF35-8EDB-4F8E-98E8-D2AA270646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ACBED7-563D-464A-BC8C-342BDD2DC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F6465-B26E-42D9-82A2-13D3BD58C1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44C789-674B-4AC3-AA63-2926E01413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86D7A4-FC29-4F4E-857E-0E5A33D6C8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1A425-694D-4769-BFD1-23A0F2BAE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9D39AB-5BE3-4310-9317-5ABBE22A8E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2C393-DA3D-48FD-923C-394CD648D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5FBEF6-C14B-4831-BAD5-3225303AC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A9C32E7-E8EE-42CA-8D19-15D56C9672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F7BC3B-AEB9-4ECD-91B6-26F96F59A1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202F9F-A0B3-4230-BFE8-91AFC07E10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1933D6-27CB-4743-9F2C-FC1B452C33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2959C2-D015-48A9-97ED-D41E6DE9D7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61E09D-B80F-47A3-8650-F56A4E8613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E500B3-F907-4762-828C-AB064B44DA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ED801B-10F0-429C-B818-3E578739DC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4059E9-8591-4DA5-B848-DD48BD911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479B0-BBB0-4F4B-92D5-B1F69AFD7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266DE3-6CE3-4290-B364-B9D3BC5926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3C614-BBC9-4BE8-AAD9-B778C7943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3B9159-EA7D-45B8-8239-61229322C7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F99C250-D18F-4C93-80D2-A759890B4B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9446700-2858-4791-B989-D19398D515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D66209-E156-43B0-A101-96A8E8F19A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2CA9F-8C91-443D-B3E0-89D1FEA902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FBBCEA-D48C-45B3-B63A-54CDE1DCE2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50DC0-1D05-4437-98D5-4F605BFECC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60CD484-78F0-4137-9537-763FD77D4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5051A-447E-41DD-B29A-201361926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F271D1-0988-4F31-A71B-57BE5BCF8D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2369C5-7B01-4936-B486-4A987CCAA9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ECB894-CDA1-497A-B75B-E807D2E0DC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C7B3F8-5C67-40F8-95E7-D1B59DD861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8636EE-4330-47F3-A78F-CA1347B074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BBE5B6-0152-45FB-8443-F4D5A60037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5D0284-0B7C-434F-A507-FA9572AFB81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BE172-DAD3-4C09-93F9-57F6D2496660}"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E01DC-4C21-4A09-8402-27CB0917D23C}"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B8D5E-B78B-4730-AA80-290D37BB25D2}"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579BF-AC57-4B1A-82D8-990780E1706B}"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F185-5B46-4357-BF9D-767C4CC2926D}"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EA626-25FA-4142-BA65-7E125EF5ECC1}"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805ED-F0F7-444F-AB30-C9B7C73FC3C6}" type="slidenum">
              <a:rPr b="0" lang="en-NZ"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9"/>
          <p:cNvGrpSpPr/>
          <p:nvPr/>
        </p:nvGrpSpPr>
        <p:grpSpPr>
          <a:xfrm>
            <a:off x="-6480" y="5791320"/>
            <a:ext cx="3402000" cy="1079280"/>
            <a:chOff x="-6480" y="5791320"/>
            <a:chExt cx="3402000" cy="1079280"/>
          </a:xfrm>
        </p:grpSpPr>
        <p:pic>
          <p:nvPicPr>
            <p:cNvPr id="324" name="Right Triangle 9"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0" descr=""/>
          <p:cNvPicPr/>
          <p:nvPr/>
        </p:nvPicPr>
        <p:blipFill>
          <a:blip r:embed="rId4"/>
          <a:stretch/>
        </p:blipFill>
        <p:spPr>
          <a:xfrm>
            <a:off x="-19080" y="5778360"/>
            <a:ext cx="3414600" cy="1098720"/>
          </a:xfrm>
          <a:prstGeom prst="rect">
            <a:avLst/>
          </a:prstGeom>
          <a:ln w="0">
            <a:noFill/>
          </a:ln>
        </p:spPr>
      </p:pic>
      <p:sp>
        <p:nvSpPr>
          <p:cNvPr id="327"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00C9-F6D5-411D-B62A-3DBEB7459E64}" type="slidenum">
              <a:rPr b="0" lang="en-NZ"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628560" y="334800"/>
            <a:ext cx="8271000" cy="316404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Paula White &amp; Amohia Boulton</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otearoa New Zealand Evaluation Association (anzea) Conference </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464646"/>
                </a:solidFill>
                <a:latin typeface="Lucida Sans Unicode"/>
              </a:rPr>
              <a:t>August 2011</a:t>
            </a:r>
            <a:endParaRPr b="0" lang="en-US" sz="18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12640"/>
            <a:ext cx="8229600" cy="459396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t>
            </a:r>
            <a:r>
              <a:rPr b="0" lang="en-NZ" sz="2500" spc="-1" strike="noStrike">
                <a:solidFill>
                  <a:srgbClr val="000000"/>
                </a:solidFill>
                <a:latin typeface="Lucida Sans Unicode"/>
              </a:rPr>
              <a:t>Over the past few years its become very clear to me that explicitly evaluative approaches are one of the most important, systematic and meaningful ways in which cultural values and worldviews can be built not just into how evaluations are conducted, but right into the heart of evaluative criteria, the evaluative interpretation/sense-making, and the evaluative conclusions[...]”</a:t>
            </a:r>
            <a:endParaRPr b="0" lang="en-US" sz="25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700" spc="-1" strike="noStrike">
                <a:solidFill>
                  <a:srgbClr val="000000"/>
                </a:solidFill>
                <a:latin typeface="Lucida Sans Unicode"/>
              </a:rPr>
              <a:t>	</a:t>
            </a:r>
            <a:endParaRPr b="0" lang="en-US" sz="27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E. Jane Davidson, Genuine Evaluation Blog, April 2010</a:t>
            </a: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00" name="Title 1" descr=""/>
          <p:cNvPicPr/>
          <p:nvPr/>
        </p:nvPicPr>
        <p:blipFill>
          <a:blip r:embed="rId1"/>
          <a:stretch/>
        </p:blipFill>
        <p:spPr>
          <a:xfrm>
            <a:off x="66600" y="262080"/>
            <a:ext cx="8802720" cy="124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95280" y="1341360"/>
            <a:ext cx="8291520" cy="511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useful tool in our “evaluation toolki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eing explicit about the judgements that we make in evaluation</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hey comprise (Judy Oakden, 2011):</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evaluative criteria </a:t>
            </a:r>
            <a:r>
              <a:rPr b="0" lang="en-NZ" sz="2300" spc="-1" strike="noStrike">
                <a:solidFill>
                  <a:srgbClr val="000000"/>
                </a:solidFill>
                <a:latin typeface="Lucida Sans Unicode"/>
              </a:rPr>
              <a:t>(the criteria we use to judge the quality, or the value or the importance of the service provided)</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dimensions of merit </a:t>
            </a:r>
            <a:r>
              <a:rPr b="0" lang="en-NZ" sz="2300" spc="-1" strike="noStrike">
                <a:solidFill>
                  <a:srgbClr val="000000"/>
                </a:solidFill>
                <a:latin typeface="Lucida Sans Unicode"/>
              </a:rPr>
              <a:t>(the types of performance we focus on), and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300" spc="-1" strike="noStrike">
                <a:solidFill>
                  <a:srgbClr val="000000"/>
                </a:solidFill>
                <a:latin typeface="Lucida Sans Unicode"/>
              </a:rPr>
              <a:t>merit determination </a:t>
            </a:r>
            <a:r>
              <a:rPr b="0" lang="en-NZ" sz="2300" spc="-1" strike="noStrike">
                <a:solidFill>
                  <a:srgbClr val="000000"/>
                </a:solidFill>
                <a:latin typeface="Lucida Sans Unicode"/>
              </a:rPr>
              <a:t>(the level of performance we observe)</a:t>
            </a:r>
            <a:r>
              <a:rPr b="0" lang="en-NZ"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0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68360" y="213372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halleng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Lucida Sans Unicode"/>
              </a:rPr>
              <a:t>	</a:t>
            </a:r>
            <a:endParaRPr b="0" lang="en-US" sz="1800" spc="-1" strike="noStrike">
              <a:solidFill>
                <a:srgbClr val="000000"/>
              </a:solidFill>
              <a:latin typeface="Lucida Sans Unicode"/>
            </a:endParaRPr>
          </a:p>
          <a:p>
            <a:pPr lvl="1"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404" name="Title 1" descr=""/>
          <p:cNvPicPr/>
          <p:nvPr/>
        </p:nvPicPr>
        <p:blipFill>
          <a:blip r:embed="rId1"/>
          <a:stretch/>
        </p:blipFill>
        <p:spPr>
          <a:xfrm>
            <a:off x="212760" y="109440"/>
            <a:ext cx="8486640" cy="2408400"/>
          </a:xfrm>
          <a:prstGeom prst="rect">
            <a:avLst/>
          </a:prstGeom>
          <a:ln w="0">
            <a:noFill/>
          </a:ln>
        </p:spPr>
      </p:pic>
      <p:pic>
        <p:nvPicPr>
          <p:cNvPr id="405" name="Picture 2" descr="F:\no 8 wire.jpg"/>
          <p:cNvPicPr/>
          <p:nvPr/>
        </p:nvPicPr>
        <p:blipFill>
          <a:blip r:embed="rId2"/>
          <a:stretch/>
        </p:blipFill>
        <p:spPr>
          <a:xfrm>
            <a:off x="7451640" y="12600"/>
            <a:ext cx="1692360" cy="1268640"/>
          </a:xfrm>
          <a:prstGeom prst="rect">
            <a:avLst/>
          </a:prstGeom>
          <a:ln w="0">
            <a:noFill/>
          </a:ln>
        </p:spPr>
      </p:pic>
      <p:graphicFrame>
        <p:nvGraphicFramePr>
          <p:cNvPr id="406" name=""/>
          <p:cNvGraphicFramePr/>
          <p:nvPr/>
        </p:nvGraphicFramePr>
        <p:xfrm>
          <a:off x="4211640" y="2205000"/>
          <a:ext cx="3240000" cy="3371760"/>
        </p:xfrm>
        <a:graphic>
          <a:graphicData uri="http://schemas.openxmlformats.org/drawingml/2006/table">
            <a:tbl>
              <a:tblPr/>
              <a:tblGrid>
                <a:gridCol w="768240"/>
                <a:gridCol w="2471760"/>
              </a:tblGrid>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ly </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Useful</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But</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Realistical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Inherently</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d2eaf1"/>
                    </a:solidFill>
                  </a:tcPr>
                </a:tc>
              </a:tr>
              <a:tr h="561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ea typeface="Calibri"/>
                        </a:rPr>
                        <a:t>Complex</a:t>
                      </a:r>
                      <a:endParaRPr b="0" lang="en-US" sz="2400" spc="-1" strike="noStrike">
                        <a:solidFill>
                          <a:srgbClr val="000000"/>
                        </a:solidFill>
                        <a:latin typeface="Arial"/>
                      </a:endParaRPr>
                    </a:p>
                  </a:txBody>
                  <a:tcPr anchor="t" marL="68760" marR="68760">
                    <a:lnL w="5760">
                      <a:solidFill>
                        <a:srgbClr val="78c0d4"/>
                      </a:solidFill>
                    </a:lnL>
                    <a:lnR w="5760">
                      <a:solidFill>
                        <a:srgbClr val="78c0d4"/>
                      </a:solidFill>
                    </a:lnR>
                    <a:lnT w="5760">
                      <a:solidFill>
                        <a:srgbClr val="78c0d4"/>
                      </a:solidFill>
                    </a:lnT>
                    <a:lnB w="5760">
                      <a:solidFill>
                        <a:srgbClr val="78c0d4"/>
                      </a:solidFill>
                    </a:lnB>
                    <a:solidFill>
                      <a:srgbClr val="a5d5e2"/>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301320" y="1527120"/>
            <a:ext cx="8504280" cy="47815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hilosophical/poli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transformatio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Negotiating bicultural and/or multicultural approach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Unpacking power relationships                           (critical theory)</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8" name="Title 1" descr=""/>
          <p:cNvPicPr/>
          <p:nvPr/>
        </p:nvPicPr>
        <p:blipFill>
          <a:blip r:embed="rId1"/>
          <a:stretch/>
        </p:blipFill>
        <p:spPr>
          <a:xfrm>
            <a:off x="201600" y="274680"/>
            <a:ext cx="8485200" cy="1243080"/>
          </a:xfrm>
          <a:prstGeom prst="rect">
            <a:avLst/>
          </a:prstGeom>
          <a:ln w="0">
            <a:noFill/>
          </a:ln>
        </p:spPr>
      </p:pic>
      <p:pic>
        <p:nvPicPr>
          <p:cNvPr id="409" name="Picture 7" descr=""/>
          <p:cNvPicPr/>
          <p:nvPr/>
        </p:nvPicPr>
        <p:blipFill>
          <a:blip r:embed="rId2"/>
          <a:stretch/>
        </p:blipFill>
        <p:spPr>
          <a:xfrm>
            <a:off x="828720" y="4468680"/>
            <a:ext cx="2208240" cy="2208240"/>
          </a:xfrm>
          <a:prstGeom prst="rect">
            <a:avLst/>
          </a:prstGeom>
          <a:ln w="0">
            <a:noFill/>
          </a:ln>
        </p:spPr>
      </p:pic>
      <p:pic>
        <p:nvPicPr>
          <p:cNvPr id="410" name="Picture 4" descr="C:\Documents and Settings\Gill\My Documents\My Pictures\GABTR\oct 2008 garden 006.jpg"/>
          <p:cNvPicPr/>
          <p:nvPr/>
        </p:nvPicPr>
        <p:blipFill>
          <a:blip r:embed="rId3"/>
          <a:stretch/>
        </p:blipFill>
        <p:spPr>
          <a:xfrm>
            <a:off x="6037200" y="3478320"/>
            <a:ext cx="3106800" cy="3379680"/>
          </a:xfrm>
          <a:prstGeom prst="rect">
            <a:avLst/>
          </a:prstGeom>
          <a:ln w="0">
            <a:noFill/>
          </a:ln>
        </p:spPr>
      </p:pic>
      <p:pic>
        <p:nvPicPr>
          <p:cNvPr id="411" name="Picture 4" descr="C:\Users\amohia\Desktop\Pa Stylz\Ratana Temple4.jpg"/>
          <p:cNvPicPr/>
          <p:nvPr/>
        </p:nvPicPr>
        <p:blipFill>
          <a:blip r:embed="rId4"/>
          <a:stretch/>
        </p:blipFill>
        <p:spPr>
          <a:xfrm>
            <a:off x="3005280" y="4179960"/>
            <a:ext cx="3190680" cy="2052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ractical</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takeholder buy-in</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cuses the evaluation work</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ssisting in the evaluation planning process (fieldwork, data collection, report writing)</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upports a “no surprises” approach</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pportunity to get innovative and creative </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3" name="Title 1" descr=""/>
          <p:cNvPicPr/>
          <p:nvPr/>
        </p:nvPicPr>
        <p:blipFill>
          <a:blip r:embed="rId1"/>
          <a:stretch/>
        </p:blipFill>
        <p:spPr>
          <a:xfrm>
            <a:off x="201600" y="274680"/>
            <a:ext cx="8485200" cy="1243080"/>
          </a:xfrm>
          <a:prstGeom prst="rect">
            <a:avLst/>
          </a:prstGeom>
          <a:ln w="0">
            <a:noFill/>
          </a:ln>
        </p:spPr>
      </p:pic>
      <p:pic>
        <p:nvPicPr>
          <p:cNvPr id="414" name="Picture 5" descr="IMG00037-20100218-1527"/>
          <p:cNvPicPr/>
          <p:nvPr/>
        </p:nvPicPr>
        <p:blipFill>
          <a:blip r:embed="rId2"/>
          <a:stretch/>
        </p:blipFill>
        <p:spPr>
          <a:xfrm>
            <a:off x="2771640" y="4446720"/>
            <a:ext cx="2914920" cy="2190600"/>
          </a:xfrm>
          <a:prstGeom prst="rect">
            <a:avLst/>
          </a:prstGeom>
          <a:ln w="0">
            <a:noFill/>
          </a:ln>
        </p:spPr>
      </p:pic>
      <p:pic>
        <p:nvPicPr>
          <p:cNvPr id="415" name="Picture 6" descr="IMG00014-20091216-1220"/>
          <p:cNvPicPr/>
          <p:nvPr/>
        </p:nvPicPr>
        <p:blipFill>
          <a:blip r:embed="rId3"/>
          <a:stretch/>
        </p:blipFill>
        <p:spPr>
          <a:xfrm>
            <a:off x="5940360" y="4446720"/>
            <a:ext cx="2914560" cy="21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lationships are key</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Navigating relationships well requires a negotiation of the values of all stakehol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ubrics are a tool to judge quality; and may be useful for negotiating values and navigating relationship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Many resources to assist us as evaluators including our own local exper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7" name="Title 1" descr=""/>
          <p:cNvPicPr/>
          <p:nvPr/>
        </p:nvPicPr>
        <p:blipFill>
          <a:blip r:embed="rId1"/>
          <a:stretch/>
        </p:blipFill>
        <p:spPr>
          <a:xfrm>
            <a:off x="201600" y="274680"/>
            <a:ext cx="8485200" cy="1243080"/>
          </a:xfrm>
          <a:prstGeom prst="rect">
            <a:avLst/>
          </a:prstGeom>
          <a:ln w="0">
            <a:noFill/>
          </a:ln>
        </p:spPr>
      </p:pic>
      <p:pic>
        <p:nvPicPr>
          <p:cNvPr id="418" name="Picture 2" descr="http://t0.gstatic.com/images?q=tbn:ANd9GcSP9uQEckLB0BhzC9LJmU1469zc5HXjst_4lRh6TZYedl0Mp11zTQ"/>
          <p:cNvPicPr/>
          <p:nvPr/>
        </p:nvPicPr>
        <p:blipFill>
          <a:blip r:embed="rId2"/>
          <a:stretch/>
        </p:blipFill>
        <p:spPr>
          <a:xfrm>
            <a:off x="6838920" y="5168880"/>
            <a:ext cx="2305080" cy="1703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2133720"/>
            <a:ext cx="2736720" cy="1722240"/>
          </a:xfrm>
          <a:prstGeom prst="rect">
            <a:avLst/>
          </a:prstGeom>
          <a:ln w="0">
            <a:noFill/>
          </a:ln>
        </p:spPr>
      </p:pic>
      <p:sp>
        <p:nvSpPr>
          <p:cNvPr id="420" name=""/>
          <p:cNvSpPr txBox="1"/>
          <p:nvPr/>
        </p:nvSpPr>
        <p:spPr>
          <a:xfrm>
            <a:off x="457200" y="1481040"/>
            <a:ext cx="8229600" cy="4525920"/>
          </a:xfrm>
          <a:prstGeom prst="rect">
            <a:avLst/>
          </a:prstGeom>
          <a:noFill/>
          <a:ln w="0">
            <a:noFill/>
          </a:ln>
        </p:spPr>
        <p:txBody>
          <a:bodyPr anchor="t">
            <a:normAutofit/>
          </a:bodyPr>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Paula White</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Organisational Performance Team</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Te Puni Kōkiri</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itp@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tpk.govt.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 Boulton</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hakauae Research for Māori Health and Development</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amohia.whakauae@xtra.co.nz</a:t>
            </a:r>
            <a:endParaRPr b="0" lang="en-US" sz="2500" spc="-1" strike="noStrike">
              <a:solidFill>
                <a:srgbClr val="000000"/>
              </a:solidFill>
              <a:latin typeface="Lucida Sans Unicode"/>
            </a:endParaRPr>
          </a:p>
          <a:p>
            <a:pPr marL="365040" indent="-2556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500" spc="-1" strike="noStrike">
                <a:solidFill>
                  <a:srgbClr val="000000"/>
                </a:solidFill>
                <a:latin typeface="Lucida Sans Unicode"/>
              </a:rPr>
              <a:t>www.whakauae.co.nz</a:t>
            </a:r>
            <a:endParaRPr b="0" lang="en-US" sz="2500" spc="-1" strike="noStrike">
              <a:solidFill>
                <a:srgbClr val="000000"/>
              </a:solidFill>
              <a:latin typeface="Lucida Sans Unicode"/>
            </a:endParaRPr>
          </a:p>
        </p:txBody>
      </p:sp>
      <p:pic>
        <p:nvPicPr>
          <p:cNvPr id="421" name="Title 1" descr=""/>
          <p:cNvPicPr/>
          <p:nvPr/>
        </p:nvPicPr>
        <p:blipFill>
          <a:blip r:embed="rId2"/>
          <a:stretch/>
        </p:blipFill>
        <p:spPr>
          <a:xfrm>
            <a:off x="201600" y="274680"/>
            <a:ext cx="8485200" cy="1243080"/>
          </a:xfrm>
          <a:prstGeom prst="rect">
            <a:avLst/>
          </a:prstGeom>
          <a:ln w="0">
            <a:noFill/>
          </a:ln>
        </p:spPr>
      </p:pic>
      <p:pic>
        <p:nvPicPr>
          <p:cNvPr id="422" name="Picture 4" descr="WRS Logo for Outlook Email"/>
          <p:cNvPicPr/>
          <p:nvPr/>
        </p:nvPicPr>
        <p:blipFill>
          <a:blip r:embed="rId3"/>
          <a:stretch/>
        </p:blipFill>
        <p:spPr>
          <a:xfrm>
            <a:off x="7524720" y="5605560"/>
            <a:ext cx="1619280" cy="1252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ur roots, our                                 connections</a:t>
            </a:r>
            <a:endParaRPr b="0" lang="en-US" sz="2700" spc="-1" strike="noStrike">
              <a:solidFill>
                <a:srgbClr val="000000"/>
              </a:solidFill>
              <a:latin typeface="Lucida Sans Unicode"/>
            </a:endParaRPr>
          </a:p>
        </p:txBody>
      </p:sp>
      <p:pic>
        <p:nvPicPr>
          <p:cNvPr id="380" name="Title 1" descr=""/>
          <p:cNvPicPr/>
          <p:nvPr/>
        </p:nvPicPr>
        <p:blipFill>
          <a:blip r:embed="rId1"/>
          <a:stretch/>
        </p:blipFill>
        <p:spPr>
          <a:xfrm>
            <a:off x="201600" y="274680"/>
            <a:ext cx="8485200" cy="1243080"/>
          </a:xfrm>
          <a:prstGeom prst="rect">
            <a:avLst/>
          </a:prstGeom>
          <a:ln w="0">
            <a:noFill/>
          </a:ln>
        </p:spPr>
      </p:pic>
      <p:pic>
        <p:nvPicPr>
          <p:cNvPr id="381" name="Picture 4" descr="1_1245659986_mt-maunganui.jpg"/>
          <p:cNvPicPr/>
          <p:nvPr/>
        </p:nvPicPr>
        <p:blipFill>
          <a:blip r:embed="rId2"/>
          <a:stretch/>
        </p:blipFill>
        <p:spPr>
          <a:xfrm>
            <a:off x="611280" y="3141720"/>
            <a:ext cx="3529080" cy="2649600"/>
          </a:xfrm>
          <a:prstGeom prst="rect">
            <a:avLst/>
          </a:prstGeom>
          <a:ln w="0">
            <a:noFill/>
          </a:ln>
        </p:spPr>
      </p:pic>
      <p:pic>
        <p:nvPicPr>
          <p:cNvPr id="382" name="Picture 5" descr="palmy-01.jpg"/>
          <p:cNvPicPr/>
          <p:nvPr/>
        </p:nvPicPr>
        <p:blipFill>
          <a:blip r:embed="rId3"/>
          <a:stretch/>
        </p:blipFill>
        <p:spPr>
          <a:xfrm>
            <a:off x="4572000" y="1413000"/>
            <a:ext cx="4062240" cy="2803320"/>
          </a:xfrm>
          <a:prstGeom prst="rect">
            <a:avLst/>
          </a:prstGeom>
          <a:ln w="0">
            <a:noFill/>
          </a:ln>
        </p:spPr>
      </p:pic>
      <p:pic>
        <p:nvPicPr>
          <p:cNvPr id="383" name="Picture 6" descr=""/>
          <p:cNvPicPr/>
          <p:nvPr/>
        </p:nvPicPr>
        <p:blipFill>
          <a:blip r:embed="rId4"/>
          <a:stretch/>
        </p:blipFill>
        <p:spPr>
          <a:xfrm>
            <a:off x="3203640" y="3933720"/>
            <a:ext cx="2797200" cy="95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Responding to our unique contex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On why navigating relationships is so importa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nnection between relationships and valu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International trends and messag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tradition in Aotearoa NZ</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 No. 8 wire approach to rubric development?</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Tensions and opportunities</a:t>
            </a:r>
            <a:endParaRPr b="0" lang="en-US" sz="2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pic>
        <p:nvPicPr>
          <p:cNvPr id="385" name="Title 1" descr=""/>
          <p:cNvPicPr/>
          <p:nvPr/>
        </p:nvPicPr>
        <p:blipFill>
          <a:blip r:embed="rId1"/>
          <a:stretch/>
        </p:blipFill>
        <p:spPr>
          <a:xfrm>
            <a:off x="201600" y="274680"/>
            <a:ext cx="8485200" cy="1243080"/>
          </a:xfrm>
          <a:prstGeom prst="rect">
            <a:avLst/>
          </a:prstGeom>
          <a:ln w="0">
            <a:noFill/>
          </a:ln>
        </p:spPr>
      </p:pic>
      <p:pic>
        <p:nvPicPr>
          <p:cNvPr id="386" name="Picture 4" descr="compass.gif"/>
          <p:cNvPicPr/>
          <p:nvPr/>
        </p:nvPicPr>
        <p:blipFill>
          <a:blip r:embed="rId2"/>
          <a:stretch/>
        </p:blipFill>
        <p:spPr>
          <a:xfrm>
            <a:off x="7240680" y="0"/>
            <a:ext cx="1903320" cy="2133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68000" y="1412640"/>
            <a:ext cx="8280360" cy="5040360"/>
          </a:xfrm>
          <a:prstGeom prst="rect">
            <a:avLst/>
          </a:prstGeom>
          <a:noFill/>
          <a:ln w="0">
            <a:noFill/>
          </a:ln>
        </p:spPr>
        <p:txBody>
          <a:bodyPr anchor="t">
            <a:normAutofit/>
          </a:bodyPr>
          <a:p>
            <a:pPr marL="365040" indent="-255600">
              <a:lnSpc>
                <a:spcPct val="7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Complex relationships space:</a:t>
            </a:r>
            <a:endParaRPr b="0" lang="en-US" sz="27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olitical, cultural, social, environmental, economic:   Treaty partnership and multiculturalism </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practitioners, commissioners and users:   located in communities, services and in government</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stakeholder interface:                         between funders, government, NGO and communities</a:t>
            </a: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lnSpc>
                <a:spcPct val="8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Global shifts:                                                                  geopolitical power; demography, climate, resource                                 pressures; rapid technological advancement; values</a:t>
            </a:r>
            <a:endParaRPr b="0" lang="en-US" sz="23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8"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5280" y="1412640"/>
            <a:ext cx="8229600" cy="489564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a:t>
            </a:r>
            <a:r>
              <a:rPr b="0" lang="en-NZ" sz="2300" spc="-1" strike="noStrike">
                <a:solidFill>
                  <a:srgbClr val="000000"/>
                </a:solidFill>
                <a:latin typeface="Lucida Sans Unicode"/>
              </a:rPr>
              <a:t>We have discovered that our own self knowledge and cultural capital informs our choice of evaluation approach and our processes of engagement with stakeholders. </a:t>
            </a:r>
            <a:endParaRPr b="0" lang="en-US" sz="23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Our experiences testify to the idea that evaluation is as much about who we are as evaluators, and where we position ourselves in relation to others in our work, as it is about what we do and how we do it (Greene, 2005).”</a:t>
            </a:r>
            <a:endParaRPr b="0" lang="en-US" sz="23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White P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11). Sailing through relationships? On discovering the compass for navigating 21st Century evaluation in the Pacific. </a:t>
            </a:r>
            <a:r>
              <a:rPr b="0" i="1" lang="en-NZ" sz="1600" spc="-1" strike="noStrike">
                <a:solidFill>
                  <a:srgbClr val="000000"/>
                </a:solidFill>
                <a:latin typeface="Lucida Sans Unicode"/>
              </a:rPr>
              <a:t>New Directions for Evaluation</a:t>
            </a:r>
            <a:r>
              <a:rPr b="0" lang="en-NZ" sz="1600" spc="-1" strike="noStrike">
                <a:solidFill>
                  <a:srgbClr val="000000"/>
                </a:solidFill>
                <a:latin typeface="Lucida Sans Unicode"/>
              </a:rPr>
              <a:t>,  Forthcoming, Vol 131 </a:t>
            </a:r>
            <a:endParaRPr b="0" lang="en-US" sz="1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0"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0680"/>
            <a:ext cx="8229600" cy="51166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Why are relationships so crucial to the conduct of high quality </a:t>
            </a:r>
            <a:r>
              <a:rPr b="0" lang="en-NZ" sz="2700" spc="-1" strike="noStrike">
                <a:solidFill>
                  <a:srgbClr val="000000"/>
                </a:solidFill>
                <a:latin typeface="Lucida Sans Unicode"/>
              </a:rPr>
              <a:t>Māori</a:t>
            </a:r>
            <a:r>
              <a:rPr b="0" lang="en-NZ" sz="2700" spc="-1" strike="noStrike">
                <a:solidFill>
                  <a:srgbClr val="000000"/>
                </a:solidFill>
                <a:latin typeface="Lucida Sans Unicode"/>
              </a:rPr>
              <a:t> evaluation?</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ion relies on the goodwill of participants for access to the site, informants, data</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for </a:t>
            </a:r>
            <a:r>
              <a:rPr b="0" lang="en-NZ" sz="2300" spc="-1" strike="noStrike">
                <a:solidFill>
                  <a:srgbClr val="000000"/>
                </a:solidFill>
                <a:latin typeface="Lucida Sans Unicode"/>
              </a:rPr>
              <a:t>Māori</a:t>
            </a:r>
            <a:r>
              <a:rPr b="0" lang="en-NZ" sz="2300" spc="-1" strike="noStrike">
                <a:solidFill>
                  <a:srgbClr val="000000"/>
                </a:solidFill>
                <a:latin typeface="Lucida Sans Unicode"/>
              </a:rPr>
              <a:t> evaluators whakawhanaungatanga, making connections, is a cultural imperativ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he ongoing sustainability of evaluation activity at a community, iwi, hapu or even wh</a:t>
            </a:r>
            <a:r>
              <a:rPr b="0" lang="en-NZ" sz="2300" spc="-1" strike="noStrike">
                <a:solidFill>
                  <a:srgbClr val="000000"/>
                </a:solidFill>
                <a:latin typeface="Lucida Sans Unicode"/>
              </a:rPr>
              <a:t>ā</a:t>
            </a:r>
            <a:r>
              <a:rPr b="0" lang="en-NZ" sz="2300" spc="-1" strike="noStrike">
                <a:solidFill>
                  <a:srgbClr val="000000"/>
                </a:solidFill>
                <a:latin typeface="Lucida Sans Unicode"/>
              </a:rPr>
              <a:t>nau level relies on our workforce</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Sans Unicode"/>
            </a:endParaRPr>
          </a:p>
          <a:p>
            <a:pPr marL="365040" indent="-2556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Lucida Sans Unicode"/>
              </a:rPr>
              <a:t>	</a:t>
            </a:r>
            <a:r>
              <a:rPr b="0" lang="en-NZ" sz="1600" spc="-1" strike="noStrike">
                <a:solidFill>
                  <a:srgbClr val="000000"/>
                </a:solidFill>
                <a:latin typeface="Lucida Sans Unicode"/>
              </a:rPr>
              <a:t>Gifford H &amp;</a:t>
            </a:r>
            <a:r>
              <a:rPr b="1" lang="en-NZ" sz="1600" spc="-1" strike="noStrike">
                <a:solidFill>
                  <a:srgbClr val="000000"/>
                </a:solidFill>
                <a:latin typeface="Lucida Sans Unicode"/>
              </a:rPr>
              <a:t> </a:t>
            </a:r>
            <a:r>
              <a:rPr b="0" lang="en-NZ" sz="1600" spc="-1" strike="noStrike">
                <a:solidFill>
                  <a:srgbClr val="000000"/>
                </a:solidFill>
                <a:latin typeface="Lucida Sans Unicode"/>
              </a:rPr>
              <a:t>Boulton A. (2007). Conducting Excellent Research with </a:t>
            </a:r>
            <a:r>
              <a:rPr b="0" lang="en-NZ" sz="1600" spc="-1" strike="noStrike">
                <a:solidFill>
                  <a:srgbClr val="000000"/>
                </a:solidFill>
                <a:latin typeface="Lucida Sans Unicode"/>
              </a:rPr>
              <a:t>	</a:t>
            </a:r>
            <a:r>
              <a:rPr b="0" lang="en-NZ" sz="1600" spc="-1" strike="noStrike">
                <a:solidFill>
                  <a:srgbClr val="000000"/>
                </a:solidFill>
                <a:latin typeface="Lucida Sans Unicode"/>
              </a:rPr>
              <a:t>Indigenous Communities: Balancing Commitment to Community and </a:t>
            </a:r>
            <a:r>
              <a:rPr b="0" lang="en-NZ" sz="1600" spc="-1" strike="noStrike">
                <a:solidFill>
                  <a:srgbClr val="000000"/>
                </a:solidFill>
                <a:latin typeface="Lucida Sans Unicode"/>
              </a:rPr>
              <a:t>	</a:t>
            </a:r>
            <a:r>
              <a:rPr b="0" lang="en-NZ" sz="1600" spc="-1" strike="noStrike">
                <a:solidFill>
                  <a:srgbClr val="000000"/>
                </a:solidFill>
                <a:latin typeface="Lucida Sans Unicode"/>
              </a:rPr>
              <a:t>Career. </a:t>
            </a:r>
            <a:r>
              <a:rPr b="0" i="1" lang="en-NZ" sz="1600" spc="-1" strike="noStrike">
                <a:solidFill>
                  <a:srgbClr val="000000"/>
                </a:solidFill>
                <a:latin typeface="Lucida Sans Unicode"/>
              </a:rPr>
              <a:t>AlterNative</a:t>
            </a:r>
            <a:r>
              <a:rPr b="0" lang="en-NZ" sz="1600" spc="-1" strike="noStrike">
                <a:solidFill>
                  <a:srgbClr val="000000"/>
                </a:solidFill>
                <a:latin typeface="Lucida Sans Unicode"/>
              </a:rPr>
              <a:t>, Volume 3, No. 2, Special Supplement 2007</a:t>
            </a:r>
            <a:endParaRPr b="0" lang="en-US" sz="16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92"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Building good relationships in evaluation is about negotiating our values as…</a:t>
            </a:r>
            <a:endParaRPr b="0" lang="en-US" sz="27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ission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valuato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articipant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Communitie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Providers</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How do we do this? </a:t>
            </a:r>
            <a:endParaRPr b="0" lang="en-US" sz="2700" spc="-1" strike="noStrike">
              <a:solidFill>
                <a:srgbClr val="000000"/>
              </a:solidFill>
              <a:latin typeface="Lucida Sans Unicode"/>
            </a:endParaRPr>
          </a:p>
          <a:p>
            <a:pPr lvl="1" marL="620640" indent="-228600">
              <a:spcBef>
                <a:spcPts val="326"/>
              </a:spcBef>
              <a:buClr>
                <a:srgbClr val="2da2bf"/>
              </a:buClr>
              <a:buSzPct val="68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Engage in a values ‘Tug o War’ or a process of negotiation?</a:t>
            </a: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4"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Aotearoa is leading the discourse on evaluation practices that ensure meaningful participation by indigenous, and other vulnerable or marginalised communiti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Underpinned by a strong, pragmatic, action research tradition (Williams, 2007)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articipatory approaches common in Māori and community settings (with philosophical and practical advantag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6" name="Title 1"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68360" y="1700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700" spc="-1" strike="noStrike">
                <a:solidFill>
                  <a:srgbClr val="000000"/>
                </a:solidFill>
                <a:latin typeface="Lucida Sans Unicode"/>
              </a:rPr>
              <a:t>Putting ‘value’ back in evaluation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Social navigation: organised action focused on directing the course of social change toward a set of valued (but negotiable) goals (Schwandt)</a:t>
            </a:r>
            <a:endParaRPr b="0" lang="en-US" sz="23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300" spc="-1" strike="noStrike">
                <a:solidFill>
                  <a:srgbClr val="000000"/>
                </a:solidFill>
                <a:latin typeface="Lucida Sans Unicode"/>
              </a:rPr>
              <a:t>Transformative and culturally responsive evaluation (Mertens)</a:t>
            </a:r>
            <a:endParaRPr b="0" lang="en-US" sz="23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Lucida Sans Unicode"/>
              </a:rPr>
              <a:t> </a:t>
            </a:r>
            <a:endParaRPr b="0" lang="en-US" sz="10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Lucida Sans Unicode"/>
              </a:rPr>
              <a:t>A challenge: Extreme Genuine Evaluation Makeovers (XGEMs) or a ‘Rubric Revolution’? (Davidson)</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8" name="Title 1" descr=""/>
          <p:cNvPicPr/>
          <p:nvPr/>
        </p:nvPicPr>
        <p:blipFill>
          <a:blip r:embed="rId1"/>
          <a:stretch/>
        </p:blipFill>
        <p:spPr>
          <a:xfrm>
            <a:off x="212760" y="249120"/>
            <a:ext cx="8534520" cy="178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4T00:15:36Z</dcterms:created>
  <dc:creator>Boulton</dc:creator>
  <dc:description/>
  <dc:language>en-US</dc:language>
  <cp:lastModifiedBy>Stacey</cp:lastModifiedBy>
  <dcterms:modified xsi:type="dcterms:W3CDTF">2011-08-17T22:53:28Z</dcterms:modified>
  <cp:revision>150</cp:revision>
  <dc:subject/>
  <dc:title>Slide 1</dc:title>
</cp:coreProperties>
</file>