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1D49-A2FA-44FC-A556-40DD325F1DF2}" type="slidenum">
              <a:rPr b="0" lang="en-N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EB0B-E875-415B-909D-CD31601B86D0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6D76-F79E-4AA8-B250-D4FE3EBE9000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91461-EBEA-489F-AD6A-0C38B3D2571F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831B-8257-476B-B4E6-4E566F414CD5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5291-5A27-4047-B4C2-480419D31C2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743C-ABCB-44C7-88F5-3E05D8E67B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D1D2-E053-46FE-B2B5-B314D64F8B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B4AE-9293-4900-8CA7-FE403E423152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625A-F10D-4DAD-9A56-1856BE9A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392C-AEEF-4872-82C1-E31A9A13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A85C-F639-46E9-A7EA-58AB3EC34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7CB-E532-4D1D-BCC7-54155A47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D97-D829-4715-9159-C3308236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FC55-AA79-4A4B-91C0-0525F7A6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11D0-38F9-4D41-A754-87FEF36B8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19FD-58AA-444E-84D4-369B0A6E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EDDD-5C96-4D73-8B69-465B46A1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0375-77A7-4EBB-AA84-17157964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743-F047-48A2-9FDB-45EA3C8C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0111-9F81-4138-BD17-EA765839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3302-C0EC-49B7-9C02-F985CE6B280F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A86C-9C8F-4853-9A17-BAADD067E81F}" type="slidenum">
              <a:rPr b="0" lang="en-NZ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a0000"/>
                </a:solidFill>
                <a:latin typeface="Magneto"/>
              </a:rPr>
              <a:t> </a:t>
            </a:r>
            <a:br>
              <a:rPr sz="4000"/>
            </a:br>
            <a:r>
              <a:rPr b="1" lang="en-US" sz="2800" spc="-1" strike="noStrike">
                <a:solidFill>
                  <a:srgbClr val="8a0000"/>
                </a:solidFill>
                <a:latin typeface="Calibri"/>
              </a:rPr>
              <a:t>Tu Toa Tu Maia:  </a:t>
            </a:r>
            <a:r>
              <a:rPr b="1" lang="en-NZ" sz="2800" spc="-1" strike="noStrike">
                <a:solidFill>
                  <a:srgbClr val="8a0000"/>
                </a:solidFill>
                <a:latin typeface="Calibri"/>
              </a:rPr>
              <a:t>Implementing an indigenous gambling harm minimisation model in </a:t>
            </a:r>
            <a:br>
              <a:rPr sz="2800"/>
            </a:br>
            <a:r>
              <a:rPr b="1" lang="en-NZ" sz="2800" spc="-1" strike="noStrike">
                <a:solidFill>
                  <a:srgbClr val="8a0000"/>
                </a:solidFill>
                <a:latin typeface="Calibri"/>
              </a:rPr>
              <a:t>community-based health services</a:t>
            </a:r>
            <a:r>
              <a:rPr b="1" lang="en-US" sz="2800" spc="-1" strike="noStrike">
                <a:solidFill>
                  <a:srgbClr val="8a0000"/>
                </a:solidFill>
                <a:latin typeface="Calibri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07628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en-NZ" sz="2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 Health Services &amp; Policy Research  Conferen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Adelaide 5-7</a:t>
            </a:r>
            <a:r>
              <a:rPr b="1" lang="en-NZ" sz="2000" spc="-1" strike="noStrike" baseline="30000">
                <a:solidFill>
                  <a:srgbClr val="ffffff"/>
                </a:solidFill>
                <a:latin typeface="Calibri"/>
              </a:rPr>
              <a:t>th</a:t>
            </a: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 December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alibri"/>
              </a:rPr>
              <a:t>Hilton Hotel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Dr. Laurie Morrison – Auckland University of Technology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Layla Lyndon-Tonga – Nga Manga Puriri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900" spc="-1" strike="noStrike">
                <a:solidFill>
                  <a:srgbClr val="ffffff"/>
                </a:solidFill>
                <a:latin typeface="Calibri"/>
              </a:rPr>
              <a:t>Dr. Amohia Boulton – Whakauae Research Centre</a:t>
            </a:r>
            <a:r>
              <a:rPr b="0" lang="en-NZ" sz="19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7" descr="http://t1.gstatic.com/images?q=tbn:ANd9GcQAWhhF4k5KDINeJY2pWAYpU8_quRDpKIxTnOHSSlPhKsUkO86vd-kGl_Gx"/>
          <p:cNvPicPr/>
          <p:nvPr/>
        </p:nvPicPr>
        <p:blipFill>
          <a:blip r:embed="rId1"/>
          <a:stretch/>
        </p:blipFill>
        <p:spPr>
          <a:xfrm>
            <a:off x="3851280" y="2133720"/>
            <a:ext cx="144468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Spurting Geysers - Te Puia, Rotorua"/>
          <p:cNvPicPr/>
          <p:nvPr/>
        </p:nvPicPr>
        <p:blipFill>
          <a:blip r:embed="rId2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Spurting Geysers - Te Puia, Rotorua"/>
          <p:cNvPicPr/>
          <p:nvPr/>
        </p:nvPicPr>
        <p:blipFill>
          <a:blip r:embed="rId3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Spurting Geysers - Te Puia, Rotorua"/>
          <p:cNvPicPr/>
          <p:nvPr/>
        </p:nvPicPr>
        <p:blipFill>
          <a:blip r:embed="rId4"/>
          <a:stretch/>
        </p:blipFill>
        <p:spPr>
          <a:xfrm>
            <a:off x="63360" y="-165240"/>
            <a:ext cx="9720" cy="97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5"/>
          <p:cNvSpPr/>
          <p:nvPr/>
        </p:nvSpPr>
        <p:spPr>
          <a:xfrm>
            <a:off x="63360" y="-406440"/>
            <a:ext cx="109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17"/>
          <p:cNvSpPr/>
          <p:nvPr/>
        </p:nvSpPr>
        <p:spPr>
          <a:xfrm>
            <a:off x="63360" y="-406440"/>
            <a:ext cx="1095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19" descr="http://t3.gstatic.com/images?q=tbn:ANd9GcTIM-H0JiBKDjT7FcsT2pDQgI_JBEeJqzUqvgi6CshYNsK5V46ZhA"/>
          <p:cNvPicPr/>
          <p:nvPr/>
        </p:nvPicPr>
        <p:blipFill>
          <a:blip r:embed="rId5"/>
          <a:srcRect l="0" t="0" r="0" b="3737"/>
          <a:stretch/>
        </p:blipFill>
        <p:spPr>
          <a:xfrm>
            <a:off x="7308720" y="1700280"/>
            <a:ext cx="1800360" cy="244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The Mount.bmp"/>
          <p:cNvPicPr/>
          <p:nvPr/>
        </p:nvPicPr>
        <p:blipFill>
          <a:blip r:embed="rId6"/>
          <a:stretch/>
        </p:blipFill>
        <p:spPr>
          <a:xfrm>
            <a:off x="1979640" y="2205000"/>
            <a:ext cx="1871640" cy="136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http://t2.gstatic.com/images?q=tbn:ANd9GcQL-eLATdLmK2yxTp27-9hA2qcP9IfqhlaRq0n8uJdqt2vDc0eYCw"/>
          <p:cNvPicPr/>
          <p:nvPr/>
        </p:nvPicPr>
        <p:blipFill>
          <a:blip r:embed="rId7"/>
          <a:srcRect l="23264" t="0" r="0" b="13259"/>
          <a:stretch/>
        </p:blipFill>
        <p:spPr>
          <a:xfrm>
            <a:off x="-1440" y="2349360"/>
            <a:ext cx="1981080" cy="151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3" descr="http://t1.gstatic.com/images?q=tbn:ANd9GcTXtfqVwPKa6vFZK9xZCyaGo-yyPwce7AogchLGVr1y9VBMZvvRRIZdO5RK"/>
          <p:cNvPicPr/>
          <p:nvPr/>
        </p:nvPicPr>
        <p:blipFill>
          <a:blip r:embed="rId8"/>
          <a:stretch/>
        </p:blipFill>
        <p:spPr>
          <a:xfrm>
            <a:off x="5292720" y="2205000"/>
            <a:ext cx="20160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Lessons Learnt – Tai Tokera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ack of Maori Problem Gambling Model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ailored the resource to suit local conte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tegrating the resource across existing servi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Age specificity ie, not acceptable with yout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Implic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24000" y="1197000"/>
            <a:ext cx="8362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tervention and resource development needs to consid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community vision and long-term goal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self-empowerment  &amp;  ownership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Community, Rangatahi, Kaumatua participation in every aspect of resource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local contex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ole of decision makers  to support intervention (e.g. government /iwi mandated advisory committee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Implicatio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ecessary to create an environment of respec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espect and inclusion of Maori knowledg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Respect for communit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Inclusiveness i.e. kaumatua, pakeke and rangatah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Legitimacy of Maori epistem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7920" indent="-28008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alibri"/>
              </a:rPr>
              <a:t>Understanding of ecological relationship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ommunities have a responsibility to transmit Maori knowledge and cultu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OWEVER..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Responsibility must be shar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ommunities must be supported to participate in the development of appropriate and relevant health service initia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8a0000"/>
                </a:solidFill>
                <a:latin typeface="Calibri"/>
              </a:rPr>
              <a:t>Acknowledg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375920"/>
            <a:ext cx="702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ealth Research Counci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aupua Waiora Maori Health Resear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ga Manga Purir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Whakaue Research Centr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Nga Pae o Te Maramatanga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1" name="Picture 4" descr="hrc"/>
          <p:cNvPicPr/>
          <p:nvPr/>
        </p:nvPicPr>
        <p:blipFill>
          <a:blip r:embed="rId1"/>
          <a:stretch/>
        </p:blipFill>
        <p:spPr>
          <a:xfrm>
            <a:off x="7947000" y="0"/>
            <a:ext cx="1197000" cy="1320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AUT b&amp;w"/>
          <p:cNvPicPr/>
          <p:nvPr/>
        </p:nvPicPr>
        <p:blipFill>
          <a:blip r:embed="rId2"/>
          <a:stretch/>
        </p:blipFill>
        <p:spPr>
          <a:xfrm>
            <a:off x="7790040" y="1557360"/>
            <a:ext cx="1353960" cy="1276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NMP.jpg"/>
          <p:cNvPicPr/>
          <p:nvPr/>
        </p:nvPicPr>
        <p:blipFill>
          <a:blip r:embed="rId3"/>
          <a:stretch/>
        </p:blipFill>
        <p:spPr>
          <a:xfrm>
            <a:off x="8115480" y="3213000"/>
            <a:ext cx="1028520" cy="1943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Nga Pae.jpg"/>
          <p:cNvPicPr/>
          <p:nvPr/>
        </p:nvPicPr>
        <p:blipFill>
          <a:blip r:embed="rId4"/>
          <a:stretch/>
        </p:blipFill>
        <p:spPr>
          <a:xfrm>
            <a:off x="0" y="5924520"/>
            <a:ext cx="3809880" cy="933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WRS Logo for Outlook Email"/>
          <p:cNvPicPr/>
          <p:nvPr/>
        </p:nvPicPr>
        <p:blipFill>
          <a:blip r:embed="rId5"/>
          <a:stretch/>
        </p:blipFill>
        <p:spPr>
          <a:xfrm>
            <a:off x="7572240" y="5616720"/>
            <a:ext cx="157176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rcRect l="0" t="0" r="3411" b="11169"/>
          <a:stretch/>
        </p:blipFill>
        <p:spPr>
          <a:xfrm>
            <a:off x="0" y="0"/>
            <a:ext cx="9144000" cy="47498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357120" y="501336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ontact Detai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r Laurie Mor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b: +64 027259566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Em: laurie.morrison@aut.ac.n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052280"/>
            <a:ext cx="82296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Gambling misuse amongst Māori is a critical public health issu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ittle investment has been made in indigenous interven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Mainstream initiatives imposed on Maori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Maori consulted post initiativ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his does not reflect partnership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004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0000"/>
                </a:solidFill>
                <a:latin typeface="Calibri"/>
              </a:rPr>
              <a:t>Background – Development of the Tool in Te Araw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Context Relevan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Providing appropriate cultural contex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raditional knowledge is validat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Learning is a holistic proces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Hinengaro (emotional effect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Wairua       (reflective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inana        (listening and doi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Titiro           (watching and monitori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Community Responsibility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Localising Resourc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Linking providers’ needs and abilities with community aspirations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Promoting specialized train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lnSpc>
                <a:spcPct val="15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alibri"/>
              </a:rPr>
              <a:t>Sharing, adapting and iwi (tribal) specific knowledg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93116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0000"/>
                </a:solidFill>
                <a:latin typeface="Calibri"/>
              </a:rPr>
              <a:t>Hei Tiki: Commitment to cultur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14880" y="1228320"/>
            <a:ext cx="447192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Tiki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symbolizes good lu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ikitiki – Pokie mach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Provides a rationale for continuing to gamb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lps to keep you connected to cultur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isuse of gambling icons has the potential to mislea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2" descr="DSC00357"/>
          <p:cNvPicPr/>
          <p:nvPr/>
        </p:nvPicPr>
        <p:blipFill>
          <a:blip r:embed="rId1"/>
          <a:srcRect l="20847" t="6939" r="19865" b="0"/>
          <a:stretch/>
        </p:blipFill>
        <p:spPr>
          <a:xfrm>
            <a:off x="436680" y="1268280"/>
            <a:ext cx="37036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DSC00357"/>
          <p:cNvPicPr/>
          <p:nvPr/>
        </p:nvPicPr>
        <p:blipFill>
          <a:blip r:embed="rId1"/>
          <a:srcRect l="13079" t="13965" r="9481" b="6989"/>
          <a:stretch/>
        </p:blipFill>
        <p:spPr>
          <a:xfrm>
            <a:off x="187164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Powhiri Tool: Safe Gambling Checklist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Activity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 Waharo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Karang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Marae ate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haikorero 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Waiat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Koha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ariru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Hakari 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Te Take o Marae</a:t>
            </a: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ffff"/>
                </a:solidFill>
                <a:latin typeface="Calibri"/>
              </a:rPr>
              <a:t>Applica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Prepara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alibri"/>
              </a:rPr>
              <a:t>Connection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Protectio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Gambling behaviou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Losing sight of realit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Attractions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Loss of man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Over compensating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600" spc="-1" strike="noStrike">
                <a:solidFill>
                  <a:srgbClr val="ffffff"/>
                </a:solidFill>
                <a:latin typeface="Calibri"/>
              </a:rPr>
              <a:t>Identifying conflic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Lessons Lear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Culturally congruent resourc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Relevant , Acceptable, Meaningfu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Appropriate education and training resou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Calibri"/>
              </a:rPr>
              <a:t>Informed indigenous and non-indigenous community based health work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8a0000"/>
                </a:solidFill>
                <a:latin typeface="Calibri"/>
              </a:rPr>
              <a:t>Application of the resourc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0" name="Content Placeholder 4" descr=""/>
          <p:cNvPicPr/>
          <p:nvPr/>
        </p:nvPicPr>
        <p:blipFill>
          <a:blip r:embed="rId1"/>
          <a:stretch/>
        </p:blipFill>
        <p:spPr>
          <a:xfrm>
            <a:off x="311040" y="1554120"/>
            <a:ext cx="8656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9T07:48:11Z</dcterms:created>
  <dc:creator>Laurie</dc:creator>
  <dc:description/>
  <dc:language>en-US</dc:language>
  <cp:lastModifiedBy>Amohia</cp:lastModifiedBy>
  <dcterms:modified xsi:type="dcterms:W3CDTF">2011-12-12T20:41:00Z</dcterms:modified>
  <cp:revision>97</cp:revision>
  <dc:subject/>
  <dc:title>Slide 1</dc:title>
</cp:coreProperties>
</file>