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0"/>
          </p:nvPr>
        </p:nvSpPr>
        <p:spPr>
          <a:xfrm>
            <a:off x="3900600" y="-3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37800" y="750960"/>
            <a:ext cx="500868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11"/>
          </p:nvPr>
        </p:nvSpPr>
        <p:spPr>
          <a:xfrm>
            <a:off x="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12"/>
          </p:nvPr>
        </p:nvSpPr>
        <p:spPr>
          <a:xfrm>
            <a:off x="3900600" y="9515160"/>
            <a:ext cx="298296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2DB9-55B8-4DC5-8657-2B6A8A76596F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4124-1ED0-43BD-A8CC-4FA57831C72A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C783-D96F-4653-8F8F-625889707F81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B148-AD8D-4082-8CB4-F603F068991E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55C9-1413-4FF7-BA18-6EC7472C99CA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B257-F588-4551-A763-35F391C74AA8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D326-B40B-4CD6-A3A9-D25976CB4D76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A5BB-D247-4544-8508-DCAE308B5035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2D21-1007-403F-A1A0-6C025774D0F5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B912-FE53-4ED1-A50D-236FB3F54D83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CD2F-3A0F-4E16-B2AD-53D454B730AF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1D98-339F-4283-A534-5E9FF5FB0418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F789-992B-4863-881F-4177B13A5AC6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08680" cy="3757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8680" y="4759200"/>
            <a:ext cx="550692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900600" y="9515520"/>
            <a:ext cx="29829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34B3-8E32-4281-8CD5-74B5508208AB}" type="slidenum">
              <a:rPr b="0" lang="en-NZ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5876-4519-4C11-AB41-BC032199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F69-B840-49FB-AF64-0454543B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991-1613-4E91-8BCE-EBE72F60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E76D-0A09-40EE-A9E0-CF53086D6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9644-8169-4299-BF23-A4D1CC350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101D-746E-4A21-AE7F-4B307ECA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F933-02EB-4098-BD3F-60B6DB36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5953-D6A6-4ABE-B9B8-C9A88F77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87F4-A847-4FF0-911F-5EC1D505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4865-55F1-49C1-A847-F0D860AF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7F81-9E65-46EF-88D9-C23EF62E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DA4-847D-4C59-8589-40BD6904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9B9F-0F3F-4CCD-B39E-1AE94576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E742-6FF1-4993-93D3-EB59A349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491D-8805-4288-8D38-D5B59081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7959-1B4C-438E-B525-DC1E66A1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4D52-9EEA-4ED3-9850-A76596B5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1CBEA-D76D-491B-BB5B-180F2A89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8F4E3-71F0-487B-9CEB-3D6D0F61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A1867-302F-462E-A547-0B7B9A26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1D1C8-7288-4CE0-B547-77473429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238AB-2DAE-4FFA-A865-DEFC0094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65F2-A4E0-46CB-A693-D07DF67B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FF0B-CE67-45D2-9C9A-4280BE1E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AAFFA-3079-468C-A849-B8B552A6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314B6-7ABE-4575-9496-92AA1AEA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0B315-4160-47EF-851E-F6CC93A2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5498F-515D-48E3-B393-761919A0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F5DFA-7827-407A-A5AB-B7C4795A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5080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33240" y="191628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6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5080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33240" y="420912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5E6A-8C61-48A8-BE94-B96D053A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27D-8B76-434B-9AFD-FBF888D1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E40C-F3D7-4A18-B5B7-6E06F280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D3F-4983-4367-AC2C-5623D27B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B00-78CE-4553-AD01-2EDBFC06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5400" y="420912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C4F9-7AA3-4B04-B465-8BE9B409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400" y="191628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360" y="4209120"/>
            <a:ext cx="8229600" cy="209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8CAF-5386-4B57-BA44-1264BDA3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4DFF-97AF-4472-9647-120BD717D86A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Picture 4" descr="WRS Logo for Outlook Email"/>
          <p:cNvPicPr/>
          <p:nvPr/>
        </p:nvPicPr>
        <p:blipFill>
          <a:blip r:embed="rId6"/>
          <a:stretch/>
        </p:blipFill>
        <p:spPr>
          <a:xfrm>
            <a:off x="0" y="5605560"/>
            <a:ext cx="1619280" cy="1252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7"/>
          <a:stretch/>
        </p:blipFill>
        <p:spPr>
          <a:xfrm>
            <a:off x="3995640" y="5821200"/>
            <a:ext cx="1476360" cy="1052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8"/>
          <a:stretch/>
        </p:blipFill>
        <p:spPr>
          <a:xfrm>
            <a:off x="7942320" y="4784760"/>
            <a:ext cx="1201680" cy="2073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FCA1-EA4A-4D31-8F05-5210519DAFAC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573120" y="1712880"/>
            <a:ext cx="7997760" cy="4468680"/>
          </a:xfrm>
          <a:prstGeom prst="rect">
            <a:avLst/>
          </a:prstGeom>
          <a:ln w="0">
            <a:noFill/>
          </a:ln>
        </p:spPr>
      </p:pic>
      <p:sp>
        <p:nvSpPr>
          <p:cNvPr id="1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109" name="Freeform 11"/>
            <p:cNvGrpSpPr/>
            <p:nvPr/>
          </p:nvGrpSpPr>
          <p:grpSpPr>
            <a:xfrm>
              <a:off x="-36360" y="189000"/>
              <a:ext cx="9156600" cy="647640"/>
              <a:chOff x="-36360" y="189000"/>
              <a:chExt cx="9156600" cy="647640"/>
            </a:xfrm>
          </p:grpSpPr>
          <p:pic>
            <p:nvPicPr>
              <p:cNvPr id="1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3392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36000" y="464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Freeform 12"/>
            <p:cNvGrpSpPr/>
            <p:nvPr/>
          </p:nvGrpSpPr>
          <p:grpSpPr>
            <a:xfrm>
              <a:off x="-36360" y="234360"/>
              <a:ext cx="9180720" cy="564480"/>
              <a:chOff x="-36360" y="234360"/>
              <a:chExt cx="9180720" cy="564480"/>
            </a:xfrm>
          </p:grpSpPr>
          <p:pic>
            <p:nvPicPr>
              <p:cNvPr id="1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4360"/>
                <a:ext cx="9165600" cy="56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Rectangle 13"/>
          <p:cNvSpPr/>
          <p:nvPr/>
        </p:nvSpPr>
        <p:spPr>
          <a:xfrm>
            <a:off x="468360" y="2274840"/>
            <a:ext cx="820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75C9-AE5B-4770-AD89-568CAD6E8E4B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NZ" sz="3600" spc="-1" strike="noStrike">
                <a:solidFill>
                  <a:srgbClr val="0033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395280" y="4589640"/>
            <a:ext cx="8258040" cy="15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Amohia Boulton, Heather Gifford, Jackie Cumming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Jennifer Tameh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Health Services and Policy Research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mic Sans MS"/>
              </a:rPr>
              <a:t>6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itle 1"/>
          <p:cNvSpPr/>
          <p:nvPr/>
        </p:nvSpPr>
        <p:spPr>
          <a:xfrm>
            <a:off x="603360" y="213372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“</a:t>
            </a:r>
            <a:r>
              <a:rPr b="1" lang="en-NZ" sz="4000" spc="-1" strike="noStrike">
                <a:solidFill>
                  <a:srgbClr val="003300"/>
                </a:solidFill>
                <a:latin typeface="Comic Sans MS"/>
              </a:rPr>
              <a:t>We can’t actually help them unless they want to be helped”: </a:t>
            </a:r>
            <a:r>
              <a:rPr b="1" lang="en-NZ" sz="2800" spc="-1" strike="noStrike">
                <a:solidFill>
                  <a:srgbClr val="003300"/>
                </a:solidFill>
                <a:latin typeface="Comic Sans MS"/>
              </a:rPr>
              <a:t>the extent to which Māori health service providers can contribute to building more resilient whā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ānau Understandings of Resi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4240" y="1676520"/>
            <a:ext cx="43624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lience and the coll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raditional examples of collective resil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odern challenges to the traditional family unit requires a new form of resil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5003640" y="1773360"/>
            <a:ext cx="3999240" cy="41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Impact on resilience</a:t>
            </a:r>
            <a:br>
              <a:rPr sz="4400"/>
            </a:b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of engagement with a MH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755640" y="191628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vider may provide the impetus for change in  behaviour or lif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alance between offering support &amp; “dictating” to the cli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ole model for whānau &amp; supports individuals &amp; whānau to become self sufficient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balance between “doing for”                                &amp; “empowering” cli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1"/>
          <a:stretch/>
        </p:blipFill>
        <p:spPr>
          <a:xfrm>
            <a:off x="5724360" y="4869000"/>
            <a:ext cx="32943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eatures of a resilience-promoting health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ānau cen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s Māori processes and strengthens Māori id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rong governance and leadership who role model the highest ethical, cultural, and professional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aff have the “right” mix                           of professional and                       personal val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5850000" y="4405320"/>
            <a:ext cx="32940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eatures of a resilience-promoting health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ange of public health and primary healthcare facilities under one roof - physically located in one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4541760" y="3357720"/>
            <a:ext cx="4475160" cy="3355920"/>
          </a:xfrm>
          <a:prstGeom prst="rect">
            <a:avLst/>
          </a:prstGeom>
          <a:ln w="0">
            <a:noFill/>
          </a:ln>
        </p:spPr>
      </p:pic>
      <p:sp>
        <p:nvSpPr>
          <p:cNvPr id="201" name="Content Placeholder 2"/>
          <p:cNvSpPr/>
          <p:nvPr/>
        </p:nvSpPr>
        <p:spPr>
          <a:xfrm>
            <a:off x="779400" y="2860560"/>
            <a:ext cx="376236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utreach services for more rural and isolated members of the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rap-around”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68000" y="1484280"/>
            <a:ext cx="8188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āori  primary health care providers can and do support whānau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PH providers must use the full range of resources at their disposal to configure services to support those want to take the journey towards whānau 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lience and whānau ora are linked: whānau ora will not be achieved without whānau being resi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IHA Board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IHA managers and staff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Whanganui whāna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alth Research Council of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gā Pae o te Māramatan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9200" indent="-25920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Families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For 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ontent Placeholder 2"/>
          <p:cNvSpPr/>
          <p:nvPr/>
        </p:nvSpPr>
        <p:spPr>
          <a:xfrm>
            <a:off x="457200" y="1709640"/>
            <a:ext cx="8258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r Amohia Bou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akauae Research for Māori  Health and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mohia@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ublications available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Establishing the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quest for Proposals 2008 from four funders: Ngā Pae o te Maramatanga, Health Research Council of NZ, ACC, the Families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earch conducted between 2009-20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ree research part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RFP 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mmissioners had two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 seek research that would focus on “whānau resilience”, i.e. the collective health and wellbeing of whānau at a level beyond individuals, families and individual househo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 address factors that both promote and contribute to whānau health by maximising whānau resili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r Amohia Boulton (Lead),                      Dr Heather Gifford,                            Lynley Cvitanovic (WRMH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ssoc. Prof Jackie Cumming,           H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1720" indent="-26172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Jennifer Tamehana,                           CEO, TOIHA PH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C:\Users\amohia\AppData\Local\Microsoft\Windows\Temporary Internet Files\Content.Outlook\NRJ87GL0\Jackie Cumming.jpg"/>
          <p:cNvPicPr/>
          <p:nvPr/>
        </p:nvPicPr>
        <p:blipFill>
          <a:blip r:embed="rId1"/>
          <a:stretch/>
        </p:blipFill>
        <p:spPr>
          <a:xfrm>
            <a:off x="7236000" y="3933720"/>
            <a:ext cx="1672920" cy="2274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C:\Users\Amohia_2\Desktop\Jen cropped.jpg"/>
          <p:cNvPicPr/>
          <p:nvPr/>
        </p:nvPicPr>
        <p:blipFill>
          <a:blip r:embed="rId2"/>
          <a:stretch/>
        </p:blipFill>
        <p:spPr>
          <a:xfrm>
            <a:off x="4791240" y="4941720"/>
            <a:ext cx="2055600" cy="1684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" descr=""/>
          <p:cNvPicPr/>
          <p:nvPr/>
        </p:nvPicPr>
        <p:blipFill>
          <a:blip r:embed="rId3"/>
          <a:stretch/>
        </p:blipFill>
        <p:spPr>
          <a:xfrm>
            <a:off x="6227640" y="260280"/>
            <a:ext cx="1541520" cy="216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C:\Users\Amohia_2\AppData\Local\Microsoft\Windows\Temporary Internet Files\Low\Content.IE5\DL2BDISJ\LC[1].JPG"/>
          <p:cNvPicPr/>
          <p:nvPr/>
        </p:nvPicPr>
        <p:blipFill>
          <a:blip r:embed="rId4"/>
          <a:stretch/>
        </p:blipFill>
        <p:spPr>
          <a:xfrm>
            <a:off x="7392960" y="1484280"/>
            <a:ext cx="148428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Our 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4000" y="1484280"/>
            <a:ext cx="7972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o find ou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if the idea of “resilience” has any place in Māori primary healthcare (MPH) approach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the ways in which whānau resilience is enhanced by MPH ser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Arial"/>
              </a:rPr>
              <a:t>link between resilience and whānau o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2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duct research 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nforms practic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contributes to Māori developmental aspir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39280" y="1676520"/>
            <a:ext cx="81471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lvl="1"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terature review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evelopment of the conceptual frame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Key informant inter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TOIHA staff, managers and governance board memb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equential Focus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A series of in-depth focus groups with TOIHA consumers (2 groups comprising 6-8 member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et regularly over four wee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92120" y="3330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at we found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14240" y="1676520"/>
            <a:ext cx="797256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ānau understandings of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engagement with a MPH provider has impacted on whānau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ange of MPH provider resources/ mechanisms contribute to enhanced whānau resi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ānau Understandings of Resi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10920" y="1989000"/>
            <a:ext cx="797220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ersonal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inner strength, “toughness’,                      flexibility, resourcefuln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having values which allow                                        an individual to overcome                                 adversit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lies on connections to people &amp; th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no agreement regarding resilience being a “learned” attribute or on why some people appear more resilient than oth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tretch/>
        </p:blipFill>
        <p:spPr>
          <a:xfrm>
            <a:off x="5375160" y="2054160"/>
            <a:ext cx="355932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375439"/>
                </a:solidFill>
                <a:latin typeface="Comic Sans MS"/>
              </a:rPr>
              <a:t>Whānau Understandings of Resil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13880" y="1844280"/>
            <a:ext cx="7745400" cy="42735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silience as a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movement away from risk, harm, or a “bad” life to one which is “better”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requires a catalys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no agreement on why,                                  when or how the journey                                    is instigated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8" name="Picture 5" descr="C:\Users\Amohia_2\Pictures\Pictures\David and Arwyn Photos\DSC00353.JPG"/>
          <p:cNvPicPr/>
          <p:nvPr/>
        </p:nvPicPr>
        <p:blipFill>
          <a:blip r:embed="rId1"/>
          <a:stretch/>
        </p:blipFill>
        <p:spPr>
          <a:xfrm>
            <a:off x="5651640" y="2862360"/>
            <a:ext cx="2801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04:57Z</dcterms:created>
  <dc:creator>Heather</dc:creator>
  <dc:description/>
  <dc:language>en-US</dc:language>
  <cp:lastModifiedBy>Amohia</cp:lastModifiedBy>
  <dcterms:modified xsi:type="dcterms:W3CDTF">2012-03-08T01:46:12Z</dcterms:modified>
  <cp:revision>169</cp:revision>
  <dc:subject/>
  <dc:title>Slide 1</dc:title>
</cp:coreProperties>
</file>