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1A69-E587-45E2-A62B-40A7E4A92D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34D0-B0A8-48BE-B8DE-0A1D703468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83A0-FCB8-4B6E-AB96-32DA5906A75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ECA4-CD0C-4621-A88B-53E057CF48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6364-AAF3-4E33-AD05-AFEF83AD5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7499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5280" y="3561480"/>
            <a:ext cx="7499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EE92-FE9E-4DCB-80C6-4E689081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365976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38280" y="1628280"/>
            <a:ext cx="365976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95280" y="3561480"/>
            <a:ext cx="365976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238280" y="3561480"/>
            <a:ext cx="365976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572F-26C1-4488-8214-61DBA98B2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2414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930760" y="1628280"/>
            <a:ext cx="2414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466600" y="1628280"/>
            <a:ext cx="2414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95280" y="3561480"/>
            <a:ext cx="2414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930760" y="3561480"/>
            <a:ext cx="2414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466600" y="3561480"/>
            <a:ext cx="2414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D6E1-28F7-4A0A-87E3-01C8219CB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749952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90B7-7B06-42AB-BA50-AB201F9F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74995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C29C-AD4B-48D8-8571-62358DA4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36597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38280" y="1628280"/>
            <a:ext cx="36597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EBDE-F9B6-4233-80D1-50F94187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5638-715F-439E-8C6C-D25132DA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8E06-5153-4A4A-A9FC-A08C77B3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365976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38280" y="1628280"/>
            <a:ext cx="36597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5280" y="3561480"/>
            <a:ext cx="365976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C896-0617-410B-8295-21B29C8E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36597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38280" y="1628280"/>
            <a:ext cx="365976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238280" y="3561480"/>
            <a:ext cx="365976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0E6C-02F5-4717-9A6E-A173F1A7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365976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38280" y="1628280"/>
            <a:ext cx="365976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561480"/>
            <a:ext cx="749952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08FB-63F6-47FE-B964-CE65402B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image" Target="../media/image3.png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tretch/>
        </p:blipFill>
        <p:spPr>
          <a:xfrm>
            <a:off x="2268360" y="2997360"/>
            <a:ext cx="2665440" cy="2852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WRS Logo for Outlook Email"/>
          <p:cNvPicPr/>
          <p:nvPr/>
        </p:nvPicPr>
        <p:blipFill>
          <a:blip r:embed="rId3"/>
          <a:stretch/>
        </p:blipFill>
        <p:spPr>
          <a:xfrm>
            <a:off x="214200" y="5500800"/>
            <a:ext cx="1571760" cy="13572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4" descr=""/>
          <p:cNvPicPr/>
          <p:nvPr/>
        </p:nvPicPr>
        <p:blipFill>
          <a:blip r:embed="rId4"/>
          <a:stretch/>
        </p:blipFill>
        <p:spPr>
          <a:xfrm>
            <a:off x="2340000" y="0"/>
            <a:ext cx="915840" cy="9810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" descr=""/>
          <p:cNvPicPr/>
          <p:nvPr/>
        </p:nvPicPr>
        <p:blipFill>
          <a:blip r:embed="rId5"/>
          <a:stretch/>
        </p:blipFill>
        <p:spPr>
          <a:xfrm>
            <a:off x="3635280" y="5589720"/>
            <a:ext cx="1908360" cy="12682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3" descr=""/>
          <p:cNvPicPr/>
          <p:nvPr/>
        </p:nvPicPr>
        <p:blipFill>
          <a:blip r:embed="rId6"/>
          <a:stretch/>
        </p:blipFill>
        <p:spPr>
          <a:xfrm>
            <a:off x="7259760" y="2276640"/>
            <a:ext cx="1884240" cy="20160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6" descr=""/>
          <p:cNvPicPr/>
          <p:nvPr/>
        </p:nvPicPr>
        <p:blipFill>
          <a:blip r:embed="rId7"/>
          <a:stretch/>
        </p:blipFill>
        <p:spPr>
          <a:xfrm>
            <a:off x="6012000" y="0"/>
            <a:ext cx="1873080" cy="170028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97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95280" y="1628280"/>
            <a:ext cx="74995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3C71-65E6-4151-96A7-92F3BA160E9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3" descr="http://www.victoria.ac.nz/hsrc/gfx/logos/HSRC-logo.png"/>
          <p:cNvPicPr/>
          <p:nvPr/>
        </p:nvPicPr>
        <p:blipFill>
          <a:blip r:embed="rId8"/>
          <a:stretch/>
        </p:blipFill>
        <p:spPr>
          <a:xfrm>
            <a:off x="7786800" y="4643280"/>
            <a:ext cx="1197000" cy="207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297a"/>
                </a:solidFill>
                <a:latin typeface="Arial"/>
              </a:rPr>
              <a:t>Consolidating our Strengths:</a:t>
            </a:r>
            <a:endParaRPr b="0" lang="en-US" sz="44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42920" y="422064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3333cc"/>
                </a:solidFill>
                <a:latin typeface="Arial"/>
              </a:rPr>
              <a:t>Amohia Boulton, Gill Pirikahu, Jennifer Tamehana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3333cc"/>
                </a:solidFill>
                <a:latin typeface="Arial"/>
              </a:rPr>
              <a:t>INIHKD Conference, Poulsbo, WA, USA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3333cc"/>
                </a:solidFill>
                <a:latin typeface="Arial"/>
              </a:rPr>
              <a:t>25 May 2010</a:t>
            </a: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Subtitle 2"/>
          <p:cNvSpPr/>
          <p:nvPr/>
        </p:nvSpPr>
        <p:spPr>
          <a:xfrm>
            <a:off x="571680" y="2428920"/>
            <a:ext cx="78580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Collaboration as a means to further contemporary Indigenous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97a"/>
                </a:solidFill>
                <a:latin typeface="Arial"/>
              </a:rPr>
              <a:t>Manākitanga – Unique Contributions</a:t>
            </a:r>
            <a:endParaRPr b="0" lang="en-US" sz="40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TOIHA</a:t>
            </a: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 wealth of experience in service design and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n understanding of their community, of the community’s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 “grounded” reality to challenge the thinking of the acade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97a"/>
                </a:solidFill>
                <a:latin typeface="Arial"/>
              </a:rPr>
              <a:t>Manākitanga – Unique Contributions</a:t>
            </a:r>
            <a:endParaRPr b="0" lang="en-US" sz="40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WRMHD</a:t>
            </a: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experience in academic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n understanding of the needs of policy and funding bodies, in both the research and health 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bility to translate Māori community knowledge into palatable findings for the academy and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97a"/>
                </a:solidFill>
                <a:latin typeface="Arial"/>
              </a:rPr>
              <a:t>Tiakitanga – Caring for Each Other</a:t>
            </a:r>
            <a:endParaRPr b="0" lang="en-US" sz="40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95280" y="105228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Respect for each other’s strengths and abilitie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Communication is vital 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Respect for participant’s knowledg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Desire for the research to contribute to service improvement </a:t>
            </a:r>
            <a:r>
              <a:rPr b="0" i="1" lang="en-NZ" sz="3200" spc="-1" strike="noStrike">
                <a:solidFill>
                  <a:srgbClr val="3333cc"/>
                </a:solidFill>
                <a:latin typeface="Arial"/>
              </a:rPr>
              <a:t>and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 new     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           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knowledge 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97a"/>
                </a:solidFill>
                <a:latin typeface="Arial"/>
              </a:rPr>
              <a:t>The Story So Far?</a:t>
            </a:r>
            <a:endParaRPr b="0" lang="en-US" sz="40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Literature review has thrown up some challenges for the projec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Conceptually demanding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First round of interviews finished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Beginning dissemination in a range of fora (academic and community-based)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Research and the partnership are  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progressing wel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97a"/>
                </a:solidFill>
                <a:latin typeface="Arial"/>
              </a:rPr>
              <a:t>Acknowledgements</a:t>
            </a:r>
            <a:endParaRPr b="0" lang="en-US" sz="40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The research participant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OIHA Board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OIHA Managers and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hanganui Whān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The research funder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Health Services Research Centr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WRMHD staff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97a"/>
                </a:solidFill>
                <a:latin typeface="Arial"/>
              </a:rPr>
              <a:t>Overview</a:t>
            </a:r>
            <a:endParaRPr b="0" lang="en-US" sz="40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41300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The research collaboration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Who we ar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Principles underpinning the collaboration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Principles in practic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Progress to dat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97a"/>
                </a:solidFill>
                <a:latin typeface="Arial"/>
              </a:rPr>
              <a:t>Research Collaboration</a:t>
            </a:r>
            <a:endParaRPr b="0" lang="en-US" sz="40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Is the concept of “resilience” relevant in Māori primary health?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Is “resilience” a relevant or useful concept for Māori whānau?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How can whānau resilience be supported and enhanced by Māori primary 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health services?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7120" y="4287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97a"/>
                </a:solidFill>
                <a:latin typeface="Arial"/>
              </a:rPr>
              <a:t>Whakauae Research for Māori Health and Development</a:t>
            </a:r>
            <a:endParaRPr b="0" lang="en-US" sz="40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355640" y="1700280"/>
            <a:ext cx="4010040" cy="28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Ng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  <a:ea typeface="Arial"/>
              </a:rPr>
              <a:t>ā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i Hauiti  - an Iwi (tribe) from Central Rangitikei, Aotearoa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3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Whakauae  - Iwi research unit of/for Ngāti Hauiti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64" name="Picture 9" descr="C:\Documents and Settings\Heather\My Documents\My Pictures\Picture Package\'05_09_10_01\DCIM\101MSDCF\DSC00659.JPG"/>
          <p:cNvPicPr/>
          <p:nvPr/>
        </p:nvPicPr>
        <p:blipFill>
          <a:blip r:embed="rId1"/>
          <a:stretch/>
        </p:blipFill>
        <p:spPr>
          <a:xfrm>
            <a:off x="324000" y="184464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65" name="Content Placeholder 2"/>
          <p:cNvSpPr/>
          <p:nvPr/>
        </p:nvSpPr>
        <p:spPr>
          <a:xfrm>
            <a:off x="1476360" y="5157720"/>
            <a:ext cx="535788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ribally owned and accountable</a:t>
            </a:r>
            <a:r>
              <a:rPr b="0" lang="en-US" sz="32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97a"/>
                </a:solidFill>
                <a:latin typeface="Arial"/>
              </a:rPr>
              <a:t>Te Oranganui Iwi Health Authority</a:t>
            </a:r>
            <a:endParaRPr b="0" lang="en-US" sz="40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214280"/>
            <a:ext cx="840096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Inter-tribal organisation governed by 3 Iwi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141 staff, 6 service entities, 1 support servic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Protected by a cultural framework, Te Pitau Whakara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itau Whakarae based on the values and principles encapsulated within the  Kaupapa Ake (Vision Statement)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97a"/>
                </a:solidFill>
                <a:latin typeface="Arial"/>
              </a:rPr>
              <a:t>How these Elements Fit</a:t>
            </a:r>
            <a:endParaRPr b="0" lang="en-US" sz="4000" spc="-1" strike="noStrike">
              <a:solidFill>
                <a:srgbClr val="00297a"/>
              </a:solidFill>
              <a:latin typeface="Arial"/>
            </a:endParaRPr>
          </a:p>
        </p:txBody>
      </p:sp>
      <p:grpSp>
        <p:nvGrpSpPr>
          <p:cNvPr id="69" name="Group 4"/>
          <p:cNvGrpSpPr/>
          <p:nvPr/>
        </p:nvGrpSpPr>
        <p:grpSpPr>
          <a:xfrm>
            <a:off x="928800" y="1000080"/>
            <a:ext cx="7013520" cy="4929120"/>
            <a:chOff x="928800" y="1000080"/>
            <a:chExt cx="7013520" cy="4929120"/>
          </a:xfrm>
        </p:grpSpPr>
        <p:sp>
          <p:nvSpPr>
            <p:cNvPr id="70" name="AutoShape 5"/>
            <p:cNvSpPr/>
            <p:nvPr/>
          </p:nvSpPr>
          <p:spPr>
            <a:xfrm>
              <a:off x="928800" y="1000080"/>
              <a:ext cx="7013520" cy="4929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6"/>
            <p:cNvSpPr/>
            <p:nvPr/>
          </p:nvSpPr>
          <p:spPr>
            <a:xfrm>
              <a:off x="1873080" y="1369800"/>
              <a:ext cx="1888200" cy="49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"/>
                </a:rPr>
                <a:t>GOVERNANC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Iwi Clinical &amp; Provid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7"/>
            <p:cNvSpPr/>
            <p:nvPr/>
          </p:nvSpPr>
          <p:spPr>
            <a:xfrm>
              <a:off x="1873080" y="1985400"/>
              <a:ext cx="1888200" cy="61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MANAGEMEN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CE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HR, QIM,  Clinical, Cultural &amp; Finan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8"/>
            <p:cNvSpPr/>
            <p:nvPr/>
          </p:nvSpPr>
          <p:spPr>
            <a:xfrm>
              <a:off x="4300560" y="1616400"/>
              <a:ext cx="1753200" cy="61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ADVISORY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Committe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Group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9"/>
            <p:cNvSpPr/>
            <p:nvPr/>
          </p:nvSpPr>
          <p:spPr>
            <a:xfrm>
              <a:off x="1873080" y="2724840"/>
              <a:ext cx="1888200" cy="739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OPERATIONS / SERVICE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Service Leaders / Manag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Front line Primary Health Service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10"/>
            <p:cNvSpPr/>
            <p:nvPr/>
          </p:nvSpPr>
          <p:spPr>
            <a:xfrm>
              <a:off x="2817000" y="4204080"/>
              <a:ext cx="2967120" cy="61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Arial Narrow"/>
                </a:rPr>
                <a:t>MODELL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Service models, Maori health models, Strateg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1"/>
            <p:cNvSpPr/>
            <p:nvPr/>
          </p:nvSpPr>
          <p:spPr>
            <a:xfrm>
              <a:off x="1738080" y="1000080"/>
              <a:ext cx="5664600" cy="246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 Narrow"/>
                </a:rPr>
                <a:t>WHANAU ORA – 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Organisational Driven Service Delivery Model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12"/>
            <p:cNvSpPr/>
            <p:nvPr/>
          </p:nvSpPr>
          <p:spPr>
            <a:xfrm>
              <a:off x="1738080" y="5436360"/>
              <a:ext cx="5664600" cy="3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 Narrow"/>
                </a:rPr>
                <a:t>TE PITAU WHAKARAE – Organisational Cultural Quality Framework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13"/>
            <p:cNvSpPr/>
            <p:nvPr/>
          </p:nvSpPr>
          <p:spPr>
            <a:xfrm>
              <a:off x="4300560" y="2478960"/>
              <a:ext cx="1753200" cy="73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INFORMATION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Develop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Analy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4"/>
            <p:cNvSpPr/>
            <p:nvPr/>
          </p:nvSpPr>
          <p:spPr>
            <a:xfrm>
              <a:off x="2817000" y="3587400"/>
              <a:ext cx="2967120" cy="49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900" spc="-1" strike="noStrike">
                  <a:solidFill>
                    <a:srgbClr val="000000"/>
                  </a:solidFill>
                  <a:latin typeface="Arial Narrow"/>
                </a:rPr>
                <a:t>SUPPOR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Full administration, finance, service assistanc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5"/>
            <p:cNvSpPr/>
            <p:nvPr/>
          </p:nvSpPr>
          <p:spPr>
            <a:xfrm>
              <a:off x="6863400" y="1739520"/>
              <a:ext cx="404280" cy="344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Arial Narrow"/>
                </a:rPr>
                <a:t>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6"/>
            <p:cNvSpPr/>
            <p:nvPr/>
          </p:nvSpPr>
          <p:spPr>
            <a:xfrm>
              <a:off x="6998040" y="1246680"/>
              <a:ext cx="0" cy="492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7"/>
            <p:cNvSpPr/>
            <p:nvPr/>
          </p:nvSpPr>
          <p:spPr>
            <a:xfrm>
              <a:off x="6998040" y="5189400"/>
              <a:ext cx="0" cy="24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8"/>
            <p:cNvSpPr/>
            <p:nvPr/>
          </p:nvSpPr>
          <p:spPr>
            <a:xfrm>
              <a:off x="2817000" y="1862280"/>
              <a:ext cx="0" cy="12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9"/>
            <p:cNvSpPr/>
            <p:nvPr/>
          </p:nvSpPr>
          <p:spPr>
            <a:xfrm>
              <a:off x="2817000" y="2602080"/>
              <a:ext cx="0" cy="12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0"/>
            <p:cNvSpPr/>
            <p:nvPr/>
          </p:nvSpPr>
          <p:spPr>
            <a:xfrm>
              <a:off x="2817000" y="3464280"/>
              <a:ext cx="0" cy="12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1"/>
            <p:cNvSpPr/>
            <p:nvPr/>
          </p:nvSpPr>
          <p:spPr>
            <a:xfrm>
              <a:off x="2817000" y="4081320"/>
              <a:ext cx="0" cy="12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2"/>
            <p:cNvSpPr/>
            <p:nvPr/>
          </p:nvSpPr>
          <p:spPr>
            <a:xfrm>
              <a:off x="2815920" y="4820040"/>
              <a:ext cx="1800" cy="126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23"/>
            <p:cNvSpPr/>
            <p:nvPr/>
          </p:nvSpPr>
          <p:spPr>
            <a:xfrm flipH="1" flipV="1">
              <a:off x="5784120" y="3834360"/>
              <a:ext cx="269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24"/>
            <p:cNvSpPr/>
            <p:nvPr/>
          </p:nvSpPr>
          <p:spPr>
            <a:xfrm flipH="1">
              <a:off x="5784120" y="4449960"/>
              <a:ext cx="10789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5"/>
            <p:cNvSpPr/>
            <p:nvPr/>
          </p:nvSpPr>
          <p:spPr>
            <a:xfrm flipH="1">
              <a:off x="5784120" y="5189400"/>
              <a:ext cx="269640" cy="7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6"/>
            <p:cNvSpPr/>
            <p:nvPr/>
          </p:nvSpPr>
          <p:spPr>
            <a:xfrm flipH="1">
              <a:off x="1467720" y="112284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27"/>
            <p:cNvSpPr/>
            <p:nvPr/>
          </p:nvSpPr>
          <p:spPr>
            <a:xfrm>
              <a:off x="1468080" y="1122840"/>
              <a:ext cx="0" cy="443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28"/>
            <p:cNvSpPr/>
            <p:nvPr/>
          </p:nvSpPr>
          <p:spPr>
            <a:xfrm>
              <a:off x="1468080" y="555948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29"/>
            <p:cNvSpPr/>
            <p:nvPr/>
          </p:nvSpPr>
          <p:spPr>
            <a:xfrm>
              <a:off x="7402680" y="112284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30"/>
            <p:cNvSpPr/>
            <p:nvPr/>
          </p:nvSpPr>
          <p:spPr>
            <a:xfrm>
              <a:off x="7672680" y="1122840"/>
              <a:ext cx="0" cy="443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31"/>
            <p:cNvSpPr/>
            <p:nvPr/>
          </p:nvSpPr>
          <p:spPr>
            <a:xfrm flipH="1">
              <a:off x="7402320" y="555948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32"/>
            <p:cNvSpPr/>
            <p:nvPr/>
          </p:nvSpPr>
          <p:spPr>
            <a:xfrm flipH="1">
              <a:off x="4165560" y="1862280"/>
              <a:ext cx="13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33"/>
            <p:cNvSpPr/>
            <p:nvPr/>
          </p:nvSpPr>
          <p:spPr>
            <a:xfrm>
              <a:off x="4165560" y="1862280"/>
              <a:ext cx="0" cy="11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34"/>
            <p:cNvSpPr/>
            <p:nvPr/>
          </p:nvSpPr>
          <p:spPr>
            <a:xfrm>
              <a:off x="4165560" y="2971800"/>
              <a:ext cx="13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35"/>
            <p:cNvSpPr/>
            <p:nvPr/>
          </p:nvSpPr>
          <p:spPr>
            <a:xfrm flipH="1">
              <a:off x="3760920" y="2355120"/>
              <a:ext cx="40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36"/>
            <p:cNvSpPr/>
            <p:nvPr/>
          </p:nvSpPr>
          <p:spPr>
            <a:xfrm flipH="1" flipV="1">
              <a:off x="3760920" y="1616400"/>
              <a:ext cx="404280" cy="73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7"/>
            <p:cNvSpPr/>
            <p:nvPr/>
          </p:nvSpPr>
          <p:spPr>
            <a:xfrm flipH="1">
              <a:off x="3760920" y="2355120"/>
              <a:ext cx="404280" cy="61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38"/>
            <p:cNvSpPr/>
            <p:nvPr/>
          </p:nvSpPr>
          <p:spPr>
            <a:xfrm>
              <a:off x="6054120" y="1862280"/>
              <a:ext cx="13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39"/>
            <p:cNvSpPr/>
            <p:nvPr/>
          </p:nvSpPr>
          <p:spPr>
            <a:xfrm>
              <a:off x="6188760" y="1862280"/>
              <a:ext cx="0" cy="110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40"/>
            <p:cNvSpPr/>
            <p:nvPr/>
          </p:nvSpPr>
          <p:spPr>
            <a:xfrm flipH="1">
              <a:off x="6054120" y="2971800"/>
              <a:ext cx="13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41"/>
            <p:cNvSpPr/>
            <p:nvPr/>
          </p:nvSpPr>
          <p:spPr>
            <a:xfrm>
              <a:off x="6188760" y="2355120"/>
              <a:ext cx="67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42"/>
            <p:cNvSpPr/>
            <p:nvPr/>
          </p:nvSpPr>
          <p:spPr>
            <a:xfrm>
              <a:off x="6054120" y="3834360"/>
              <a:ext cx="0" cy="1355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43"/>
            <p:cNvSpPr/>
            <p:nvPr/>
          </p:nvSpPr>
          <p:spPr>
            <a:xfrm>
              <a:off x="2817000" y="5313600"/>
              <a:ext cx="720" cy="122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97a"/>
                </a:solidFill>
                <a:latin typeface="Arial"/>
              </a:rPr>
              <a:t>The Research Collaboration</a:t>
            </a:r>
            <a:endParaRPr b="0" lang="en-US" sz="40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79280" y="1268280"/>
            <a:ext cx="822960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TOIHA and WRMHD share a </a:t>
            </a:r>
            <a:r>
              <a:rPr b="0" i="1" lang="en-NZ" sz="3200" spc="-1" strike="noStrike">
                <a:solidFill>
                  <a:srgbClr val="3333cc"/>
                </a:solidFill>
                <a:latin typeface="Arial"/>
              </a:rPr>
              <a:t>whakapapa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 (genealogical) connection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TOIHA and WRMHD share a </a:t>
            </a:r>
            <a:r>
              <a:rPr b="0" i="1" lang="en-NZ" sz="3200" spc="-1" strike="noStrike">
                <a:solidFill>
                  <a:srgbClr val="3333cc"/>
                </a:solidFill>
                <a:latin typeface="Arial"/>
              </a:rPr>
              <a:t>kaupapa 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(project) relationship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Our shared kaupapa - to understand the health and social services and practices 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required that best support whānau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97a"/>
                </a:solidFill>
                <a:latin typeface="Arial"/>
              </a:rPr>
              <a:t>Principles Underpinning the Work</a:t>
            </a:r>
            <a:endParaRPr b="0" lang="en-US" sz="40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28760" y="1143000"/>
            <a:ext cx="82296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Kotahitanga – a unity of worldview, purpose and direction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Manākitanga – recognising and respecting each other’s unique contribution 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Tiakitanga – acting in a manner which respects the people who participate and for whom the research is being 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conducted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297a"/>
                </a:solidFill>
                <a:latin typeface="Arial"/>
              </a:rPr>
              <a:t>Kotahitanga – Unity of Purpose</a:t>
            </a:r>
            <a:endParaRPr b="0" lang="en-US" sz="4000" spc="-1" strike="noStrike">
              <a:solidFill>
                <a:srgbClr val="00297a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The research topic is an important one for both organisations 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Research design and methodology meet the need for academic rigour </a:t>
            </a:r>
            <a:r>
              <a:rPr b="0" i="1" lang="en-NZ" sz="3200" spc="-1" strike="noStrike">
                <a:solidFill>
                  <a:srgbClr val="3333cc"/>
                </a:solidFill>
                <a:latin typeface="Arial"/>
              </a:rPr>
              <a:t>and </a:t>
            </a: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community rigour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3333cc"/>
                </a:solidFill>
                <a:latin typeface="Arial"/>
              </a:rPr>
              <a:t>Joint data collection, analysis,      publication, and dissemination</a:t>
            </a:r>
            <a:r>
              <a:rPr b="0" lang="en-NZ" sz="3200" spc="-1" strike="noStrike">
                <a:solidFill>
                  <a:srgbClr val="222268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02:44:02Z</dcterms:created>
  <dc:creator>tteki</dc:creator>
  <dc:description/>
  <dc:language>en-US</dc:language>
  <cp:lastModifiedBy>Reviewer 1</cp:lastModifiedBy>
  <dcterms:modified xsi:type="dcterms:W3CDTF">2010-06-04T01:47:21Z</dcterms:modified>
  <cp:revision>24</cp:revision>
  <dc:subject/>
  <dc:title>Slide 1</dc:title>
</cp:coreProperties>
</file>