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AB0E-D259-4314-AD59-64EE630837FF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168D-9A6A-4607-B95B-25D9050E695B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A890-D76E-4E27-8EA5-1870B8D62423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1CA2-764E-427D-9F33-AF8257698C89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EA42-A9C9-4B62-8B6F-B0C94A4E30C3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C15F-1D5B-486C-A147-DFC761AB0FD4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1D5B-AAD5-40B5-AD4B-9BA1AF0B68BB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3B76-9DAA-4119-8B3B-BCABA7E81258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505D-5F97-403F-B899-C63D3CE40A7C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8D97-86A5-413B-9BF7-4A355B23FD80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4EB7-4C61-4B47-9008-78E128026D00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37AD-01E4-4AB0-BCA9-8F21DCB96866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708A-565C-4481-A7C1-BE95D5CA2783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E8F6-7C2A-4CBB-A39B-87AD428127CF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531F-6DE4-4B0C-A025-D8F789E7D632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0EFF-FFF9-4103-A573-86DE0EC36D91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E23D-B758-402C-8998-F486F50CED77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C1B5-DC16-4CC9-A4E4-80F3A51C57B6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31DA-1BB3-4276-9CD3-B0E668374D96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1851-BE1B-4EE3-8149-97608455287F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42B4-D2F2-4210-A939-BD91E2EFF239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2A0B-90F7-4B68-875D-BEDDBF203292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D327-3E52-44B3-A931-A39994FF7D0F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F9C3-267F-48FC-ADF9-D964887E9FA1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80D2-2B5E-4EE9-B5FA-684F9826680A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C4FA-F893-4192-AD34-D1B833DA1822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58406-02B7-4115-B723-4FE84F40D07F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1719-820D-4A34-AA9C-0BF1A0250AA2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ACDC-3391-48BE-B392-93541C2A3008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9099-B664-478C-85C3-45616438DFEF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BA24-DBBE-475A-92DC-44162FD1B0A1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786E-A3A1-4FC8-9B2A-0BB8D80826E9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E680-ABC5-4F92-A7B8-48504816488B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3E6D-DD5B-4CB9-86C7-0A27D9728382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2D09-63AD-4FBA-A5BF-AFA273D8450F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39CC-56C0-4428-BC88-1C98C6F60FE7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FFE6-0E08-421A-BC8D-BAF1D724CC06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6914-034F-42A3-ADCF-7FECB195145A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3389-4E58-4A76-AA60-8E2E512EFD9A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3F804-4C56-4041-AAA8-AD138027EBDB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5749-AA33-4069-9308-F49072060FB4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2837-2D0D-4871-A3F2-19C43764B15B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2475-65FC-4662-BCF7-64C5D847629D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0893-CD3C-4BDE-8117-C8AE68D3760B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77F5-4E7D-48F9-B6DC-9C9901408927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FB7E-A436-4588-A0BC-580416275652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AC58-6061-4FD0-B367-DB34C007BFA7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0991-225F-423A-B9CC-1B73F3A35119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9707-34F7-48F4-905F-10E4E2F2CAF1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0A7F-230D-4805-A6E7-6BD258326EAC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E8EE0-E9B5-4C70-ADEE-15C5A9E5FBCB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NZ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288A-A579-4C85-BC11-B1E267288C2D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22F2-7F1F-423E-9EC3-A59AB632CB75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828F-8615-41FF-AF62-2AA3039B31E7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80F69-791E-468F-978C-445A524AB058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891A-7D56-470B-9403-A6E70B0EE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760" y="407880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7A9B-2EF4-45BB-9189-FBB307E9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5800" y="17856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28760" y="40788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5800" y="40788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5D54-A693-49A7-A2E8-35F38011E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11200" y="178560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93640" y="178560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28760" y="407880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11200" y="407880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93640" y="407880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48E5-EE7F-4107-8F77-66C239CF2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3688-12EE-45DB-9264-A90133CDE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2876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6D44-394E-4874-B793-0F3047E6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E9D2-A7EB-473E-9132-02BCA1693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5800" y="178560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B7A6-E77C-46EB-AA2E-7E21A683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7427-319C-4AFC-B31E-DCCD3F11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FAE7-04FF-4F0E-9F18-374F3538F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5800" y="178560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28760" y="40788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13A6-1EC2-4D33-A0A7-C4DAAB90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2876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7716-2509-4181-8F4B-51E06C2C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5800" y="17856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45800" y="40788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7AB5-C7ED-4C12-B65B-15CE71A7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5800" y="17856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28760" y="407880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D734-01F2-49D7-A5EA-AFF86090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8760" y="407880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2E6AF-356D-40EC-BA54-7D9E27C3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5800" y="17856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8760" y="40788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45800" y="40788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5373-CA8F-49E1-8E55-36485CF58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11200" y="178560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993640" y="178560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760" y="407880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11200" y="407880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993640" y="407880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6448-478D-4166-9448-6E0A9629A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9FDE-9A2E-424A-9FE9-439D08E8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5800" y="178560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3127-E8AA-4B02-A75B-AECE2A09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8A3D-B5DC-4124-BF58-07649835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CA8F-DEDA-4857-AC4C-9DD90EB4A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5800" y="178560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760" y="40788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B177-65F3-4F69-BF0D-BE478B62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5800" y="17856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5800" y="40788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40EC-E85C-44A1-9C7D-D8CE9BB0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28760" y="17856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5800" y="178560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28760" y="407880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C353-EA1A-428E-B899-46C0C7CD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WRS Logo for HRC Panui.png"/>
          <p:cNvPicPr/>
          <p:nvPr/>
        </p:nvPicPr>
        <p:blipFill>
          <a:blip r:embed="rId3"/>
          <a:stretch/>
        </p:blipFill>
        <p:spPr>
          <a:xfrm>
            <a:off x="615960" y="1768320"/>
            <a:ext cx="8010360" cy="4480200"/>
          </a:xfrm>
          <a:prstGeom prst="rect">
            <a:avLst/>
          </a:prstGeom>
          <a:ln w="0">
            <a:noFill/>
          </a:ln>
        </p:spPr>
      </p:pic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2876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79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79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79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FBA0-24A2-4E3F-A90F-431303A8C403}" type="slidenum">
              <a:rPr b="0" lang="en-NZ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36360" y="189000"/>
            <a:ext cx="9180720" cy="647640"/>
            <a:chOff x="-36360" y="189000"/>
            <a:chExt cx="9180720" cy="64764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36360" y="189000"/>
              <a:ext cx="9162720" cy="647640"/>
              <a:chOff x="-36360" y="189000"/>
              <a:chExt cx="9162720" cy="64764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-13680" y="189000"/>
                <a:ext cx="914004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36000" y="4654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36360" y="233640"/>
              <a:ext cx="9180720" cy="561600"/>
              <a:chOff x="-36360" y="233640"/>
              <a:chExt cx="918072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21240" y="233640"/>
                <a:ext cx="91656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36000" y="5104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WRS Logo for HRC Panui.png"/>
          <p:cNvPicPr/>
          <p:nvPr/>
        </p:nvPicPr>
        <p:blipFill>
          <a:blip r:embed="rId3"/>
          <a:stretch/>
        </p:blipFill>
        <p:spPr>
          <a:xfrm>
            <a:off x="615960" y="1768320"/>
            <a:ext cx="8010360" cy="4480200"/>
          </a:xfrm>
          <a:prstGeom prst="rect">
            <a:avLst/>
          </a:prstGeom>
          <a:ln w="0">
            <a:noFill/>
          </a:ln>
        </p:spPr>
      </p:pic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e977e">
                  <a:alpha val="45098"/>
                </a:srgbClr>
              </a:gs>
              <a:gs pos="100000">
                <a:srgbClr val="8cc0ce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599a3">
                  <a:alpha val="45098"/>
                </a:srgbClr>
              </a:gs>
              <a:gs pos="100000">
                <a:srgbClr val="96b896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36360" y="189000"/>
            <a:ext cx="9180720" cy="647640"/>
            <a:chOff x="-36360" y="189000"/>
            <a:chExt cx="9180720" cy="64764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36360" y="189000"/>
              <a:ext cx="9162720" cy="647640"/>
              <a:chOff x="-36360" y="189000"/>
              <a:chExt cx="9162720" cy="64764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-13680" y="189000"/>
                <a:ext cx="9140040" cy="64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36000" y="4654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36360" y="233640"/>
              <a:ext cx="9180720" cy="561600"/>
              <a:chOff x="-36360" y="233640"/>
              <a:chExt cx="918072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21240" y="233640"/>
                <a:ext cx="91656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36000" y="5104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1" name="Picture 5" descr=""/>
          <p:cNvPicPr/>
          <p:nvPr/>
        </p:nvPicPr>
        <p:blipFill>
          <a:blip r:embed="rId6"/>
          <a:stretch/>
        </p:blipFill>
        <p:spPr>
          <a:xfrm>
            <a:off x="0" y="5773680"/>
            <a:ext cx="2643120" cy="1084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WRS Logo for Outlook Email"/>
          <p:cNvPicPr/>
          <p:nvPr/>
        </p:nvPicPr>
        <p:blipFill>
          <a:blip r:embed="rId7"/>
          <a:stretch/>
        </p:blipFill>
        <p:spPr>
          <a:xfrm>
            <a:off x="7572240" y="5643720"/>
            <a:ext cx="1571760" cy="1214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5" descr="WRS Logo for HRC Panui.png"/>
          <p:cNvPicPr/>
          <p:nvPr/>
        </p:nvPicPr>
        <p:blipFill>
          <a:blip r:embed="rId8"/>
          <a:stretch/>
        </p:blipFill>
        <p:spPr>
          <a:xfrm>
            <a:off x="208080" y="1420920"/>
            <a:ext cx="8753400" cy="48877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2876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799"/>
              </a:spcBef>
              <a:buClr>
                <a:srgbClr val="b0ccb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799"/>
              </a:spcBef>
              <a:buClr>
                <a:srgbClr val="a8cdd7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799"/>
              </a:spcBef>
              <a:buClr>
                <a:srgbClr val="c0bea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265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6265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1FAA-10F8-441B-A631-DB7D400F25A9}" type="slidenum">
              <a:rPr b="0" lang="en-NZ" sz="1200" spc="-1" strike="noStrike">
                <a:solidFill>
                  <a:srgbClr val="6265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HRC Māori Health Research Writing Worksh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14" name="Content Placeholder 2"/>
          <p:cNvSpPr/>
          <p:nvPr/>
        </p:nvSpPr>
        <p:spPr>
          <a:xfrm>
            <a:off x="428760" y="3929040"/>
            <a:ext cx="82580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Comic Sans MS"/>
              </a:rPr>
              <a:t>June-July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Dr Heather Giff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Comic Sans MS"/>
              </a:rPr>
              <a:t>Dr Amohia Boult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HRC Investment Str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53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ntent Placeholder 2"/>
          <p:cNvSpPr/>
          <p:nvPr/>
        </p:nvSpPr>
        <p:spPr>
          <a:xfrm>
            <a:off x="571680" y="142884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C Investment Signals (IS) for the four Research Investment Steams (RIS) are currently being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part of this process the scope of each signal will be determ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gets will be allo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of $66M to be invested through the annual contestable 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Annual Funding Round 10/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58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ontent Placeholder 2"/>
          <p:cNvSpPr/>
          <p:nvPr/>
        </p:nvSpPr>
        <p:spPr>
          <a:xfrm>
            <a:off x="609480" y="1557360"/>
            <a:ext cx="8258400" cy="49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al new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and Programme defin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stage applic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contract types with fixed maximum bu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of 4 Research Investment Streams (R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f Investment Signals (IS) to initiate the call for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HRC Investment Str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63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ontent Placeholder 2"/>
          <p:cNvSpPr/>
          <p:nvPr/>
        </p:nvSpPr>
        <p:spPr>
          <a:xfrm>
            <a:off x="571680" y="142884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Zealand Health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 and Wellbe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ing Outcomes for Acute and Chronic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ahau Hauora Ma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NZ Health Deliv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68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395280" y="1484280"/>
            <a:ext cx="825804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health service delivery over the short-medium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ments in productivity, performance, organisation and sustainability of the health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-effectiveness, equity, quality and efficacy of care and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, regional or national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on research is not ex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Health and Wellbe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72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ontent Placeholder 2"/>
          <p:cNvSpPr/>
          <p:nvPr/>
        </p:nvSpPr>
        <p:spPr>
          <a:xfrm>
            <a:off x="395280" y="1484280"/>
            <a:ext cx="825804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 link between knowledge generated and improving the health and wellbeing of individuals and popul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ing, maintaining and enhancing health and wellbe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vention of disease and in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ing and reducing inequ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novation / economic benef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Improving Outcomes for Acute and Chronic Condi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76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ontent Placeholder 2"/>
          <p:cNvSpPr/>
          <p:nvPr/>
        </p:nvSpPr>
        <p:spPr>
          <a:xfrm>
            <a:off x="395280" y="1484280"/>
            <a:ext cx="825804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a disease state, condition or impair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ble or non-communicable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spectrum of health improvement from diagnosis, development of treatments through to patient self management, rehabilitation and palliative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standing the pathology of a disease, through to the management of the disease or dis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Rangahau Hauora Māo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80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Content Placeholder 2"/>
          <p:cNvSpPr/>
          <p:nvPr/>
        </p:nvSpPr>
        <p:spPr>
          <a:xfrm>
            <a:off x="395280" y="1484280"/>
            <a:ext cx="825804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n evidence base which contributes to Māori health gains derived from high-quality Māori health research that upholds Rangatiratan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health research that values Māori worldviews and builds Māori research capacity and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es and advances Māori knowledge, resources and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Types of Funding Availab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84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ontent Placeholder 2"/>
          <p:cNvSpPr/>
          <p:nvPr/>
        </p:nvSpPr>
        <p:spPr>
          <a:xfrm>
            <a:off x="571680" y="142884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Contracts (Annual Funding Rou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eer Development Awards/Scholar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ding Grants and Grants-in-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nership initi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āori Knowledge and Development Community Health Research Grants (Ngā Kanohi Kit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nership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CIHRP (international initia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Funding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89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Content Placeholder 2"/>
          <p:cNvSpPr/>
          <p:nvPr/>
        </p:nvSpPr>
        <p:spPr>
          <a:xfrm>
            <a:off x="428760" y="1214280"/>
            <a:ext cx="825804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r contract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rging Researcher First Gr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sibility Study Gr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eer Development Aw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ahau Hauora Awards, Summer Studentships, Masters and PhD Scholarships, Postdoctoral Fellow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Funding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93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ontent Placeholder 2"/>
          <p:cNvSpPr/>
          <p:nvPr/>
        </p:nvSpPr>
        <p:spPr>
          <a:xfrm>
            <a:off x="457200" y="1571760"/>
            <a:ext cx="8258040" cy="43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 alone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for the long-term development of a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17928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ly require three or more established researchers, with a history of receiving contr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17928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tial for outcomes, vision, collaboration/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 to $5 M over five yea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Program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17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am: Welcome and introd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15: Session 1 - Funding inform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N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N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am Morning T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20: Session 2 - Grant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N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30 pm 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30pm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sion 3 - Working on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Funding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97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6352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for an individual or a group if resear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6352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duration is three years (five years maximu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6352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6352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contracts will have a budget cap of    $400,000 per annum, to a maximum contract price of $1.2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6352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Funding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01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rging Researcher First 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26352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upport emerging researchers with a sa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26352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not have previously held a competitive contract for research expenses of &gt; $50,0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26352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get maximum of $150,000 over three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26352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sibility Study 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26352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to test feasibili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26352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 to $150,000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Career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05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Content Placeholder 2"/>
          <p:cNvSpPr/>
          <p:nvPr/>
        </p:nvSpPr>
        <p:spPr>
          <a:xfrm>
            <a:off x="457200" y="1285920"/>
            <a:ext cx="825804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ahau Hauora Aw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 support for research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academic background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/involvement in Māori community activities and/or be working or training in a health-related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aximum of $12,000 awar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used to pay for travel, koha, accommodation, living expenses and course f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ure for a period of up to 6 mon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746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Career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09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ontent Placeholder 2"/>
          <p:cNvSpPr/>
          <p:nvPr/>
        </p:nvSpPr>
        <p:spPr>
          <a:xfrm>
            <a:off x="457200" y="1285920"/>
            <a:ext cx="825804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er Student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onal support for research training/work undertaken during the summer br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term of 10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 report at the conclusion of the student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by letter with the support of the research supervi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aximum of $4,000 awar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Career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13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Content Placeholder 2"/>
          <p:cNvSpPr/>
          <p:nvPr/>
        </p:nvSpPr>
        <p:spPr>
          <a:xfrm>
            <a:off x="457200" y="1285920"/>
            <a:ext cx="825804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er’s Scholar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one year of personal support for students completing the research component of a Master’s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: $1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kanga allowance of $1,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ition fees may be claimed from the H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ost institution will be responsible for the administration of the schola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Career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17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Content Placeholder 2"/>
          <p:cNvSpPr/>
          <p:nvPr/>
        </p:nvSpPr>
        <p:spPr>
          <a:xfrm>
            <a:off x="457200" y="1285920"/>
            <a:ext cx="825804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D Scholar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6036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three years of personal support for students undertaking a P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6036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: $25,000 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6036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one-off grant of $10,000 may be awarded to assist with working ex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6036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kanga allowance of $5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6036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ition fees may be claimed from the H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6036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ost institution will be responsible for the administration of the schola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6036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6036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1080" indent="-36036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Career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21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ontent Placeholder 2"/>
          <p:cNvSpPr/>
          <p:nvPr/>
        </p:nvSpPr>
        <p:spPr>
          <a:xfrm>
            <a:off x="428760" y="1143000"/>
            <a:ext cx="825804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doctoral Fellow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outstanding graduates who have recently completed a PhD to conduct further research and gain experience in their chosen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: based on recipient’s qualifications and University salary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one-off grant of $125,000 for working ex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kanga allowance of $5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ost institution will be responsible for the administration of the schola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Other Fund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25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Content Placeholder 2"/>
          <p:cNvSpPr/>
          <p:nvPr/>
        </p:nvSpPr>
        <p:spPr>
          <a:xfrm>
            <a:off x="428760" y="1143000"/>
            <a:ext cx="8258040" cy="50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ding g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the planning and scoping of a potential research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used for piloting an idea, or consultation with a community, prior to a grant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 to $5,000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t-in-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 dissemination for research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 to $5,000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00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Other 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29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Content Placeholder 2"/>
          <p:cNvSpPr/>
          <p:nvPr/>
        </p:nvSpPr>
        <p:spPr>
          <a:xfrm>
            <a:off x="395280" y="1125360"/>
            <a:ext cx="82580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gā Kanohi Kit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1.5M total, $250k pe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 whānau, hapū and iwi ability to develop and lead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for Proposals likely to be released in November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nership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portunities to undertake research in a range of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34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Content Placeholder 2"/>
          <p:cNvSpPr/>
          <p:nvPr/>
        </p:nvSpPr>
        <p:spPr>
          <a:xfrm>
            <a:off x="571680" y="114300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ment comprises a number of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rnal review for research excellence is the stage most people are familiar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 Assessing Committee (usually only 1 for Māori Health) brought together to determine refe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orough peer review of application by up to 5 reviewers resulting in review summ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buttal by resear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72880" indent="-272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H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20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ontent Placeholder 2"/>
          <p:cNvSpPr/>
          <p:nvPr/>
        </p:nvSpPr>
        <p:spPr>
          <a:xfrm>
            <a:off x="428760" y="1357200"/>
            <a:ext cx="825804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wn entity responsible for investment in health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wned by Minister of Health, funded by Minister of RS&amp;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biomedical, clinical, health services &amp; public health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sion: to improve human health through promoting and funding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Content Placeholder 2"/>
          <p:cNvSpPr/>
          <p:nvPr/>
        </p:nvSpPr>
        <p:spPr>
          <a:xfrm>
            <a:off x="642960" y="1500120"/>
            <a:ext cx="825804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ce Assessing Committee considers each application on the basis of 4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 signifi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mer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and 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k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determined “fundabl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ails of the process still being confi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Prior to 10/11 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45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Content Placeholder 2"/>
          <p:cNvSpPr/>
          <p:nvPr/>
        </p:nvSpPr>
        <p:spPr>
          <a:xfrm>
            <a:off x="642960" y="1357200"/>
            <a:ext cx="825804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 of “internal” prioritisation revie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 of prioritisation was to ensure the HRC invested in a balanced portfolio of research that was both scientifically excellent and of high priority to 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the best applications were identified by SACs, priority review undert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10/11 Funding 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50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Content Placeholder 2"/>
          <p:cNvSpPr/>
          <p:nvPr/>
        </p:nvSpPr>
        <p:spPr>
          <a:xfrm>
            <a:off x="611280" y="1125360"/>
            <a:ext cx="8258040" cy="47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ority scoring will no longer occ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laced by an assessment on the impact of the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ires researchers to consider the links between their research and the specific goals outlined in research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sion pending on how this will occur at the assessmen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55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Content Placeholder 2"/>
          <p:cNvSpPr/>
          <p:nvPr/>
        </p:nvSpPr>
        <p:spPr>
          <a:xfrm>
            <a:off x="571680" y="1071720"/>
            <a:ext cx="835812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applications are determined to be fundable by the SACs, they are considered by the General Assessing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rises Chairs of each of the Science Assessing Committ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C have an overview of the range of potential investment and consider the scope of the investment HRC will make in any one given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Excellence and Prio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Content Placeholder 2"/>
          <p:cNvSpPr/>
          <p:nvPr/>
        </p:nvSpPr>
        <p:spPr>
          <a:xfrm>
            <a:off x="609480" y="1724040"/>
            <a:ext cx="825840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Object 4"/>
          <p:cNvGraphicFramePr/>
          <p:nvPr/>
        </p:nvGraphicFramePr>
        <p:xfrm>
          <a:off x="1547640" y="1125360"/>
          <a:ext cx="6046920" cy="508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125360"/>
                    <a:ext cx="6046920" cy="508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3"/>
          <p:cNvGraphicFramePr/>
          <p:nvPr/>
        </p:nvGraphicFramePr>
        <p:xfrm>
          <a:off x="1571760" y="1143000"/>
          <a:ext cx="6046560" cy="508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71760" y="1143000"/>
                    <a:ext cx="604656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Oval 10"/>
          <p:cNvSpPr/>
          <p:nvPr/>
        </p:nvSpPr>
        <p:spPr>
          <a:xfrm>
            <a:off x="3857760" y="1071720"/>
            <a:ext cx="3600360" cy="3456000"/>
          </a:xfrm>
          <a:prstGeom prst="ellipse">
            <a:avLst/>
          </a:prstGeom>
          <a:solidFill>
            <a:srgbClr val="dddddd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ffff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Key 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69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ontent Placeholder 2"/>
          <p:cNvSpPr/>
          <p:nvPr/>
        </p:nvSpPr>
        <p:spPr>
          <a:xfrm>
            <a:off x="428760" y="1428840"/>
            <a:ext cx="82580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 July: Māori Seeding Grants (also 9 N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ts-in-Aid (also 9 N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Aug: Closing date for C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t:       Registration for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444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sibility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444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rging Researcher First 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Expression of Interest D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Key 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74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Content Placeholder 2"/>
          <p:cNvSpPr/>
          <p:nvPr/>
        </p:nvSpPr>
        <p:spPr>
          <a:xfrm>
            <a:off x="428760" y="1428840"/>
            <a:ext cx="82580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: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sibility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rging Researcher First Grant Full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2011Project Full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e Full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 2011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Contracts offered to start from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Session 2-Grant 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79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39720" indent="-245880">
              <a:lnSpc>
                <a:spcPct val="100000"/>
              </a:lnSpc>
              <a:spcBef>
                <a:spcPts val="201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Translating ideas into a research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83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0"/>
          <p:cNvSpPr/>
          <p:nvPr/>
        </p:nvSpPr>
        <p:spPr>
          <a:xfrm>
            <a:off x="214200" y="1571760"/>
            <a:ext cx="8572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buClr>
                <a:srgbClr val="527e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question you want answered (can you say it in a couple of sentences, does it make sense to others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527e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health significance (how does it relate to priorities and current policy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527e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it been asked befor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527e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it able to be answered with some degree of confidence? Is the question too b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88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Content Placeholder 2"/>
          <p:cNvSpPr/>
          <p:nvPr/>
        </p:nvSpPr>
        <p:spPr>
          <a:xfrm>
            <a:off x="428760" y="1357200"/>
            <a:ext cx="8258040" cy="47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the research methodology and the specific methods answer the research question pos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you explain your methods clea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you explained </a:t>
            </a: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ts of the research process in your applic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the analysis link with the metho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re the budgetary implications of the methods chos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Specific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24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 interest in Māori &amp; Pacific peoples’ health research &amp; capacity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ahau Hauora Investment 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career development &amp; monitors health research work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s funding partnerships with private &amp; public secto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92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re sufficient detail to convince the reviewers of your ability to carry out the research in a timely fashion, using the methods and methodology you have outli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27144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previous experience do you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27144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tise of team memb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27144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need an advisory committ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27144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l methods adequately explai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271440">
              <a:lnSpc>
                <a:spcPct val="100000"/>
              </a:lnSpc>
              <a:spcBef>
                <a:spcPts val="64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Tim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296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to be real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staffing workl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ing of th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outside influences might impact on research timelin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line the stages of the resear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3754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GANTT charts and timelines to assist in mapping the project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ringing together a tea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301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needs to be on your tea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methodological or clinical expert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 there specific locality issues you need to consi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force development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Bringing together a tea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305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abo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gagement needs to occur early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a lengthy process of negotiating roles, bound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l (MoUs) or informal agre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enance of the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Budg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309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Content Placeholder 2"/>
          <p:cNvSpPr/>
          <p:nvPr/>
        </p:nvSpPr>
        <p:spPr>
          <a:xfrm>
            <a:off x="428760" y="1357200"/>
            <a:ext cx="82580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the guidelines carefully to ascertain what can and can’t be included in bud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 sufficient time to develop a budget and review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costings real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you can justify your budget (more detail makes it easier to agree to funding reques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 in overh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Disse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314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Content Placeholder 2"/>
          <p:cNvSpPr/>
          <p:nvPr/>
        </p:nvSpPr>
        <p:spPr>
          <a:xfrm>
            <a:off x="428760" y="1785960"/>
            <a:ext cx="825804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will you keep end-users, funders, advisors engaged and inform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using the full range of dissemination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dissemination methods ear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ged approaches are useful both for you as the researcher and the research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Knowledge trans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319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Content Placeholder 2"/>
          <p:cNvSpPr/>
          <p:nvPr/>
        </p:nvSpPr>
        <p:spPr>
          <a:xfrm>
            <a:off x="428760" y="1785960"/>
            <a:ext cx="825804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ly regarded by fun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arlier in the process you can consider knowledge translation opportunities the bet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how your research can improve services, practice at a local level, national level and implications internatio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Writing a fundable ap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324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Content Placeholder 2"/>
          <p:cNvSpPr/>
          <p:nvPr/>
        </p:nvSpPr>
        <p:spPr>
          <a:xfrm>
            <a:off x="428760" y="1428840"/>
            <a:ext cx="85010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to the HRC guideli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the language clear, precise and jargon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is important, use headings to ensure a logical argu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 sufficient time for writing, review, peer review, re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building up a profile start small and be real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Some final tip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329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Content Placeholder 2"/>
          <p:cNvSpPr/>
          <p:nvPr/>
        </p:nvSpPr>
        <p:spPr>
          <a:xfrm>
            <a:off x="428760" y="1428840"/>
            <a:ext cx="82580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be overambit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novation (whether it be methodological or simply a novel idea) is highly regar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comes/impact also sought a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the relevant material to assist in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’t be scared to ask others for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 the HRC Guidelines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Key 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334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Content Placeholder 2"/>
          <p:cNvSpPr/>
          <p:nvPr/>
        </p:nvSpPr>
        <p:spPr>
          <a:xfrm>
            <a:off x="428760" y="1428840"/>
            <a:ext cx="82580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 July: Māori Seeding Grants (also 9 N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ts-in-Aid (also 9 N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Aug: Closing date for C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t:       Registration for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444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sibility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444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rging Researcher First 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Expression of Interest D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Changes to the Funding Round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28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ontent Placeholder 2"/>
          <p:cNvSpPr/>
          <p:nvPr/>
        </p:nvSpPr>
        <p:spPr>
          <a:xfrm>
            <a:off x="571680" y="142884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Research Portfolios replaced with 4 Research Investment Streams (R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 priority areas for health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cope of these will remain stable for at least a five-year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responsiveness to government and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communication of research needs and pri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Key 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339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Content Placeholder 2"/>
          <p:cNvSpPr/>
          <p:nvPr/>
        </p:nvSpPr>
        <p:spPr>
          <a:xfrm>
            <a:off x="457200" y="1571760"/>
            <a:ext cx="825804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Content Placeholder 2"/>
          <p:cNvSpPr/>
          <p:nvPr/>
        </p:nvSpPr>
        <p:spPr>
          <a:xfrm>
            <a:off x="428760" y="1428840"/>
            <a:ext cx="82580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: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sibility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rging Researcher First Grant Full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 2011Project Full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e Full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 2011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Contracts offered to start from 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Ngā Pou Rangahau 2010-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344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C Māori Health Committee review of the Health Research Strategy to Improve Māori Health and Wellbeing 2004 –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 of consul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i Whakapiripiri – March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worksho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ultation with key experts in Māori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Comic Sans MS"/>
              </a:rPr>
              <a:t>Ngā Pou Rangahau 2010-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348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Content Placeholder 2"/>
          <p:cNvSpPr/>
          <p:nvPr/>
        </p:nvSpPr>
        <p:spPr>
          <a:xfrm>
            <a:off x="395280" y="141300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ft document to be presented at Hui Whakapiripiri in Rotorua 8-9 July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portunity for the Maori Health Committee to present the document back to the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ce to seek the sector’s input/comments before presenting the document to the HRC Boa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Session 4-Working on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352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Content Placeholder 2"/>
          <p:cNvSpPr/>
          <p:nvPr/>
        </p:nvSpPr>
        <p:spPr>
          <a:xfrm>
            <a:off x="457200" y="1785960"/>
            <a:ext cx="825804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ase tell us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can we help? 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0040" y="85680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Contac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356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Content Placeholder 2"/>
          <p:cNvSpPr/>
          <p:nvPr/>
        </p:nvSpPr>
        <p:spPr>
          <a:xfrm>
            <a:off x="457200" y="1785960"/>
            <a:ext cx="825804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 Heather Giff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ther.whakauae@xtra.co.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 Amohia Boul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ohia.whakauae@xtra.co.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hakauae.co.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HRC Investment Str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33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ontent Placeholder 2"/>
          <p:cNvSpPr/>
          <p:nvPr/>
        </p:nvSpPr>
        <p:spPr>
          <a:xfrm>
            <a:off x="571680" y="142884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Zealand Health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lth and Wellbe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ing Outcomes for Acute and Chronic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ahau Hauora Ma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Changes to the Funding Round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38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ontent Placeholder 2"/>
          <p:cNvSpPr/>
          <p:nvPr/>
        </p:nvSpPr>
        <p:spPr>
          <a:xfrm>
            <a:off x="539640" y="1628640"/>
            <a:ext cx="8258400" cy="43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 Investment Streams and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nual Investment Signal for each stream will be released prior to the annual funding 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stment Signals will define the priorities for HRC investment in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stment Signals will present high-level information for researchers on HRC’s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Changes to the Funding Round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43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ontent Placeholder 2"/>
          <p:cNvSpPr/>
          <p:nvPr/>
        </p:nvSpPr>
        <p:spPr>
          <a:xfrm>
            <a:off x="611280" y="1773360"/>
            <a:ext cx="8258040" cy="423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archers will be requir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minate which Investment Signal they are responding to in their application;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7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ly make a case for how their proposal addresses the Investment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t between the proposal and the IS will be a crucial part of the assessmen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0040" y="785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Comic Sans MS"/>
              </a:rPr>
              <a:t>Changes to the Funding Round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0" y="5759280"/>
            <a:ext cx="2857680" cy="1098720"/>
          </a:xfrm>
          <a:prstGeom prst="rect">
            <a:avLst/>
          </a:prstGeom>
          <a:ln w="0">
            <a:noFill/>
          </a:ln>
        </p:spPr>
      </p:pic>
      <p:sp>
        <p:nvSpPr>
          <p:cNvPr id="148" name="Content Placeholder 2"/>
          <p:cNvSpPr/>
          <p:nvPr/>
        </p:nvSpPr>
        <p:spPr>
          <a:xfrm>
            <a:off x="571680" y="128592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ontent Placeholder 2"/>
          <p:cNvSpPr/>
          <p:nvPr/>
        </p:nvSpPr>
        <p:spPr>
          <a:xfrm>
            <a:off x="457200" y="1571760"/>
            <a:ext cx="8258040" cy="47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Content Placeholder 2"/>
          <p:cNvSpPr/>
          <p:nvPr/>
        </p:nvSpPr>
        <p:spPr>
          <a:xfrm>
            <a:off x="539640" y="1628640"/>
            <a:ext cx="82584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ative budgets will be included in each Investment Sig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cative budgets will apply only to  Programme and Project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300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7543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udget indications will be used by the HRC Board as a means of determining future research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100000"/>
              </a:lnSpc>
              <a:spcBef>
                <a:spcPts val="799"/>
              </a:spcBef>
              <a:buClr>
                <a:srgbClr val="72a37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00:04:57Z</dcterms:created>
  <dc:creator>Heather</dc:creator>
  <dc:description/>
  <dc:language>en-US</dc:language>
  <cp:lastModifiedBy> </cp:lastModifiedBy>
  <dcterms:modified xsi:type="dcterms:W3CDTF">2010-07-12T21:52:29Z</dcterms:modified>
  <cp:revision>141</cp:revision>
  <dc:subject/>
  <dc:title>Slide 1</dc:title>
</cp:coreProperties>
</file>