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E42E-FEC2-41D1-BCB2-B2F3E5A253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70F3-BB91-4DBB-8424-960D3F393C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iuj[op’jp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B36A-FE63-4C7A-96F3-C7B3DD059E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57B3-D0AF-4D8C-BA6C-449C62F616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C0F5-3B70-46A4-9D37-C8C258820F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97A6-6B8A-4F6A-B8DE-124411B553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33A1E-1984-4735-A91D-4AF351B2BC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D620-6E98-4A56-BB9D-F26374DBB7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5C33-A587-4C7B-A56B-DB59E902ED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E684-844E-483B-BFA3-AE0AE1259F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000080" y="714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ECDF-C5F6-4965-AC16-F1C8633F68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E2FB-49CD-4482-AE4A-AB2558C8FE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8BF5-601B-41E4-96A9-FBBC8B06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9B5-5A54-40E0-9F93-5ED26F15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75D-13C9-4729-A592-52CD2048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451-5D2D-4ED1-8598-661272FC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DE16CE-AEDE-41C9-978D-5998DC8BF5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584E1-87EC-40F2-BD1D-B825D990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C74CB-C0D7-48AE-BE32-4E94C247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31FC7-A397-4A50-A8FF-C30D0EB8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2620D-524F-4373-9D3A-6A8B7EB3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1B04A-6E8B-4C8F-B9F9-CC6986CA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6D5D2-8CB4-449B-8A55-D7E59E14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7E0-886A-453E-842B-C72CA1D7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928E7E-8471-4A7F-9055-7B4DF037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0B0F6-C742-4892-B745-6627FAEA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DA170-CF58-4169-86FF-D3D4D1D1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1AAD2-720F-4F5A-AC30-EE8CA417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078000"/>
            <a:ext cx="264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5F663-C8F4-4AC9-BA08-80AD94A69D1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D7C-BC5F-46DA-AB29-80EE0B8B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FBE7-056C-4F38-91C5-95EE5C2E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27E1-D8FB-4A17-9234-4AC1F30D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A414-8966-4DA6-8E73-0516B4C3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2A18-CE7A-4515-9B24-2328B046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0780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327-9746-47B4-B397-E2C1D9FD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078000"/>
            <a:ext cx="822960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F8D-29E8-41B1-B92E-E27122BB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WRS Logo for Outlook Email"/>
          <p:cNvPicPr/>
          <p:nvPr/>
        </p:nvPicPr>
        <p:blipFill>
          <a:blip r:embed="rId2"/>
          <a:stretch/>
        </p:blipFill>
        <p:spPr>
          <a:xfrm>
            <a:off x="214200" y="550080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"/>
          <p:cNvPicPr/>
          <p:nvPr/>
        </p:nvPicPr>
        <p:blipFill>
          <a:blip r:embed="rId3"/>
          <a:stretch/>
        </p:blipFill>
        <p:spPr>
          <a:xfrm>
            <a:off x="2340000" y="0"/>
            <a:ext cx="915840" cy="9810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3" descr=""/>
          <p:cNvPicPr/>
          <p:nvPr/>
        </p:nvPicPr>
        <p:blipFill>
          <a:blip r:embed="rId4"/>
          <a:stretch/>
        </p:blipFill>
        <p:spPr>
          <a:xfrm>
            <a:off x="7259760" y="2276640"/>
            <a:ext cx="1884240" cy="2016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" descr=""/>
          <p:cNvPicPr/>
          <p:nvPr/>
        </p:nvPicPr>
        <p:blipFill>
          <a:blip r:embed="rId5"/>
          <a:stretch/>
        </p:blipFill>
        <p:spPr>
          <a:xfrm>
            <a:off x="2556000" y="3068640"/>
            <a:ext cx="2665440" cy="2852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6" descr=""/>
          <p:cNvPicPr/>
          <p:nvPr/>
        </p:nvPicPr>
        <p:blipFill>
          <a:blip r:embed="rId6"/>
          <a:stretch/>
        </p:blipFill>
        <p:spPr>
          <a:xfrm>
            <a:off x="6012000" y="0"/>
            <a:ext cx="1873080" cy="1700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7E0F-184E-4145-8DF9-43DB6B46C2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5"/>
          <p:cNvSpPr/>
          <p:nvPr/>
        </p:nvSpPr>
        <p:spPr>
          <a:xfrm>
            <a:off x="3429000" y="6460560"/>
            <a:ext cx="197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Korowaitia te puna waio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i oranga motuhake mo te Iwi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4" descr=""/>
          <p:cNvPicPr/>
          <p:nvPr/>
        </p:nvPicPr>
        <p:blipFill>
          <a:blip r:embed="rId7"/>
          <a:stretch/>
        </p:blipFill>
        <p:spPr>
          <a:xfrm>
            <a:off x="3429000" y="5072040"/>
            <a:ext cx="1908000" cy="14130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3" descr="http://www.victoria.ac.nz/hsrc/gfx/logos/HSRC-logo.png"/>
          <p:cNvPicPr/>
          <p:nvPr/>
        </p:nvPicPr>
        <p:blipFill>
          <a:blip r:embed="rId8"/>
          <a:stretch/>
        </p:blipFill>
        <p:spPr>
          <a:xfrm>
            <a:off x="7786800" y="4643280"/>
            <a:ext cx="1197000" cy="207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WRS Logo for Outlook Email"/>
          <p:cNvPicPr/>
          <p:nvPr/>
        </p:nvPicPr>
        <p:blipFill>
          <a:blip r:embed="rId2"/>
          <a:stretch/>
        </p:blipFill>
        <p:spPr>
          <a:xfrm>
            <a:off x="214200" y="550080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"/>
          <p:cNvPicPr/>
          <p:nvPr/>
        </p:nvPicPr>
        <p:blipFill>
          <a:blip r:embed="rId3"/>
          <a:stretch/>
        </p:blipFill>
        <p:spPr>
          <a:xfrm>
            <a:off x="2340000" y="0"/>
            <a:ext cx="915840" cy="981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"/>
          <p:cNvPicPr/>
          <p:nvPr/>
        </p:nvPicPr>
        <p:blipFill>
          <a:blip r:embed="rId4"/>
          <a:stretch/>
        </p:blipFill>
        <p:spPr>
          <a:xfrm>
            <a:off x="7259760" y="2276640"/>
            <a:ext cx="1884240" cy="2016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"/>
          <p:cNvPicPr/>
          <p:nvPr/>
        </p:nvPicPr>
        <p:blipFill>
          <a:blip r:embed="rId5"/>
          <a:stretch/>
        </p:blipFill>
        <p:spPr>
          <a:xfrm>
            <a:off x="2556000" y="3068640"/>
            <a:ext cx="2665440" cy="2852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"/>
          <p:cNvPicPr/>
          <p:nvPr/>
        </p:nvPicPr>
        <p:blipFill>
          <a:blip r:embed="rId6"/>
          <a:stretch/>
        </p:blipFill>
        <p:spPr>
          <a:xfrm>
            <a:off x="6012000" y="0"/>
            <a:ext cx="1873080" cy="1700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7"/>
          <a:stretch/>
        </p:blipFill>
        <p:spPr>
          <a:xfrm>
            <a:off x="3419640" y="5445000"/>
            <a:ext cx="1908000" cy="141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http://www.victoria.ac.nz/hsrc/gfx/logos/HSRC-logo.png"/>
          <p:cNvPicPr/>
          <p:nvPr/>
        </p:nvPicPr>
        <p:blipFill>
          <a:blip r:embed="rId8"/>
          <a:stretch/>
        </p:blipFill>
        <p:spPr>
          <a:xfrm>
            <a:off x="7786800" y="4643280"/>
            <a:ext cx="1197000" cy="2073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4" descr="http://www.victoria.ac.nz/hsrc/gfx/logos/HSRC-logo.png"/>
          <p:cNvPicPr/>
          <p:nvPr/>
        </p:nvPicPr>
        <p:blipFill>
          <a:blip r:embed="rId9"/>
          <a:stretch/>
        </p:blipFill>
        <p:spPr>
          <a:xfrm>
            <a:off x="7786800" y="4643280"/>
            <a:ext cx="1197000" cy="2073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28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05080" indent="-19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77240" indent="-155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87920" indent="-155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98960" indent="-155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CE67-0D6F-46BB-9C61-FEC9B67D21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mohia.whakauae@xtra.co.nz" TargetMode="External"/><Relationship Id="rId2" Type="http://schemas.openxmlformats.org/officeDocument/2006/relationships/hyperlink" Target="http://www.whakauae.co.nz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222268"/>
                </a:solidFill>
                <a:latin typeface="Arial"/>
              </a:rPr>
              <a:t>Supporting Whānau Wellbeing:</a:t>
            </a:r>
            <a:br>
              <a:rPr sz="2000"/>
            </a:b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68000" y="4076640"/>
            <a:ext cx="828684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22268"/>
                </a:solidFill>
                <a:latin typeface="Arial"/>
              </a:rPr>
              <a:t>Amohia Boulton, Jennifer Tamehana, Jackie Cumm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222268"/>
                </a:solidFill>
                <a:latin typeface="Arial"/>
              </a:rPr>
              <a:t>Lynley Cvitanov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222268"/>
                </a:solidFill>
                <a:latin typeface="Arial"/>
              </a:rPr>
              <a:t>Families Commission Research Seminar, 3 Jun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ubtitle 2"/>
          <p:cNvSpPr/>
          <p:nvPr/>
        </p:nvSpPr>
        <p:spPr>
          <a:xfrm>
            <a:off x="571680" y="2428920"/>
            <a:ext cx="7858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How Māori Primary Health Care Contributes to Whānau Resil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Challenges Posed by the Research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1628640"/>
            <a:ext cx="8215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Conceptually very demanding, linking three distinct concepts into a cohesive framework for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ranslational of “academic” theory and theory testing into meaningful practice and lessons for service improv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Challenges Posed by the Research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95280" y="1628640"/>
            <a:ext cx="8215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Are we simply attempting to ‘fit’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into a Western framework of resilience – is conceptual adaptation enoug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Identifying kaupapa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concepts, ways of being and doing that are meaningful for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in attaining and/or sustaining wh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nau 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06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he research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b6bcf"/>
                </a:solidFill>
                <a:latin typeface="Arial"/>
              </a:rPr>
              <a:t>TOIHA Board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b6bcf"/>
                </a:solidFill>
                <a:latin typeface="Arial"/>
              </a:rPr>
              <a:t>TOIHA Managers and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b6bc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b6bcf"/>
                </a:solidFill>
                <a:latin typeface="Arial"/>
              </a:rPr>
              <a:t>Whanganui Whā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he research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he research funders (HRC, Ngā Pae o te Maramatanga, ACC, Families Commiss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060"/>
                </a:solidFill>
                <a:latin typeface="Arial"/>
              </a:rPr>
              <a:t>Contact Details</a:t>
            </a:r>
            <a:endParaRPr b="0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Amohia Bou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Whakauae Research for Maori Health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</a:rPr>
              <a:t>a</a:t>
            </a: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hia.whakauae@xtra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196640"/>
            <a:ext cx="82296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Research go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Context of th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How these goals relate to Whānau 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Progress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Challenges posed by th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Research Goals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760" y="1213920"/>
            <a:ext cx="821520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                       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o deter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the relevance of the concept of ‘resilience’ for Māori whānau and in Māori primary health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in what ways whānau resilience can be supported and enhanced by Māori primary health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Research Context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214280"/>
            <a:ext cx="821520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Māori-led, iwi-based research partnershi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Whakauae  Research (l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Te Oranganui Iwi Health Authority (TOIHA) P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Health Services Research Centre, VUW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Single case study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Research question in response to a Request for Proposal by fu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Relationship to Whānau Ora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1267920"/>
            <a:ext cx="846288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What is the relationship between whānau ora and resilience in a primary health care sett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2268"/>
                </a:solidFill>
                <a:latin typeface="Arial"/>
              </a:rPr>
              <a:t>TOIHA’s mission is to achieve whānau ora through Māori primary health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2268"/>
                </a:solidFill>
                <a:latin typeface="Arial"/>
              </a:rPr>
              <a:t>Must TOIHA enable resilience for whānau to achieve whānau 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2268"/>
                </a:solidFill>
                <a:latin typeface="Arial"/>
              </a:rPr>
              <a:t>Is being resilient critical to achieving        whānau o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060"/>
                </a:solidFill>
                <a:latin typeface="Arial"/>
              </a:rPr>
              <a:t>Progress to Date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28760" y="1214280"/>
            <a:ext cx="82152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Phase One nearing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Integrated literature re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resilience, Māori primary health and whānau 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Development of a conceptu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Key informant intervie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TOIHA staff, managers and governance board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Literature review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267920"/>
            <a:ext cx="82072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International academic resilience literature of 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limited relevance for whānau, hapū, iw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Dearth of 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kaupapa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persp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Potential for recent indigenous and cultural resilience literature to inform a kaupapa M</a:t>
            </a:r>
            <a:r>
              <a:rPr b="0" lang="en-GB" sz="3200" spc="-1" strike="noStrike">
                <a:solidFill>
                  <a:srgbClr val="222268"/>
                </a:solidFill>
                <a:latin typeface="Arial"/>
              </a:rPr>
              <a:t>ā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ori resilience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Document review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1213920"/>
            <a:ext cx="82152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Mapping” resilience to Māori primary health care approaches in the TOIHA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Four principles identified for further tes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68"/>
                </a:solidFill>
                <a:latin typeface="Arial"/>
              </a:rPr>
              <a:t>Whānau Ora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68"/>
                </a:solidFill>
                <a:latin typeface="Arial"/>
              </a:rPr>
              <a:t>Focus on Welln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222268"/>
                </a:solidFill>
                <a:latin typeface="Arial"/>
              </a:rPr>
              <a:t>Cultural Accoun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45680" indent="-171360">
              <a:spcBef>
                <a:spcPts val="700"/>
              </a:spcBef>
              <a:buClr>
                <a:srgbClr val="2222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68"/>
                </a:solidFill>
                <a:latin typeface="Arial"/>
              </a:rPr>
              <a:t>Empowe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Key informant interviews</a:t>
            </a:r>
            <a:endParaRPr b="0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213920"/>
            <a:ext cx="82152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Purpose to test whether the concept of resilience understood and used by health practitioners/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How does the concept relate to whānau ora, if at a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Eleven face to face, in-depth key informant interviews under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spcBef>
                <a:spcPts val="799"/>
              </a:spcBef>
              <a:buClr>
                <a:srgbClr val="2222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Team data analysis – mahi a rōp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44:02Z</dcterms:created>
  <dc:creator>tteki</dc:creator>
  <dc:description/>
  <dc:language>en-US</dc:language>
  <cp:lastModifiedBy>Reviewer 1</cp:lastModifiedBy>
  <dcterms:modified xsi:type="dcterms:W3CDTF">2010-06-03T20:54:08Z</dcterms:modified>
  <cp:revision>136</cp:revision>
  <dc:subject/>
  <dc:title>Slide 1</dc:title>
</cp:coreProperties>
</file>