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39006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0868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1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12"/>
          </p:nvPr>
        </p:nvSpPr>
        <p:spPr>
          <a:xfrm>
            <a:off x="390060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B145-3109-420F-BF17-E20AF7D177C7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0BB5-8BEF-4186-8D3B-D5233E95D425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AEB5-BE00-4C6F-BFD1-A298F0AB0223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E3AF-9400-4ECA-8913-C94E77626C3B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5B5A-4F87-479B-8604-25D9B119FFDD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9014-997E-4CEE-B2B0-F5042B2319EB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CE68-AD70-47EB-B2B9-53A14DABFABE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B60E-CBF0-4F50-9A26-EB53F1E1C161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6A66-9F68-4FAA-A3CB-6235266E255F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7C80-C3F3-4F26-87C1-1616ABADC205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3DF8-8253-460E-9C73-C0B7F2A6BE17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E7E6-A24D-41FB-984B-3AA043FCE4FC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02C4-5889-44AD-8A6F-6C678B5DE515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1EB5-868D-4CB3-A7EC-F6FDCD478BC2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1F40-6ACC-4DB1-981D-7D0C92829798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CFCB-588F-431D-9549-04B2A90F43E6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2102-42E2-424F-8431-2377A0E8A56D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40A0-5C13-4BC1-A0F2-E22A2708BCD2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55B-7558-4600-934E-9CC5320A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EF57-4100-4F17-BF00-88748096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058D-5E96-459A-B395-8E98B23D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E4F-7FAE-4829-AF1C-D37FEF0F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923A-E3A2-43B7-8A1B-06E26845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A583-F0CD-4DA0-A664-75EF4972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9AF0-BE07-44B2-8F42-A09DAF46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E605-B130-4FA0-8F74-F8915D5F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E837-8419-4A28-B4CE-B987D5B8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F3ED-9EC8-4BCF-BBFF-CAAD6E02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E98A-8E43-4D0B-8F51-14485D0E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304-B79B-411E-AF9F-7978C03E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BB2A-8A53-48AF-AB07-BFD5BD97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F8F7-D00B-427E-A756-8EB17584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E1E0-F928-4668-9FD5-A5B48A57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FA7C-29F0-4AB5-A3E6-4AB8C934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4551-5463-4F88-89F7-9ADF4DA6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A3D6-3B86-4F64-A1AB-5F7F5A0D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E5955-200A-4071-9DAB-2BBE5DC7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8DE23-1D31-452E-AC58-F5AC1E7D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AD3EB-A26E-4B39-A08F-A38F1FA3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72F53-8548-4D43-94C3-4867660E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D7D-3581-46BE-ABAE-9D0C79FC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05068-117F-4104-B204-0566B174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78E15-778A-431F-86EC-4BC9CE58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15088-A4F3-4F29-B0AE-015D17AE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8DD12-B3A6-49AA-990E-8D81F99B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C6189-9656-48AC-B1B3-44082B2C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32853-1E4D-4D27-837E-36868482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0466A-DB43-4327-9316-3130CD15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88D-862C-4B69-9154-BF0F8BD7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5B0-5A30-4A1A-84C1-D94C5A36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E371-2F2E-45F5-9CA2-5535C0A7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2A0-130D-469A-BF48-B1D1B6C5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52C-0206-4CA0-AA2E-22F5DA64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514-0362-4AAA-9A2D-72350A37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4B94-0CB5-48BE-BCC9-679F89FDC2B9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1" name="Picture 4" descr="WRS Logo for Outlook Email"/>
          <p:cNvPicPr/>
          <p:nvPr/>
        </p:nvPicPr>
        <p:blipFill>
          <a:blip r:embed="rId6"/>
          <a:stretch/>
        </p:blipFill>
        <p:spPr>
          <a:xfrm>
            <a:off x="1440" y="5602320"/>
            <a:ext cx="1619280" cy="125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7"/>
          <a:stretch/>
        </p:blipFill>
        <p:spPr>
          <a:xfrm>
            <a:off x="6454800" y="6261120"/>
            <a:ext cx="2689200" cy="596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0915-F5B9-4110-B234-EC535C742182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108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109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112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Rectangle 13"/>
          <p:cNvSpPr/>
          <p:nvPr/>
        </p:nvSpPr>
        <p:spPr>
          <a:xfrm>
            <a:off x="468360" y="2274840"/>
            <a:ext cx="820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A9F2-A923-4D32-8764-2E0CB142BE74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NZ" sz="36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541440" y="4653000"/>
            <a:ext cx="82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r H Gifford, Dr A Boulton, Dr S Triggs, Prof C Cunning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gā Pae o te Māramata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ternational Indigenous Development Con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uckland, 27-30 Jun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603360" y="1989000"/>
            <a:ext cx="82296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3300"/>
                </a:solidFill>
                <a:latin typeface="Comic Sans MS"/>
              </a:rPr>
              <a:t>Tipping the balanc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3300"/>
                </a:solidFill>
                <a:latin typeface="Comic Sans MS"/>
              </a:rPr>
              <a:t>the impact of the Working for Families (WFF) policy on Māori whāna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4000" y="1341360"/>
            <a:ext cx="7972200" cy="4967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FF- eligible whānau demonstrated the need for financial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6760" indent="-24084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prior to the policy’s existence, the living standards of WFF-eligible whānau were markedly and significantly lower than ineligible Māori househol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beneficiary families with dependant children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ere the worst-off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followed by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other beneficiary households (excl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SAs) and low-income working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families with dependant childr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1"/>
          <a:stretch/>
        </p:blipFill>
        <p:spPr>
          <a:xfrm>
            <a:off x="468360" y="4745160"/>
            <a:ext cx="273528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2400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FF eligible whānau experienced an improvement in income 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 decline in the proportion of whānau whose income was ‘not enough’ to meet their everyday need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n equivalent increase in the                               ‘just enough’ categ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housing satisfaction also impro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 higher proportion of families having                     to economise on the purchase of fruit                   and vegetables in 2011 compared to 200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6647040" y="3357720"/>
            <a:ext cx="2414520" cy="25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1460520"/>
            <a:ext cx="8177040" cy="3408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ānau dynamics play an important part in income 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280" indent="-23832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hanges in household circumstances such as family formation and split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fluctuation in labour force status between full-time and part-time work and between work, parenting,                     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    study and looking for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51640" indent="-203040">
              <a:spcBef>
                <a:spcPts val="4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49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Content Placeholder 2"/>
          <p:cNvSpPr/>
          <p:nvPr/>
        </p:nvSpPr>
        <p:spPr>
          <a:xfrm>
            <a:off x="3276720" y="4653000"/>
            <a:ext cx="5327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ole of whānau in caring for whānau members and/or giving money to help whānau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lnSpc>
                <a:spcPct val="100000"/>
              </a:lnSpc>
              <a:spcBef>
                <a:spcPts val="4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1"/>
          <a:stretch/>
        </p:blipFill>
        <p:spPr>
          <a:xfrm>
            <a:off x="468360" y="4438800"/>
            <a:ext cx="31338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C:\Users\Amohia_2\Pictures\Pictures\David and Arwyn Photos\DSC00353.JPG"/>
          <p:cNvPicPr/>
          <p:nvPr/>
        </p:nvPicPr>
        <p:blipFill>
          <a:blip r:embed="rId1"/>
          <a:stretch/>
        </p:blipFill>
        <p:spPr>
          <a:xfrm>
            <a:off x="6227640" y="2997360"/>
            <a:ext cx="2802240" cy="3735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539280" y="1341000"/>
            <a:ext cx="8116920" cy="5256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impact of WFF was significant but modest, and possibly frag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FF payments do make a contribution  towards improving income adequ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however gains may be fragile, as                        the economic situation of low                                -income families remains one of                   considerable hardship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economising on basic necessities                   such as fruit and vegetables, and                     visits to the doctor, evid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3640" y="1412640"/>
            <a:ext cx="8475480" cy="2663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vident tensions between WFF policy objecti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4336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onceptualised as a tool to target those experiencing social disadvantage with a view to increasing overall living standards and reducing poverty in the commun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179280" y="4149720"/>
            <a:ext cx="3294000" cy="2325600"/>
          </a:xfrm>
          <a:prstGeom prst="rect">
            <a:avLst/>
          </a:prstGeom>
          <a:ln w="0">
            <a:noFill/>
          </a:ln>
        </p:spPr>
      </p:pic>
      <p:sp>
        <p:nvSpPr>
          <p:cNvPr id="202" name="Content Placeholder 2"/>
          <p:cNvSpPr/>
          <p:nvPr/>
        </p:nvSpPr>
        <p:spPr>
          <a:xfrm>
            <a:off x="3708360" y="4149720"/>
            <a:ext cx="5243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however a divergence between the ‘making work pay’ and the ‘income adequacy’ aims of the WFF policy is apparent, with significant impact on Māor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8000" y="1484280"/>
            <a:ext cx="835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FF targeted whānau who were financially limited but excluded the most economically disadvantaged i.e. beneficiaries, and therefore the children of benefici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discernible but “modest” improvement in income adequacy for those in receipt of WFF during the period 2004-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95280" y="148428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research setting of considerable complex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Policy:  inherently complex, with inter-related components, which changed during the period of examin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ontext: a time of social and economic change, including recession and changing gover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hānau: dynamic entities, moving in and out of employment, changing household typ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research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earch Centre for Māori Health and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alth Research Council of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oundation for Research Science an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For 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ntent Placeholder 2"/>
          <p:cNvSpPr/>
          <p:nvPr/>
        </p:nvSpPr>
        <p:spPr>
          <a:xfrm>
            <a:off x="457200" y="1709640"/>
            <a:ext cx="8258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r Heather Gif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kauae Research for Māori  Health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eather@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ations availabl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ww.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5280" y="1484280"/>
            <a:ext cx="842472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ree year study with an overarching aim to identify whether Working for Families (WFF) has contributed towards whānau 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4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unded by the Health Research Council of New Zealand (HRC) and the Foundation for Research Science and Technology (FoR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4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llaboration between an iwi-based research centre &amp; a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9" descr="C:\Users\Amohia_2\AppData\Local\Microsoft\Windows\Temporary Internet Files\Content.Outlook\GK2I35KW\Professor Chris Cunningham.jpg"/>
          <p:cNvPicPr/>
          <p:nvPr/>
        </p:nvPicPr>
        <p:blipFill>
          <a:blip r:embed="rId1"/>
          <a:stretch/>
        </p:blipFill>
        <p:spPr>
          <a:xfrm>
            <a:off x="7156440" y="4013280"/>
            <a:ext cx="1898640" cy="2852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0920" y="1511280"/>
            <a:ext cx="7972200" cy="4968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rom WRMHD                                         Dr Heather Gifford (Lead) &amp;                      Dr Amohia Boulton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rom the Research Centre for           Māori Health and Development,     Massey University                                Dr Sue Triggs &amp;                                         Prof Chris Cunning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6138720" y="189000"/>
            <a:ext cx="1541520" cy="2160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Users\Amohia_2\Pictures\Photos of Me\WRMHD Photo of Me.JPG"/>
          <p:cNvPicPr/>
          <p:nvPr/>
        </p:nvPicPr>
        <p:blipFill>
          <a:blip r:embed="rId3"/>
          <a:stretch/>
        </p:blipFill>
        <p:spPr>
          <a:xfrm>
            <a:off x="7551720" y="1052640"/>
            <a:ext cx="1484280" cy="207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4"/>
          <a:stretch/>
        </p:blipFill>
        <p:spPr>
          <a:xfrm>
            <a:off x="6759720" y="2924280"/>
            <a:ext cx="15843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Additional 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280" y="1484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ndertake new analysis using an existing and on-going Māori data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Best Outcomes for Māori: Te Hoe Nuku Roa (THN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HNR is a stratified, random, longitudinal survey of Māori households, initiated in a series of waves beginning in 199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2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duct high-quality research to inform policy development for Māor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Background to the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3640" y="148428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troduced in 2004, by a Labour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ttempted to address a number of social policy goals (Johnson 20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8240" indent="-2260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educe child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mprove the incomes of working famil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strengthen work incentives for unemployed par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ake it easier for families to access financial assist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Johnson, N. (2005). ‘Working for Families’ in New Zealand: Some Early Lessons. http://www.fulbright.org.nz/voices/axford/johnson.html. Accessed 26 August 2008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Components of W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0" y="1197000"/>
            <a:ext cx="91346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THNR Analysis - 3 P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14240" y="1557000"/>
            <a:ext cx="7972560" cy="4691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dentification of households in the THNR dataset with characteristics qualifying them to receive W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escriptive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quantitativ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analysis of the longitudinal dataset of Māori househo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llection of new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qualitative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ata on whānau wellb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4000" y="1699920"/>
            <a:ext cx="7972200" cy="4692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HNR survey collected data on broad range of issues includ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nomic Living Standards Indicator (ELS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first part of the research examined changes in living standards of whānau using data from households interviewed in Wave 4 (2004-2007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he second part of the research examined changes in the living circumstances of households between Wave 4 and Wave 5 of THNR and looked at the </a:t>
            </a:r>
            <a:r>
              <a:rPr b="0" i="1" lang="en-AU" sz="2600" spc="-1" strike="noStrike">
                <a:solidFill>
                  <a:srgbClr val="000000"/>
                </a:solidFill>
                <a:latin typeface="Arial"/>
              </a:rPr>
              <a:t>effect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of these changes on living standar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Sa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26920" y="1413000"/>
          <a:ext cx="7561440" cy="5208480"/>
        </p:xfrm>
        <a:graphic>
          <a:graphicData uri="http://schemas.openxmlformats.org/drawingml/2006/table">
            <a:tbl>
              <a:tblPr/>
              <a:tblGrid>
                <a:gridCol w="2065680"/>
                <a:gridCol w="981000"/>
                <a:gridCol w="1150920"/>
                <a:gridCol w="852480"/>
                <a:gridCol w="2511360"/>
              </a:tblGrid>
              <a:tr h="1224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anau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ave 4 s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ave 5 s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1590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fore W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fter W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1224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FF-elig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858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t elig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858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00:04:57Z</dcterms:created>
  <dc:creator>Heather</dc:creator>
  <dc:description/>
  <dc:language>en-US</dc:language>
  <cp:lastModifiedBy>Amohia</cp:lastModifiedBy>
  <dcterms:modified xsi:type="dcterms:W3CDTF">2012-07-03T00:30:59Z</dcterms:modified>
  <cp:revision>201</cp:revision>
  <dc:subject/>
  <dc:title>Slide 1</dc:title>
</cp:coreProperties>
</file>