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B1F2-F6F6-4BCA-928E-6808282744D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2FA0-77CE-467E-A2F1-C663B0BBC699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8009-218F-4F02-9B83-B72497AFF919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B3CB-4859-4F3B-8D5F-60C0B1BCD633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747B-969C-4EE6-8B06-B7CC7EA57D9C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D3D8-C2CF-453B-A7B2-00892CDA4C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E303-0EC0-4791-9A0D-4FAB6272B2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FF72-2DC6-4739-93CF-29FC143C7A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77B4-0F6A-4DE7-B975-8E853D6A252E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F1A-8A1B-413A-98C2-84D8F439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C87-2104-4652-A5CF-49DE78C9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8B4-6CFC-4D82-99D4-7E9E8D90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A1F-2FD2-402C-B250-C1BEDDE7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784-5557-4C2A-B611-F7014440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822-2305-4D93-939E-607AFDA6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289-8D8C-4370-A62D-488921E5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962-C1A7-4E43-9DDC-65AD7A4B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F3F-D038-406F-9077-67C61E65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565-A940-4FDF-A187-9041F533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3C6-CB14-49DF-8680-B6DFA112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2D4-05F6-42E8-BCBF-9CE66B6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0FA9-474D-4D0E-9852-F4074A81377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6993-6A1A-4AE3-AC89-D80358E41318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0000"/>
                </a:solidFill>
                <a:latin typeface="Magneto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8a0000"/>
                </a:solidFill>
                <a:latin typeface="Calibri"/>
              </a:rPr>
              <a:t>Tu Toa Tu Maia:  </a:t>
            </a:r>
            <a:r>
              <a:rPr b="1" lang="en-NZ" sz="2800" spc="-1" strike="noStrike">
                <a:solidFill>
                  <a:srgbClr val="8a0000"/>
                </a:solidFill>
                <a:latin typeface="Calibri"/>
              </a:rPr>
              <a:t>Implementing an indigenous gambling harm minimisation model in </a:t>
            </a:r>
            <a:br>
              <a:rPr sz="2800"/>
            </a:br>
            <a:r>
              <a:rPr b="1" lang="en-NZ" sz="2800" spc="-1" strike="noStrike">
                <a:solidFill>
                  <a:srgbClr val="8a0000"/>
                </a:solidFill>
                <a:latin typeface="Calibri"/>
              </a:rPr>
              <a:t>community-based health services</a:t>
            </a:r>
            <a:r>
              <a:rPr b="1" lang="en-US" sz="2800" spc="-1" strike="noStrike">
                <a:solidFill>
                  <a:srgbClr val="8a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NZ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 Health Services &amp; Policy Research  Con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Adelaide 5-7</a:t>
            </a:r>
            <a:r>
              <a:rPr b="1" lang="en-NZ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 December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Hilton Hot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Dr. Laurie Morrison – Auckland University of Technology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Layla Lyndon-Tonga – Nga Manga Puriri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Dr. Amohia Boulton – Whakauae Research Centre</a:t>
            </a:r>
            <a:r>
              <a:rPr b="0" lang="en-NZ" sz="1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7" descr="http://t1.gstatic.com/images?q=tbn:ANd9GcQAWhhF4k5KDINeJY2pWAYpU8_quRDpKIxTnOHSSlPhKsUkO86vd-kGl_Gx"/>
          <p:cNvPicPr/>
          <p:nvPr/>
        </p:nvPicPr>
        <p:blipFill>
          <a:blip r:embed="rId1"/>
          <a:stretch/>
        </p:blipFill>
        <p:spPr>
          <a:xfrm>
            <a:off x="3851280" y="2133720"/>
            <a:ext cx="144468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Spurting Geysers - Te Puia, Rotorua"/>
          <p:cNvPicPr/>
          <p:nvPr/>
        </p:nvPicPr>
        <p:blipFill>
          <a:blip r:embed="rId2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Spurting Geysers - Te Puia, Rotorua"/>
          <p:cNvPicPr/>
          <p:nvPr/>
        </p:nvPicPr>
        <p:blipFill>
          <a:blip r:embed="rId3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Spurting Geysers - Te Puia, Rotorua"/>
          <p:cNvPicPr/>
          <p:nvPr/>
        </p:nvPicPr>
        <p:blipFill>
          <a:blip r:embed="rId4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5"/>
          <p:cNvSpPr/>
          <p:nvPr/>
        </p:nvSpPr>
        <p:spPr>
          <a:xfrm>
            <a:off x="63360" y="-406440"/>
            <a:ext cx="109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63360" y="-406440"/>
            <a:ext cx="109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9" descr="http://t3.gstatic.com/images?q=tbn:ANd9GcTIM-H0JiBKDjT7FcsT2pDQgI_JBEeJqzUqvgi6CshYNsK5V46ZhA"/>
          <p:cNvPicPr/>
          <p:nvPr/>
        </p:nvPicPr>
        <p:blipFill>
          <a:blip r:embed="rId5"/>
          <a:srcRect l="0" t="0" r="0" b="3737"/>
          <a:stretch/>
        </p:blipFill>
        <p:spPr>
          <a:xfrm>
            <a:off x="7308720" y="1700280"/>
            <a:ext cx="1800360" cy="244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The Mount.bmp"/>
          <p:cNvPicPr/>
          <p:nvPr/>
        </p:nvPicPr>
        <p:blipFill>
          <a:blip r:embed="rId6"/>
          <a:stretch/>
        </p:blipFill>
        <p:spPr>
          <a:xfrm>
            <a:off x="1979640" y="2205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http://t2.gstatic.com/images?q=tbn:ANd9GcQL-eLATdLmK2yxTp27-9hA2qcP9IfqhlaRq0n8uJdqt2vDc0eYCw"/>
          <p:cNvPicPr/>
          <p:nvPr/>
        </p:nvPicPr>
        <p:blipFill>
          <a:blip r:embed="rId7"/>
          <a:srcRect l="23264" t="0" r="0" b="13259"/>
          <a:stretch/>
        </p:blipFill>
        <p:spPr>
          <a:xfrm>
            <a:off x="-1440" y="2349360"/>
            <a:ext cx="1981080" cy="151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http://t1.gstatic.com/images?q=tbn:ANd9GcTXtfqVwPKa6vFZK9xZCyaGo-yyPwce7AogchLGVr1y9VBMZvvRRIZdO5RK"/>
          <p:cNvPicPr/>
          <p:nvPr/>
        </p:nvPicPr>
        <p:blipFill>
          <a:blip r:embed="rId8"/>
          <a:stretch/>
        </p:blipFill>
        <p:spPr>
          <a:xfrm>
            <a:off x="5292720" y="2205000"/>
            <a:ext cx="2016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Lessons Learnt – Tai Tokera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ack of Maori Problem Gambling Mod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ailored the resource to suit local con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tegrating the resource across existing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Age specificity ie, not acceptable with you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Implic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tervention and resource development needs to consi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community vision and long-term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self-empowerment  &amp;  ownership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Community, Rangatahi, Kaumatua participation in every aspect of resource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local 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ole of decision makers  to support intervention (e.g. government /iwi mandated advisory committe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Implic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ecessary to create an environment of resp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espect and inclusion of Maori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espect for commun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Inclusiveness i.e. kaumatua, pakeke and rangatah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Legitimacy of Maori epistem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Understanding of ecological relationshi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ommunities have a responsibility to transmit Maori knowledge and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OWEVER.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Responsibility must be sha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ommunities must be supported to participate in the development of appropriate and relevant health service initia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a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375920"/>
            <a:ext cx="702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ealth Research Counci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aupua Waiora Maori Health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ga Manga Purir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Whakaue Research Cent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ga Pae o Te Maramatang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hrc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3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AUT b&amp;w"/>
          <p:cNvPicPr/>
          <p:nvPr/>
        </p:nvPicPr>
        <p:blipFill>
          <a:blip r:embed="rId2"/>
          <a:stretch/>
        </p:blipFill>
        <p:spPr>
          <a:xfrm>
            <a:off x="7790040" y="1557360"/>
            <a:ext cx="1353960" cy="127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NMP.jpg"/>
          <p:cNvPicPr/>
          <p:nvPr/>
        </p:nvPicPr>
        <p:blipFill>
          <a:blip r:embed="rId3"/>
          <a:stretch/>
        </p:blipFill>
        <p:spPr>
          <a:xfrm>
            <a:off x="8115480" y="3213000"/>
            <a:ext cx="1028520" cy="194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Nga Pae.jpg"/>
          <p:cNvPicPr/>
          <p:nvPr/>
        </p:nvPicPr>
        <p:blipFill>
          <a:blip r:embed="rId4"/>
          <a:stretch/>
        </p:blipFill>
        <p:spPr>
          <a:xfrm>
            <a:off x="0" y="5924520"/>
            <a:ext cx="3809880" cy="93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WRS Logo for Outlook Email"/>
          <p:cNvPicPr/>
          <p:nvPr/>
        </p:nvPicPr>
        <p:blipFill>
          <a:blip r:embed="rId5"/>
          <a:stretch/>
        </p:blipFill>
        <p:spPr>
          <a:xfrm>
            <a:off x="7572240" y="5616720"/>
            <a:ext cx="1571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rcRect l="0" t="0" r="3411" b="11169"/>
          <a:stretch/>
        </p:blipFill>
        <p:spPr>
          <a:xfrm>
            <a:off x="0" y="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357120" y="501336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tact Deta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r Laurie Mor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b: +64 02725956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m: laurie.morrison@aut.ac.n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05228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Gambling misuse amongst Māori is a critical public health 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ittle investment has been made in indigenous inter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Mainstream initiatives imposed on Maor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Maori consulted post initia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his does not reflect partnership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Calibri"/>
              </a:rPr>
              <a:t>Background – Development of the Tool in Te Araw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Context Relev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Providing appropriate cultural con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raditional knowledge is valid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earning is a holistic proces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inengaro (emotional effect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Wairua       (reflective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inana        (listening and do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itiro           (watching and monitor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Community Responsi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Localising Resour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Linking providers’ needs and abilities with community aspiration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Promoting specialized train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Sharing, adapting and iwi (tribal) specific knowled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93116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0000"/>
                </a:solidFill>
                <a:latin typeface="Calibri"/>
              </a:rPr>
              <a:t>Hei Tiki: Commitment to cul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14880" y="1228320"/>
            <a:ext cx="447192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ik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ymbolizes good lu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kitiki – Pokie mach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s a rationale for continuing to gam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s to keep you connected to cul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suse of gambling icons has the potential to mislea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DSC00357"/>
          <p:cNvPicPr/>
          <p:nvPr/>
        </p:nvPicPr>
        <p:blipFill>
          <a:blip r:embed="rId1"/>
          <a:srcRect l="20847" t="6939" r="19865" b="0"/>
          <a:stretch/>
        </p:blipFill>
        <p:spPr>
          <a:xfrm>
            <a:off x="436680" y="1268280"/>
            <a:ext cx="37036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DSC00357"/>
          <p:cNvPicPr/>
          <p:nvPr/>
        </p:nvPicPr>
        <p:blipFill>
          <a:blip r:embed="rId1"/>
          <a:srcRect l="13079" t="13965" r="9481" b="6989"/>
          <a:stretch/>
        </p:blipFill>
        <p:spPr>
          <a:xfrm>
            <a:off x="187164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Powhiri Tool: Safe Gambling Checklis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Activity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 Waharo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arang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Marae ate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ikorero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aiat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oh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ariru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akari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 Take o Marae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Applica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epar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onnec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Prote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Gambling behaviou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Losing sight of re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Attraction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Loss of man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Over compensatin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Identifying conflic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Lessons Lear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ulturally congruent re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Relevant , Acceptable, Meaningfu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Appropriate education and training resou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formed indigenous and non-indigenous community based health work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Application of the resou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Content Placeholder 4" descr=""/>
          <p:cNvPicPr/>
          <p:nvPr/>
        </p:nvPicPr>
        <p:blipFill>
          <a:blip r:embed="rId1"/>
          <a:stretch/>
        </p:blipFill>
        <p:spPr>
          <a:xfrm>
            <a:off x="311040" y="1554120"/>
            <a:ext cx="865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7:48:11Z</dcterms:created>
  <dc:creator>Laurie</dc:creator>
  <dc:description/>
  <dc:language>en-US</dc:language>
  <cp:lastModifiedBy>Amohia</cp:lastModifiedBy>
  <dcterms:modified xsi:type="dcterms:W3CDTF">2011-12-12T20:41:00Z</dcterms:modified>
  <cp:revision>97</cp:revision>
  <dc:subject/>
  <dc:title>Slide 1</dc:title>
</cp:coreProperties>
</file>