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CB50-56EF-4639-A876-73C909F7B66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38E-7DF3-4F94-BC56-20716C63AE2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4DC-68F2-44C7-BD2D-CEA9C96AAC0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19DC-E79E-4346-9599-02021854924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AA3-66FB-4285-888A-91EA33A0AFF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3B1-DA3E-4B1A-A1EA-A7D1A9B25D4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57F-D792-4237-9E48-C9D8E23534B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2440-71F6-4D13-8758-C4C0E523EB8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E59C-7A86-494F-8692-4C1791E0CBB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640-F08A-428E-8BDB-FEC51BA829F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750-15B5-40B9-9BB7-E620480FFFB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317-FA67-46D9-8D3E-72F3065076C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F9C0-C9D2-46F4-8C0C-6487673A100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3FDB-BB44-463C-9D7D-1507BC63015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A88-4CC1-4461-8E25-DEA4C01D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C37-E6B8-4862-83BC-AD5BC8E8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C02-C9C4-45B4-BC3F-F993A5F0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291-A057-43EA-BF1C-1BF21DAB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93C-7A5A-4E69-920A-5DA9FAE8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174-313C-44BF-93D6-BC4133E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7CEC-900F-4A79-B358-73C84A9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973-1224-4B26-8581-6B00F1A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D6E-340F-45F4-A9D6-04D56FC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F36-0A37-40A3-BBF3-1C926309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F80-701F-4329-8034-497FFB1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999-18B3-47CF-A3B2-8500A7B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CD4-ED99-406B-B91E-C3BFF9B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BCF8-A908-4763-B82C-C9D64A7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4F5C-ED7C-4AB0-B308-1BFF0FD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7C5-E9AD-43C6-A9D3-4C7E3111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1F7D-B33B-4074-BA9C-2DA83B91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B4B5-B100-48E2-B898-D300E743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F01E-BB17-48A2-A73E-1EA73EE6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E8CE-0EEF-447D-BF8E-681853F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B637-36DD-4B83-A56C-3BCAABE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2605-81E6-44C2-A86A-7F8BFB8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DC5-8111-43CC-9699-4849110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2F90-4169-4789-BC42-C13E97B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8CA5-3AAF-4378-AF1C-CB2DA21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D09B-7268-4D74-BDEA-BADDC60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7ABC-3289-4F6F-AA0E-9775E15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E585-F53A-45F2-BDCA-167F683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6589-DD8A-4733-B0CE-3F29A2F3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816A-4943-49A1-A888-4E59C40B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A58-9E7D-4DCA-9012-E72F344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16C-C6E6-4A23-B923-388DBF9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59C-F00B-43E9-98CF-DB14DD1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100-F17D-427D-AFE7-348B5E3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745-3BAE-4BB8-B499-4715D2B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41B-DF06-437D-9F66-DDE06C2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5C6-0A87-473A-9DF2-BB7EF71B750E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0" y="560556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7"/>
          <a:stretch/>
        </p:blipFill>
        <p:spPr>
          <a:xfrm>
            <a:off x="3995640" y="582120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8"/>
          <a:stretch/>
        </p:blipFill>
        <p:spPr>
          <a:xfrm>
            <a:off x="7942320" y="4784760"/>
            <a:ext cx="1201680" cy="2073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B98A-764B-49BE-8914-1C8B28E81096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DA74-C7A0-4B0D-B827-19B8B27C7D0F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395280" y="4589640"/>
            <a:ext cx="82580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mohia Boulton, Heather Gifford, Jackie Cumming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Jennifer Tame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ealth Services and Policy Research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6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60336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We can’t actually help them unless they want to be helped”: </a:t>
            </a:r>
            <a:r>
              <a:rPr b="1" lang="en-NZ" sz="2800" spc="-1" strike="noStrike">
                <a:solidFill>
                  <a:srgbClr val="003300"/>
                </a:solidFill>
                <a:latin typeface="Comic Sans MS"/>
              </a:rPr>
              <a:t>the extent to which Māori health service providers can contribute to building more resilient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4240" y="1676520"/>
            <a:ext cx="43624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the coll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raditional examples of collective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dern challenges to the traditional family unit requires a new form of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9992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Impact on resilience</a:t>
            </a:r>
            <a:br>
              <a:rPr sz="4400"/>
            </a:b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f engagement with a M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191628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vider may provide the impetus for change in  behaviour or lif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offering support &amp; “dictating” to the cl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le model for whānau &amp; supports individuals &amp; whānau to become self sufficie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“doing for”                                &amp; “empowering” cli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24360" y="4869000"/>
            <a:ext cx="3294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s Māori processes and strengthens Māori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ong governance and leadership who role model the highest ethical, cultural, and profession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ff have the “right” mix                           of professional and                       personal val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850000" y="4405320"/>
            <a:ext cx="329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public health and primary healthcare facilities under one roof - physically locat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41760" y="335772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779400" y="2860560"/>
            <a:ext cx="37623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reach services for more rural and isolated members of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ap-around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484280"/>
            <a:ext cx="8188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āori  primary health care providers can and do support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PH providers must use the full range of resources at their disposal to configure services to support those want to take the journey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whānau ora are linked: whānau ora will not be achieved without whānau being resi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managers and sta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gā Pae o te Māramata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hia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Establishing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est for Proposals 2008 from four funders: Ngā Pae o te Maramatanga, Health Research Council of NZ, ACC, 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onducted between 2009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research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FP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mmissioners had two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seek research that would focus on “whānau resilience”, i.e. the collective health and wellbeing of whānau at a level beyond individuals, families and individual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address factors that both promote and contribute to whānau health by maximising whānau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 Amohia Boulton (Lead),                      Dr Heather Gifford,                            Lynley Cvitanovic (WRMH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oc. Prof Jackie Cumming,           H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Jennifer Tamehana,                           CEO, TOIHA P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amohia\AppData\Local\Microsoft\Windows\Temporary Internet Files\Content.Outlook\NRJ87GL0\Jackie Cumming.jpg"/>
          <p:cNvPicPr/>
          <p:nvPr/>
        </p:nvPicPr>
        <p:blipFill>
          <a:blip r:embed="rId1"/>
          <a:stretch/>
        </p:blipFill>
        <p:spPr>
          <a:xfrm>
            <a:off x="7236000" y="3933720"/>
            <a:ext cx="1672920" cy="22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Amohia_2\Desktop\Jen cropped.jpg"/>
          <p:cNvPicPr/>
          <p:nvPr/>
        </p:nvPicPr>
        <p:blipFill>
          <a:blip r:embed="rId2"/>
          <a:stretch/>
        </p:blipFill>
        <p:spPr>
          <a:xfrm>
            <a:off x="4791240" y="4941720"/>
            <a:ext cx="2055600" cy="168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15415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Amohia_2\AppData\Local\Microsoft\Windows\Temporary Internet Files\Low\Content.IE5\DL2BDISJ\LC[1].JPG"/>
          <p:cNvPicPr/>
          <p:nvPr/>
        </p:nvPicPr>
        <p:blipFill>
          <a:blip r:embed="rId4"/>
          <a:stretch/>
        </p:blipFill>
        <p:spPr>
          <a:xfrm>
            <a:off x="7392960" y="1484280"/>
            <a:ext cx="1484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ur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000" y="14842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find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f the idea of “resilience” has any place in Māori primary healthcare (MPH)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ways in which whānau resilience is enhanced by MPH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ink between resilience and whānau 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resear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forms practi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ributes to Māori developmental aspi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67652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terature review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velopment of the conceptual frame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informant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staff, managers and governance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quential 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series of in-depth focus groups with TOIHA consumers (2 groups comprising 6-8 memb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t regularly over four wee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at we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understandings of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engagement with a MPH provider has impacted on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MPH provider resources/ mechanisms contribute to enhanced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0920" y="198900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ner strength, “toughness’,                      flexibility, resourceful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aving values which allow                                        an individual to overcome                                 advers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lies on connections to people &amp;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regarding resilience being a “learned” attribute or on why some people appear more resilient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375160" y="2054160"/>
            <a:ext cx="35593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3880" y="1844280"/>
            <a:ext cx="774540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vement away from risk, harm, or a “bad” life to one which is “better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quires a cataly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on why,                                  when or how the journey                                    is instigat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5651640" y="2862360"/>
            <a:ext cx="2801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3-08T01:46:12Z</dcterms:modified>
  <cp:revision>169</cp:revision>
  <dc:subject/>
  <dc:title>Slide 1</dc:title>
</cp:coreProperties>
</file>