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AA2A-9DC6-48F6-9E7E-9B78DFBB5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13E5-45B9-4AD8-B0C8-C901FA4AB3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431E-00DA-4C86-8803-0197E57E8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7A1F-BC70-462D-821F-B3035EA1D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A64-2F67-46CE-91A8-ECE9FCB9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5614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4B7-82D9-4569-B62C-2084C224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38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9C9-2FB1-42A7-A1D5-A6FC3055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3076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6660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3076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46660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700-AD19-46CA-8313-0CFC4814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526-0710-4A10-9DA0-675B268D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269-4BF4-4C1A-A187-D0B15DAC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361-20A5-482B-A1DB-677B54A2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22F-4C4E-4847-8E85-31974BA3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764-AA24-43F8-B27C-A4AD0D74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204-1663-4D99-BC90-B9871767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38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4A0-0F85-4090-8238-C5C197D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7CE-0011-498D-B7FD-FAF97C1F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WRS Logo for Outlook Email"/>
          <p:cNvPicPr/>
          <p:nvPr/>
        </p:nvPicPr>
        <p:blipFill>
          <a:blip r:embed="rId3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3635280" y="5589720"/>
            <a:ext cx="1908360" cy="126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3" descr=""/>
          <p:cNvPicPr/>
          <p:nvPr/>
        </p:nvPicPr>
        <p:blipFill>
          <a:blip r:embed="rId6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"/>
          <p:cNvPicPr/>
          <p:nvPr/>
        </p:nvPicPr>
        <p:blipFill>
          <a:blip r:embed="rId7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4DCF-58B5-44AF-A81B-83464EA4C9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97a"/>
                </a:solidFill>
                <a:latin typeface="Arial"/>
              </a:rPr>
              <a:t>Consolidating our Strengths: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920" y="4220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Amohia Boulton, Gill Pirikahu, Jennifer Tamehan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INIHKD Conference, Poulsbo, WA, US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25 May 2010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571680" y="2428920"/>
            <a:ext cx="785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llaboration as a means to further contemporary Indigenous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Manākitanga – Unique Contribution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wealth of experience in service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 understanding of their community, of the community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“grounded” reality to challenge the thinking of the acade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Manākitanga – Unique Contribution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RMHD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perience in academic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 understanding of the needs of policy and funding bodies, in both the research and health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bility to translate Māori community knowledge into palatable findings for the academy a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iakitanga – Caring for Each Other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05228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pect for each other’s strengths and abiliti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mmunication is vital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pect for participant’s knowled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Desire for the research to contribute to service improvement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and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new   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knowledge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he Story So Far?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Literature review has thrown up some challenges for the projec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nceptually demand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First round of interviews finish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Beginning dissemination in a range of fora (academic and community-based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earch and the partnership are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gressing wel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IHA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IHA Managers and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nganui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fund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ealth Services Research Cent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RMHD staff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collabor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ho we a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inciples underpinning the collabor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inciples in practi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Research Collaboration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s the concept of “resilience” relevant in Māori primary health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s “resilience” a relevant or useful concept for Māori whānau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ow can whānau resilience be supported and enhanced by Māori primary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ealth services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Whakauae Research for Māori Health and Development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5640" y="1700280"/>
            <a:ext cx="401004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ā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i Hauiti  - an Iwi (tribe) from Central Rangitikei, Aotearo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akauae  - Iwi research unit of/for Ngāti Hauiti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" name="Picture 9" descr="C:\Documents and Settings\Heather\My Documents\My Pictures\Picture Package\'05_09_10_01\DCIM\101MSDCF\DSC00659.JPG"/>
          <p:cNvPicPr/>
          <p:nvPr/>
        </p:nvPicPr>
        <p:blipFill>
          <a:blip r:embed="rId1"/>
          <a:stretch/>
        </p:blipFill>
        <p:spPr>
          <a:xfrm>
            <a:off x="32400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Content Placeholder 2"/>
          <p:cNvSpPr/>
          <p:nvPr/>
        </p:nvSpPr>
        <p:spPr>
          <a:xfrm>
            <a:off x="1476360" y="5157720"/>
            <a:ext cx="53578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ibally owned and accountable</a:t>
            </a: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e Oranganui Iwi Health Authority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4280"/>
            <a:ext cx="84009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nter-tribal organisation governed by 3 Iwi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141 staff, 6 service entities, 1 support servi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tected by a cultural framework, Te Pitau Whakara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itau Whakarae based on the values and principles encapsulated within the  Kaupapa Ake (Vision Statement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How these Elements Fit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928800" y="1000080"/>
            <a:ext cx="7013520" cy="4929120"/>
            <a:chOff x="928800" y="1000080"/>
            <a:chExt cx="7013520" cy="4929120"/>
          </a:xfrm>
        </p:grpSpPr>
        <p:sp>
          <p:nvSpPr>
            <p:cNvPr id="70" name="AutoShape 5"/>
            <p:cNvSpPr/>
            <p:nvPr/>
          </p:nvSpPr>
          <p:spPr>
            <a:xfrm>
              <a:off x="928800" y="1000080"/>
              <a:ext cx="7013520" cy="49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1873080" y="1369800"/>
              <a:ext cx="18882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GOVERN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wi Clinical &amp; Provi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1873080" y="1985400"/>
              <a:ext cx="1888200" cy="61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HR, QIM,  Clinical, Cultural &amp; Fi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4300560" y="1616400"/>
              <a:ext cx="1753200" cy="61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DVISORY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mmitte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Group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1873080" y="2724840"/>
              <a:ext cx="1888200" cy="73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PERATIONS /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ervice Leaders / Manag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Front line Primary Health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2817000" y="4204080"/>
              <a:ext cx="2967120" cy="61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 Narrow"/>
                </a:rPr>
                <a:t>MODELL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ervice models, Maori health models, Strate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1738080" y="1000080"/>
              <a:ext cx="56646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 Narrow"/>
                </a:rPr>
                <a:t>WHANAU ORA –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al Driven Service Delivery Model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1738080" y="5436360"/>
              <a:ext cx="566460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 Narrow"/>
                </a:rPr>
                <a:t>TE PITAU WHAKARAE – Organisational Cultural Quality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4300560" y="2478960"/>
              <a:ext cx="1753200" cy="73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INFORMATION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2817000" y="3587400"/>
              <a:ext cx="2967120" cy="4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 Narrow"/>
                </a:rPr>
                <a:t>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Full administration, finance, service assist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6863400" y="1739520"/>
              <a:ext cx="404280" cy="34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>
              <a:off x="6998040" y="1246680"/>
              <a:ext cx="0" cy="49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7"/>
            <p:cNvSpPr/>
            <p:nvPr/>
          </p:nvSpPr>
          <p:spPr>
            <a:xfrm>
              <a:off x="6998040" y="5189400"/>
              <a:ext cx="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8"/>
            <p:cNvSpPr/>
            <p:nvPr/>
          </p:nvSpPr>
          <p:spPr>
            <a:xfrm>
              <a:off x="2817000" y="18622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2817000" y="26020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0"/>
            <p:cNvSpPr/>
            <p:nvPr/>
          </p:nvSpPr>
          <p:spPr>
            <a:xfrm>
              <a:off x="2817000" y="34642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"/>
            <p:cNvSpPr/>
            <p:nvPr/>
          </p:nvSpPr>
          <p:spPr>
            <a:xfrm>
              <a:off x="2817000" y="408132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2"/>
            <p:cNvSpPr/>
            <p:nvPr/>
          </p:nvSpPr>
          <p:spPr>
            <a:xfrm>
              <a:off x="2815920" y="4820040"/>
              <a:ext cx="1800" cy="12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3"/>
            <p:cNvSpPr/>
            <p:nvPr/>
          </p:nvSpPr>
          <p:spPr>
            <a:xfrm flipH="1" flipV="1">
              <a:off x="5784120" y="3834360"/>
              <a:ext cx="269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 flipH="1">
              <a:off x="5784120" y="4449960"/>
              <a:ext cx="1078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 flipH="1">
              <a:off x="5784120" y="5189400"/>
              <a:ext cx="26964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6"/>
            <p:cNvSpPr/>
            <p:nvPr/>
          </p:nvSpPr>
          <p:spPr>
            <a:xfrm flipH="1">
              <a:off x="1467720" y="112284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7"/>
            <p:cNvSpPr/>
            <p:nvPr/>
          </p:nvSpPr>
          <p:spPr>
            <a:xfrm>
              <a:off x="1468080" y="1122840"/>
              <a:ext cx="0" cy="44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>
              <a:off x="1468080" y="55594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7402680" y="112284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>
              <a:off x="7672680" y="1122840"/>
              <a:ext cx="0" cy="44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 flipH="1">
              <a:off x="7402320" y="55594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 flipH="1">
              <a:off x="4165560" y="186228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4165560" y="1862280"/>
              <a:ext cx="0" cy="11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4165560" y="297180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5"/>
            <p:cNvSpPr/>
            <p:nvPr/>
          </p:nvSpPr>
          <p:spPr>
            <a:xfrm flipH="1">
              <a:off x="3760920" y="2355120"/>
              <a:ext cx="4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6"/>
            <p:cNvSpPr/>
            <p:nvPr/>
          </p:nvSpPr>
          <p:spPr>
            <a:xfrm flipH="1" flipV="1">
              <a:off x="3760920" y="1616400"/>
              <a:ext cx="404280" cy="73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7"/>
            <p:cNvSpPr/>
            <p:nvPr/>
          </p:nvSpPr>
          <p:spPr>
            <a:xfrm flipH="1">
              <a:off x="3760920" y="2355120"/>
              <a:ext cx="404280" cy="61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8"/>
            <p:cNvSpPr/>
            <p:nvPr/>
          </p:nvSpPr>
          <p:spPr>
            <a:xfrm>
              <a:off x="6054120" y="186228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9"/>
            <p:cNvSpPr/>
            <p:nvPr/>
          </p:nvSpPr>
          <p:spPr>
            <a:xfrm>
              <a:off x="6188760" y="1862280"/>
              <a:ext cx="0" cy="11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0"/>
            <p:cNvSpPr/>
            <p:nvPr/>
          </p:nvSpPr>
          <p:spPr>
            <a:xfrm flipH="1">
              <a:off x="6054120" y="297180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188760" y="2355120"/>
              <a:ext cx="6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6054120" y="3834360"/>
              <a:ext cx="0" cy="135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3"/>
            <p:cNvSpPr/>
            <p:nvPr/>
          </p:nvSpPr>
          <p:spPr>
            <a:xfrm>
              <a:off x="2817000" y="5313600"/>
              <a:ext cx="720" cy="122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he Research Collaboration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126828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 and WRMHD share a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whakapapa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(genealogical) conn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 and WRMHD share a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kaupapa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(project) relationship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Our shared kaupapa - to understand the health and social services and practices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quired that best support whānau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Principles Underpinning the Work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1430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Kotahitanga – a unity of worldview, purpose and dir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Manākitanga – recognising and respecting each other’s unique contribution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iakitanga – acting in a manner which respects the people who participate and for whom the research is being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nduct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Kotahitanga – Unity of Purpose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topic is an important one for both organisations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earch design and methodology meet the need for academic rigour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mmunity rigou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Joint data collection, analysis,      publication, and dissemination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44:02Z</dcterms:created>
  <dc:creator>tteki</dc:creator>
  <dc:description/>
  <dc:language>en-US</dc:language>
  <cp:lastModifiedBy>Reviewer 1</cp:lastModifiedBy>
  <dcterms:modified xsi:type="dcterms:W3CDTF">2010-06-04T01:47:21Z</dcterms:modified>
  <cp:revision>24</cp:revision>
  <dc:subject/>
  <dc:title>Slide 1</dc:title>
</cp:coreProperties>
</file>