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429E-9226-4F0A-B469-D8AC9D637DF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D5D0-6C8E-4D1B-BD09-062418AB5AC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FF4A-FA84-41E8-AA42-91B6CCA277C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2742-B403-4B05-A817-F80C17515CD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879A-B761-4458-BA67-F00B1C7DEEC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7D2A-E51B-45D0-920D-803812BF610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6929-7DAF-442F-9023-8FA15EDE43E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0F5B-7DA0-4449-BA70-47682228167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F860-2797-4151-9ECE-561BE7D9397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A44A-02E8-467F-A1E3-15009C79B6B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9D44-0E61-4D98-AC0D-DADD3B9C3DB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CB9F-329D-493F-A93C-9AA9DA5FA1A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F407-53C3-41BD-8B58-52FC00AAC79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59B1-D864-4BC6-99E4-70043390EB9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F16C-63BE-4029-B43A-357BC04EA96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3584-F1EA-45DE-9646-1C7F277F156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3F4E-ED86-4D80-885E-A03C8EC1403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6CF1-D1CF-4929-BA2D-D87F2451197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41E0-B779-41B3-9160-7AC1CBE065D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49BE-B930-4403-A0E8-70D844B56AA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4A00-D455-4557-B4FC-70984E8741E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4D28-2B42-49AF-B648-AB0834F879B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166B-3E8D-45DB-AF6F-A955CB331EA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42C2-62CD-4378-BF95-659F1DF5878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D17C-34B9-423E-B549-8A86535A279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584B-56A4-4AE0-98DB-39014D3E6E3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9EC8-9E3F-45D3-8999-0CB96FE34B9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8914-E0A6-4EAF-96D3-DE53AF677EA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B431-CDA1-4481-ACE8-E1B92E6FFAA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4A24-282F-4742-B2F9-C990C1C95AC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916F-A4DD-492E-9652-95671CA7725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DA58-F765-4CED-910A-D8F452B3831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EC77-F760-4F8E-8F96-21A604BC04C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8781-1580-4DAD-83BC-E6900805340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7A8A-58FB-42EF-9E38-F66668F060D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3B21-D4C6-45C8-8318-BF11D7053B9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BD1A-4F6F-4963-9F32-378D285D8D6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4DE8-A03E-4FB0-8208-3D4C2E679CE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B7B3-C9A1-496E-915A-5D8CF652CAB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093D-CCBE-428F-93A9-FFAFEACC634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5052-716C-41AE-905D-F00DCFBDAF3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5674-C0F6-4323-B539-5D9DAEE45B7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CD63-8386-4D3B-8738-7C77567D7AB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F744-0E80-4368-81E1-EF40787744A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E319-347B-4039-A0A6-AF88EB81097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4C90-E23E-4C77-A3AD-5A28CFFA689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82F9-903E-4DAC-B9EC-ECF4BBECC24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D162-263E-43C2-B175-A027766D0F0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42B0-DFB6-4AF7-965B-AF673E27051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8EC0-9188-4832-BE8D-237ECB5DDA1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40D0-DCC3-4AE7-9158-74E72AC7975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230C-B298-4FC1-AED2-3813B7893AD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FD5F-CAF8-485C-A3F5-43436524F2D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216C-DB4B-40B4-9EA3-7006E9F52D1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F249-02C2-4F82-B6CC-14581BD3C06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F6B-E579-42DF-809A-9B7B3F79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C9A-92EF-427B-A030-32D44BD7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BF6-5315-4230-8B73-0BAC7713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1120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364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2876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1120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364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FF8-E6D6-419F-B3B8-67A4A203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5A1D-7021-4E38-BF26-282090E4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AD18-D065-43AF-AEA0-3347CFC6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DC1B-3202-4EB9-A066-747F6ABC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78BC-65F1-484B-9520-5AB32996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8241-8FC7-48EF-8104-1FC57B9D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EE39-126E-43AC-BAA9-F98B4807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96E6-1370-43C0-B3AA-DCE1754E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693-86E9-4F12-9412-96699FE6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0090-A7A6-48F4-93F2-947D204E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FA83-F3B1-4CE5-B924-A1C705CF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6F2B-935A-430C-82A5-DE558537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F980-B078-4F22-BF94-3B13274C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1120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9364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76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1120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9364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F842-E09B-4271-9C4E-D9DC16C7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E95-190F-4498-BA16-B434CCB0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8D1-1B82-459C-8737-311F8D17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94D-3836-4789-B203-766F7D95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BD2-9ACA-4AA6-A442-56B40DF3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BE5-665D-4689-96FC-F068D343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44E-D05E-4B96-9166-45FD612C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99F-C8CC-42BB-85C4-F6F9FD3B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615960" y="1768320"/>
            <a:ext cx="8010360" cy="448020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7B3E-6696-47AB-BF11-5B20B7956D0E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62720" cy="647640"/>
              <a:chOff x="-36360" y="189000"/>
              <a:chExt cx="916272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40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5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3640"/>
              <a:ext cx="9180720" cy="561600"/>
              <a:chOff x="-36360" y="233640"/>
              <a:chExt cx="918072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3640"/>
                <a:ext cx="9165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615960" y="1768320"/>
            <a:ext cx="8010360" cy="44802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62720" cy="647640"/>
              <a:chOff x="-36360" y="189000"/>
              <a:chExt cx="916272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40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5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3640"/>
              <a:ext cx="9180720" cy="561600"/>
              <a:chOff x="-36360" y="233640"/>
              <a:chExt cx="918072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3640"/>
                <a:ext cx="9165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5" descr=""/>
          <p:cNvPicPr/>
          <p:nvPr/>
        </p:nvPicPr>
        <p:blipFill>
          <a:blip r:embed="rId6"/>
          <a:stretch/>
        </p:blipFill>
        <p:spPr>
          <a:xfrm>
            <a:off x="0" y="5773680"/>
            <a:ext cx="264312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WRS Logo for Outlook Email"/>
          <p:cNvPicPr/>
          <p:nvPr/>
        </p:nvPicPr>
        <p:blipFill>
          <a:blip r:embed="rId7"/>
          <a:stretch/>
        </p:blipFill>
        <p:spPr>
          <a:xfrm>
            <a:off x="7572240" y="5643720"/>
            <a:ext cx="1571760" cy="121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WRS Logo for HRC Panui.png"/>
          <p:cNvPicPr/>
          <p:nvPr/>
        </p:nvPicPr>
        <p:blipFill>
          <a:blip r:embed="rId8"/>
          <a:stretch/>
        </p:blipFill>
        <p:spPr>
          <a:xfrm>
            <a:off x="208080" y="1420920"/>
            <a:ext cx="8753400" cy="4887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E43-0A7D-4880-B0A8-7F11EEBA323A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Māori Health Research Writing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14" name="Content Placeholder 2"/>
          <p:cNvSpPr/>
          <p:nvPr/>
        </p:nvSpPr>
        <p:spPr>
          <a:xfrm>
            <a:off x="428760" y="3929040"/>
            <a:ext cx="825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June-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r Heather Gif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r Amohia Boul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5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C Investment Signals (IS) for the four Research Investment Steams (RIS) are currently being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art of this process the scope of each signal will be 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s will be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of $66M to be invested through the annual contestable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nnual Funding Round 10/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5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tent Placeholder 2"/>
          <p:cNvSpPr/>
          <p:nvPr/>
        </p:nvSpPr>
        <p:spPr>
          <a:xfrm>
            <a:off x="609480" y="1557360"/>
            <a:ext cx="82584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and Programme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ap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ontract types with fixed maximum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4 Research Investment Streams (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Investment Signals (IS) to initiate the call for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6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Zealand Health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nd Well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Outcomes for Acute and Chronic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NZ Health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6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health service delivery over the short-medium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ments in productivity, performance, organisation and sustainability of the health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effectiveness, equity, quality and efficacy of car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, regional or national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earch is not ex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ealth and Wellb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7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link between knowledge generated and improving the health and wellbeing of individuals and pop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, maintaining and enhancing health and well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disease and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 and reducing ine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ovation / economic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Improving Outcomes for Acute and Chronic Condi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7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a disease state, condition or impai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ble or non-communicabl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spectrum of health improvement from diagnosis, development of treatments through to patient self management, rehabilitation and palliativ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 the pathology of a disease, through to the management of the disease or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Rangahau Hauora Mā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n evidence base which contributes to Māori health gains derived from high-quality Māori health research that upholds Rangatirata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health research that values Māori worldviews and builds Māori research capacity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s and advances Māori knowledge, resources an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ypes of Funding Availab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Contracts (Annual Funding 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er Development Awards/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ding Grants and Grants-in-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ori Knowledge and Development Community Health Research Grants (Ngā Kanohi Kit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HRP (international initi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428760" y="121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contrac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y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er Development 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Awards, Summer Studentships, Masters and PhD Scholarships, Postdoctoral Fellow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9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457200" y="1571760"/>
            <a:ext cx="825804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 alone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the long-term development of a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1792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require three or more established researchers, with a history of receiving contr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1792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for outcomes, vision, collaboration/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 M over five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1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am: Welcome and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15: Session 1 - Funding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am Morning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20: Session 2 - Grant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30 pm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0p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 3 - Working 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9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an individual or a group if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duration is three years (five years max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contracts will have a budget cap of    $400,000 per annum, to a maximum contract price of $1.2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pport emerging researchers with a sa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not have previously held a competitive contract for research expenses of &gt; $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 maximum of $150,000 over thre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y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to test feasibil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150,000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support for research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ademic background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/involvement in Māori community activities and/or be working or training in a health-relat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ximum of $12,000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to pay for travel, koha, accommodation, living expenses and cours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ure for a period of up to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er Student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support for research training/work undertaken during the summer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term of 10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report at the conclusion of the student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by letter with the support of the research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ximum of $4,000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1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’s 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one year of personal support for students completing the research component of a Master’s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$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1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ition fees may be claimed from the H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1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D 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hree years of personal support for students undertaking a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$25,000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ne-off grant of $10,000 may be awarded to assist with working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ition fees may be claimed from the H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428760" y="114300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doctoral Fellow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outstanding graduates who have recently completed a PhD to conduct further research and gain experience in their chos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based on recipient’s qualifications and University salary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ne-off grant of $125,000 for working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Other Fu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428760" y="114300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ding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the planning and scoping of a potential research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for piloting an idea, or consultation with a community, prior to a grant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,000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-in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dissemination for resear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,000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Other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395280" y="112536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ā Kanohi Ki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.5M total, $250k pe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whānau, hapū and iwi ability to develop and lea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Proposals likely to be released in Novemb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to undertake research in a range of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3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ntent Placeholder 2"/>
          <p:cNvSpPr/>
          <p:nvPr/>
        </p:nvSpPr>
        <p:spPr>
          <a:xfrm>
            <a:off x="571680" y="114300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comprises a number of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review for research excellence is the stage most people are familiar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Assessing Committee (usually only 1 for Māori Health) brought together to determine refe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ough peer review of application by up to 5 reviewers resulting in review summ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buttal by resear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287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wn entity responsible for investment in health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d by Minister of Health, funded by Minister of RS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biomedical, clinical, health services &amp; public health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ion: to improve human health through promoting and funding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ontent Placeholder 2"/>
          <p:cNvSpPr/>
          <p:nvPr/>
        </p:nvSpPr>
        <p:spPr>
          <a:xfrm>
            <a:off x="642960" y="150012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Assessing Committee considers each application on the basis of 4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me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an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determined “fund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s of the process still being confi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Prior to 10/11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4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ontent Placeholder 2"/>
          <p:cNvSpPr/>
          <p:nvPr/>
        </p:nvSpPr>
        <p:spPr>
          <a:xfrm>
            <a:off x="6429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of “internal” prioritisation re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prioritisation was to ensure the HRC invested in a balanced portfolio of research that was both scientifically excellent and of high priority to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best applications were identified by SACs, priority review u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10/11 Funding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5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ontent Placeholder 2"/>
          <p:cNvSpPr/>
          <p:nvPr/>
        </p:nvSpPr>
        <p:spPr>
          <a:xfrm>
            <a:off x="611280" y="1125360"/>
            <a:ext cx="825804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scoring will no longer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d by an assessment on the impact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researchers to consider the links between their research and the specific goals outlined in research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pending on how this will occur at the assessmen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tent Placeholder 2"/>
          <p:cNvSpPr/>
          <p:nvPr/>
        </p:nvSpPr>
        <p:spPr>
          <a:xfrm>
            <a:off x="571680" y="1071720"/>
            <a:ext cx="835812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pplications are determined to be fundable by the SACs, they are considered by the General Assess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ises Chairs of each of the Science Assessing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C have an overview of the range of potential investment and consider the scope of the investment HRC will make in any one give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Excellence and P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tent Placeholder 2"/>
          <p:cNvSpPr/>
          <p:nvPr/>
        </p:nvSpPr>
        <p:spPr>
          <a:xfrm>
            <a:off x="609480" y="1724040"/>
            <a:ext cx="825840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547640" y="1125360"/>
          <a:ext cx="6046920" cy="508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25360"/>
                    <a:ext cx="6046920" cy="50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3"/>
          <p:cNvGraphicFramePr/>
          <p:nvPr/>
        </p:nvGraphicFramePr>
        <p:xfrm>
          <a:off x="1571760" y="1143000"/>
          <a:ext cx="6046560" cy="508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1760" y="1143000"/>
                    <a:ext cx="6046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Oval 10"/>
          <p:cNvSpPr/>
          <p:nvPr/>
        </p:nvSpPr>
        <p:spPr>
          <a:xfrm>
            <a:off x="3857760" y="1071720"/>
            <a:ext cx="3600360" cy="3456000"/>
          </a:xfrm>
          <a:prstGeom prst="ellipse">
            <a:avLst/>
          </a:prstGeom>
          <a:solidFill>
            <a:srgbClr val="ddddd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6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July: Māori Seeding Grants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s-in-Aid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Aug: Closing date for C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:       Registration fo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Expression of Interest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7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: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 Full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011Project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201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Contracts offered to start fro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ession 2-Grant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7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ranslating ideas into a research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8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214200" y="157176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question you want answered (can you say it in a couple of sentences, does it make sense to other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health significance (how does it relate to priorities and current polic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it been asked befo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t able to be answered with some degree of confidence? Is the question too b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8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tent Placeholder 2"/>
          <p:cNvSpPr/>
          <p:nvPr/>
        </p:nvSpPr>
        <p:spPr>
          <a:xfrm>
            <a:off x="4287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research methodology and the specific methods answer the research question po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explain your methods clea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explained 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 of the research process in your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analysis link with the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budgetary implications of the methods chos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pecific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nterest in Māori &amp; Pacific peoples’ health research &amp; capacity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Investment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career development &amp; monitors health research work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s funding partnerships with private &amp; public secto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9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sufficient detail to convince the reviewers of your ability to carry out the research in a timely fashion, using the methods and methodology you have outl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previous experience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tise of team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need an advisory committ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l methods adequately expla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9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staffing work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outside influences might impact on research timel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the stages of the 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GANTT charts and timelines to assist in mapping the projec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inging together a te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needs to be on your t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methodological or clinical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re specific locality issues you need to consi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orce development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inging together a te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needs to occur early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a lengthy process of negotiating roles,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 (MoUs) or informal 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th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Bu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tent Placeholder 2"/>
          <p:cNvSpPr/>
          <p:nvPr/>
        </p:nvSpPr>
        <p:spPr>
          <a:xfrm>
            <a:off x="428760" y="135720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guidelines carefully to ascertain what can and can’t be included in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sufficient time to develop a budget and review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costings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you can justify your budget (more detail makes it easier to agree to funding reques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in over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1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tent Placeholder 2"/>
          <p:cNvSpPr/>
          <p:nvPr/>
        </p:nvSpPr>
        <p:spPr>
          <a:xfrm>
            <a:off x="428760" y="1785960"/>
            <a:ext cx="8258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will you keep end-users, funders, advisors engaged and in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using the full range of dissemin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dissemination methods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d approaches are useful both for you as the researcher and the research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nowledge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1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ontent Placeholder 2"/>
          <p:cNvSpPr/>
          <p:nvPr/>
        </p:nvSpPr>
        <p:spPr>
          <a:xfrm>
            <a:off x="428760" y="1785960"/>
            <a:ext cx="8258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regarded by f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arlier in the process you can consider knowledge translation opportunities the b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how your research can improve services, practice at a local level, national level and implications internatio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Writing a fundabl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2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ontent Placeholder 2"/>
          <p:cNvSpPr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o the HRC guide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language clear, precise and jargon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is important, use headings to ensure a logical argu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sufficient time for writing, review, peer review, re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building up a profile start small and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ome final t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2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overambit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ovation (whether it be methodological or simply a novel idea) is highly rega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/impact also sought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relevant material to assist in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scared to ask others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the HRC Guidelin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3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July: Māori Seeding Grants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s-in-Aid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Aug: Closing date for C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:       Registration fo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Expression of Interest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Research Portfolios replaced with 4 Research Investment Streams (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 priority areas for health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pe of these will remain stable for at least a five-year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responsiveness to government and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communication of research needs and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3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: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 Full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011Project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201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Contracts offered to start fro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Ngā Pou Rangahau 2010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4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C Māori Health Committee review of the Health Research Strategy to Improve Māori Health and Wellbeing 2004 –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of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i Whakapiripiri – March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worksh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tion with key experts in Māori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Ngā Pou Rangahau 2010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4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395280" y="141300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document to be presented at Hui Whakapiripiri in Rotorua 8-9 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 for the Maori Health Committee to present the document back to the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ce to seek the sector’s input/comments before presenting the document to the HRC 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ession 4-Working on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5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tent Placeholder 2"/>
          <p:cNvSpPr/>
          <p:nvPr/>
        </p:nvSpPr>
        <p:spPr>
          <a:xfrm>
            <a:off x="457200" y="1785960"/>
            <a:ext cx="82580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ell u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help? 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ontac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457200" y="1785960"/>
            <a:ext cx="82580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Heather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her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hia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Zealand Health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nd Well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Outcomes for Acute and Chronic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3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539640" y="1628640"/>
            <a:ext cx="82584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nvestment Streams and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Investment Signal for each stream will be released prior to the annual funding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Signals will define the priorities for HRC investment in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Signals will present high-level information for researchers on HRC’s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4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611280" y="1773360"/>
            <a:ext cx="825804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ers will be requir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te which Investment Signal they are responding to in their application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make a case for how their proposal addresses the Investment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t between the proposal and the IS will be a crucial part of the assess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ntent Placeholder 2"/>
          <p:cNvSpPr/>
          <p:nvPr/>
        </p:nvSpPr>
        <p:spPr>
          <a:xfrm>
            <a:off x="539640" y="1628640"/>
            <a:ext cx="82584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budgets will be included in each Investment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budgets will apply only to  Programme and Projec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udget indications will be used by the HRC Board as a means of determining future research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 </cp:lastModifiedBy>
  <dcterms:modified xsi:type="dcterms:W3CDTF">2010-07-12T21:52:29Z</dcterms:modified>
  <cp:revision>141</cp:revision>
  <dc:subject/>
  <dc:title>Slide 1</dc:title>
</cp:coreProperties>
</file>