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78CB-34A2-4BF4-A968-CD05F20B8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674A-6D94-40BD-B6CF-B8BE92600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uj[op’j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9E2D-7208-472F-A794-6C955983F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460-4EC8-4386-B6FA-EB28E0249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A14-2FFD-42E4-B72D-069C1ED61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9C36-8E17-4B1D-9AB6-959CC2210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2B3-8E96-4310-A3EC-8291D00DB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9E8A-965D-4DF0-970E-74CCFDE6C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295-EAD8-4AAA-93AF-6A5E61776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61C0-7C6F-4C2B-AFDC-6E10AF880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008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6A0-C7BA-453D-BC64-4EA7B5757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3D91-EBD0-43BC-A614-1FDA1E072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D15-6C98-4DFE-AECE-D3F29F40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661-13A0-44FE-9C6E-084C118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12F-C065-4E2D-B842-3743EDCC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4F1-5347-4688-936A-18118003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0B28A-CB92-4157-8208-5044BA6F1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3DF6-E0A5-477A-9028-B860C81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9C9FF-8C3C-4225-A082-A5DFC72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64D2-B035-4864-94DF-13E2569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BAD2-53B3-4561-8426-7ADC8A1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354E-3A47-4359-95AA-8239640D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242C-0121-4083-834D-B518358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74A-7E6D-4A85-BDEF-768B3313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396A-CD49-43E8-9DEA-73EC8A0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A378-27E6-49D0-813D-316A651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0905-BC9E-43FD-A7F0-0648BAA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298B-33BF-4B63-84E4-ABED70D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ABEF0-BD8B-4BB1-AEDA-68BB63E1C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6F9-CD02-4BB4-BA18-39C26D6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4CE-9785-4BDF-BA61-7C72992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D2F-6A7B-409B-A9EB-FEEEA85A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D8D-BE7E-442B-83B5-FB629B3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66-83EA-4AB0-83FE-5C1061B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5AA-EC79-466E-B665-CE5F5D0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173-3ED0-44BE-BBB5-83D3C0B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466-9519-40A4-A96C-ADAEAF92C7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"/>
          <p:cNvSpPr/>
          <p:nvPr/>
        </p:nvSpPr>
        <p:spPr>
          <a:xfrm>
            <a:off x="3429000" y="6460560"/>
            <a:ext cx="19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rowaitia te puna wai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i oranga motuhake mo te Iw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4" descr=""/>
          <p:cNvPicPr/>
          <p:nvPr/>
        </p:nvPicPr>
        <p:blipFill>
          <a:blip r:embed="rId7"/>
          <a:stretch/>
        </p:blipFill>
        <p:spPr>
          <a:xfrm>
            <a:off x="3429000" y="507204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7"/>
          <a:stretch/>
        </p:blipFill>
        <p:spPr>
          <a:xfrm>
            <a:off x="3419640" y="544500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victoria.ac.nz/hsrc/gfx/logos/HSRC-logo.png"/>
          <p:cNvPicPr/>
          <p:nvPr/>
        </p:nvPicPr>
        <p:blipFill>
          <a:blip r:embed="rId9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3ADD-D71D-4D41-8BBE-240A63C656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ohia.whakauae@xtra.co.nz" TargetMode="External"/><Relationship Id="rId2" Type="http://schemas.openxmlformats.org/officeDocument/2006/relationships/hyperlink" Target="http://www.whakauae.co.nz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222268"/>
                </a:solidFill>
                <a:latin typeface="Arial"/>
              </a:rPr>
              <a:t>Supporting Whānau Wellbeing:</a:t>
            </a:r>
            <a:br>
              <a:rPr sz="2000"/>
            </a:b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000" y="407664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Amohia Boulton, Jennifer Tamehana, Jackie Cumm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Lynley Cvitan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Families Commission Research Seminar, 3 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How Māori Primary Health Care Contributes to Whānau Resil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Conceptually very demanding, linking three distinct concepts into a cohesive framework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ranslational of “academic” theory and theory testing into meaningful practice and lessons for service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re we simply attempting to ‘fit’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to a Western framework of resilience – is conceptual adaptation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dentifying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concepts, ways of being and doing that are meaningful for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 attaining and/or sustaining wh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funders (HRC, Ngā Pae o te Maramatanga, ACC, Families Com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hakauae Research for Maori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Research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ontex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How these goals relate to Whā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hallenges posed by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Goal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213920"/>
            <a:ext cx="821520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                     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levance of the concept of ‘resilience’ for Māori whānau and in Māori primary health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 what ways whānau resilience can be supported and enhanced by Māori primary health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Contex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4280"/>
            <a:ext cx="82152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Māori-led, iwi-based research partnersh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Whakauae  Research (l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e Oranganui Iwi Health Authority (TOIHA) P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Health Services Research Centre, VUW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Single case stud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Research question in response to a Request for Proposal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lationship to Whānau Ora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267920"/>
            <a:ext cx="8462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What is the relationship between whānau ora and resilience in a primary health car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TOIHA’s mission is to achieve whānau ora through Māori primary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Must TOIHA enable resilience for whānau to achieve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Is being resilient critical to achieving       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hase One nearing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tegrated literature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resilience, Māori primary health and whānau 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Development of a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ey informant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OIHA staff, managers and governance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Literature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International academic resilience literature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limited relevance for whānau, hapū, 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Dearth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otential for recent indigenous and cultural resilience literature to inform a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resili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Document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Mapping” resilience to Māori primary health care approaches in the TOIHA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Four principles identified for furthe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hānau Ora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Focus on Well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Cultur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Purpose to test whether the concept of resilience understood and used by health practitioners/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How does the concept relate to whānau ora, if at 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Eleven face to face, in-depth key informant interview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Team data analysis – mahi a rō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3T20:54:08Z</dcterms:modified>
  <cp:revision>136</cp:revision>
  <dc:subject/>
  <dc:title>Slide 1</dc:title>
</cp:coreProperties>
</file>