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1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EB8E-2823-4698-BD79-8E713E3C2CD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B650-134B-4F17-BF6B-DCCE7A235A5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E32-2F5E-4826-A020-856731AE36F7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5199-56B7-4977-A420-FA9AE58408B9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5F77-0754-4586-B2D2-1FAE9889BA8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AB8-AEF6-4A83-8695-77AC7DBC5116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50D8-9256-4967-8E33-C18B4641B97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44FF-F569-4F23-947E-D83120034837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3BE5-E5CA-4FC4-812C-0249636D5C5C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E0E4-7C1C-46F7-AEB7-89E09C4B5ABE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79BF-EF02-4166-88B9-B7FD9573816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AF38-90A0-4A00-83DA-EE290464FC21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5389-ACA6-4006-9242-37D63D6CAF5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2F64-21D5-47B0-9EF8-3E0F111D37EC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FC2E-C32D-4F48-A56E-C56CCB80E58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F92C-97A0-4FD6-9C6C-ACAA08693BE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6D99-2970-4EE7-90C5-66B062D893E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F12C-3447-4952-965D-531CF7BD84D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EA4-D386-4402-A5C2-94DD1EE2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1BC-4D08-455A-832F-C9FA2108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7CE-E48C-4C3D-BD3C-C712606E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F91-3AB5-4678-B69F-15692492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6341-8722-4A98-96FC-F2789BB3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1648-A120-40DA-B33E-3B8C5CFB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1786-FED5-4B1C-8903-1E430EBE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6A54-9F6B-4DC5-AF16-C7B206BB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5A58-C37C-49CF-B6AB-B4F9222C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84A-2E4B-4BDD-A6EE-E000AE7D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37F0-8405-4CE2-A0D1-2B76234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070-60E4-4B14-B6E8-2FA8D274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C885-80D1-45EA-815F-4D72DA41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AE46-90BD-44AB-AF2D-21D7E544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9119-6BDD-4E42-B166-E2A14C7A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0CEF-5185-49B4-8857-1A88B683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5024-0A5A-4E7D-9C1F-453DCDC2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F3A7-BABB-45BB-9FCF-8615CACF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2998-E6A6-4F38-81F4-F93282FB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FDAA-CCA7-4843-9E71-49DEED45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4C57-45F6-46C0-89B9-50B5CD13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187F-CE29-4EB1-B019-B0F80477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CA0-4A45-4E21-AC51-A4B04B6B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BE08-697B-47B1-8182-EB89C091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C0D1-DF9E-459B-9137-36FF6EAE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98D1-55CD-4276-837B-0B558B72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6774-A75A-40AD-AD89-81C245D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FCC3-6A4E-46F2-88B2-4C15E9DA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4B9C-4C5C-4B84-8A74-214F1B8B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A355-39AA-4D11-B02F-5B3639A6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227-95D1-408F-BFE8-E1437568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FF8-4F69-4F84-BFB1-893E6AF5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242-3344-4A36-B773-FD9C48D4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7B1-C3EF-44CB-AAC4-7A5BAB9A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E04-3D0A-445E-9DE1-26BC56BE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F5A-57FA-498D-9D9F-7DBDE422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9EED-4177-4D6B-92A8-3239C80441DF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4" descr="WRS Logo for Outlook Email"/>
          <p:cNvPicPr/>
          <p:nvPr/>
        </p:nvPicPr>
        <p:blipFill>
          <a:blip r:embed="rId6"/>
          <a:stretch/>
        </p:blipFill>
        <p:spPr>
          <a:xfrm>
            <a:off x="1440" y="5602320"/>
            <a:ext cx="16192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7"/>
          <a:stretch/>
        </p:blipFill>
        <p:spPr>
          <a:xfrm>
            <a:off x="6454800" y="6261120"/>
            <a:ext cx="2689200" cy="596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A041-41F0-44A7-B22B-0A6F4B16142E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Rectangle 13"/>
          <p:cNvSpPr/>
          <p:nvPr/>
        </p:nvSpPr>
        <p:spPr>
          <a:xfrm>
            <a:off x="468360" y="227484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DB96-2FAE-4F05-BF28-B0B7763DCDA9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541440" y="4653000"/>
            <a:ext cx="82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 H Gifford, Dr A Boulton, Dr S Triggs, Prof C Cunning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gā Pae o te Māramat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ternational Indigenous Development Con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uckland, 27-30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603360" y="1989000"/>
            <a:ext cx="82296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Tipping the balan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the impact of the Working for Families (WFF) policy on Māori whāna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4000" y="1341360"/>
            <a:ext cx="7972200" cy="496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- eligible whānau demonstrated the need for financia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6760" indent="-2408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ior to the policy’s existence, the living standards of WFF-eligible whānau were markedly and significantly lower than ineligible Māori househo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eneficiary families with dependant children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ere the worst-off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other beneficiary households (excl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SAs) and low-income working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amilies with dependant childr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468360" y="4745160"/>
            <a:ext cx="27352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 eligible whānau experienced an improvement in income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decline in the proportion of whānau whose income was ‘not enough’ to meet their everyday nee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n equivalent increase in the                               ‘just enough’ categ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ousing satisfaction also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higher proportion of families having                     to economise on the purchase of fruit                   and vegetables in 2011 compared to 200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6647040" y="3357720"/>
            <a:ext cx="2414520" cy="25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460520"/>
            <a:ext cx="8177040" cy="3408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dynamics play an important part in income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280" indent="-23832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hanges in household circumstances such as family formation and spli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luctuation in labour force status between full-time and part-time work and between work, parenting,                     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   study and looking for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51640" indent="-203040">
              <a:spcBef>
                <a:spcPts val="4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3276720" y="4653000"/>
            <a:ext cx="5327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ole of whānau in caring for whānau members and/or giving money to help whānau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468360" y="4438800"/>
            <a:ext cx="31338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:\Users\Amohia_2\Pictures\Pictures\David and Arwyn Photos\DSC00353.JPG"/>
          <p:cNvPicPr/>
          <p:nvPr/>
        </p:nvPicPr>
        <p:blipFill>
          <a:blip r:embed="rId1"/>
          <a:stretch/>
        </p:blipFill>
        <p:spPr>
          <a:xfrm>
            <a:off x="6227640" y="2997360"/>
            <a:ext cx="2802240" cy="3735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39280" y="1341000"/>
            <a:ext cx="8116920" cy="525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mpact of WFF was significant but modest, and possibly frag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FF payments do make a contribution  towards improving income adequ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owever gains may be fragile, as                        the economic situation of low                                -income families remains one of                   considerable hardshi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conomising on basic necessities                   such as fruit and vegetables, and                     visits to the doctor, evi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3640" y="1412640"/>
            <a:ext cx="8475480" cy="2663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vident tensions between WFF policy objec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4336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ceptualised as a tool to target those experiencing social disadvantage with a view to increasing overall living standards and reducing poverty in the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3294000" cy="2325600"/>
          </a:xfrm>
          <a:prstGeom prst="rect">
            <a:avLst/>
          </a:prstGeom>
          <a:ln w="0">
            <a:noFill/>
          </a:ln>
        </p:spPr>
      </p:pic>
      <p:sp>
        <p:nvSpPr>
          <p:cNvPr id="202" name="Content Placeholder 2"/>
          <p:cNvSpPr/>
          <p:nvPr/>
        </p:nvSpPr>
        <p:spPr>
          <a:xfrm>
            <a:off x="3708360" y="4149720"/>
            <a:ext cx="5243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owever a divergence between the ‘making work pay’ and the ‘income adequacy’ aims of the WFF policy is apparent, with significant impact on Māor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000" y="1484280"/>
            <a:ext cx="835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 targeted whānau who were financially limited but excluded the most economically disadvantaged i.e. beneficiaries, and therefore the children of benefic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discernible but “modest” improvement in income adequacy for those in receipt of WFF during the period 2004-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research setting of considerable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olicy:  inherently complex, with inter-related components, which changed during the period of examin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text: a time of social and economic change, including recession and changing 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ānau: dynamic entities, moving in and out of employment, changing household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earch Centre for Māori Healt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alth Research Council of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oundation for Research Science 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tent Placeholder 2"/>
          <p:cNvSpPr/>
          <p:nvPr/>
        </p:nvSpPr>
        <p:spPr>
          <a:xfrm>
            <a:off x="457200" y="1709640"/>
            <a:ext cx="825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 Heather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kauae Research for Māori 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ather@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s availabl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484280"/>
            <a:ext cx="84247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ree year study with an overarching aim to identify whether Working for Families (WFF) has contributed towards whānau 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ded by the Health Research Council of New Zealand (HRC) and the Foundation for Research Science and Technology (Fo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llaboration between an iwi-based research centre &amp; a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C:\Users\Amohia_2\AppData\Local\Microsoft\Windows\Temporary Internet Files\Content.Outlook\GK2I35KW\Professor Chris Cunningham.jpg"/>
          <p:cNvPicPr/>
          <p:nvPr/>
        </p:nvPicPr>
        <p:blipFill>
          <a:blip r:embed="rId1"/>
          <a:stretch/>
        </p:blipFill>
        <p:spPr>
          <a:xfrm>
            <a:off x="7156440" y="4013280"/>
            <a:ext cx="1898640" cy="2852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0920" y="1511280"/>
            <a:ext cx="7972200" cy="496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WRMHD                                         Dr Heather Gifford (Lead) &amp;                      Dr Amohia Boulton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the Research Centre for           Māori Health and Development,     Massey University                                Dr Sue Triggs &amp;                                         Prof Chris Cunning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6138720" y="189000"/>
            <a:ext cx="1541520" cy="216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Users\Amohia_2\Pictures\Photos of Me\WRMHD Photo of Me.JPG"/>
          <p:cNvPicPr/>
          <p:nvPr/>
        </p:nvPicPr>
        <p:blipFill>
          <a:blip r:embed="rId3"/>
          <a:stretch/>
        </p:blipFill>
        <p:spPr>
          <a:xfrm>
            <a:off x="7551720" y="1052640"/>
            <a:ext cx="1484280" cy="207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6759720" y="2924280"/>
            <a:ext cx="15843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dditional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28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ndertake new analysis using an existing and on-going Māori data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est Outcomes for Māori: Te Hoe Nuku Roa (THN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NR is a stratified, random, longitudinal survey of Māori households, initiated in a series of waves beginning in 199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duct high-quality research to inform policy development for Mā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Background to the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3640" y="148428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roduced in 2004, by a Labour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ttempted to address a number of social policy goals (Johnson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duce child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mprove the incomes of working famil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strengthen work incentives for unemployed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ke it easier for families to access financial assist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Johnson, N. (2005). ‘Working for Families’ in New Zealand: Some Early Lessons. http://www.fulbright.org.nz/voices/axford/johnson.html. Accessed 26 August 2008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mponents of W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34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NR Analysis - 3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14240" y="1557000"/>
            <a:ext cx="7972560" cy="4691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dentification of households in the THNR dataset with characteristics qualifying them to receive W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scriptiv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alysis of the longitudinal dataset of Māori 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llection of new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ata on whānau well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000" y="1699920"/>
            <a:ext cx="7972200" cy="4692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NR survey collected data on broad range of issues includ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Living Standards Indicator (EL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rst part of the research examined changes in living standards of whānau using data from households interviewed in Wave 4 (2004-2007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second part of the research examined changes in the living circumstances of households between Wave 4 and Wave 5 of THNR and looked at the </a:t>
            </a:r>
            <a:r>
              <a:rPr b="0" i="1" lang="en-AU" sz="2600" spc="-1" strike="noStrike">
                <a:solidFill>
                  <a:srgbClr val="000000"/>
                </a:solidFill>
                <a:latin typeface="Arial"/>
              </a:rPr>
              <a:t>effect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of these changes on living standar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S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1413000"/>
          <a:ext cx="7561440" cy="5208480"/>
        </p:xfrm>
        <a:graphic>
          <a:graphicData uri="http://schemas.openxmlformats.org/drawingml/2006/table">
            <a:tbl>
              <a:tblPr/>
              <a:tblGrid>
                <a:gridCol w="2065680"/>
                <a:gridCol w="981000"/>
                <a:gridCol w="1150920"/>
                <a:gridCol w="852480"/>
                <a:gridCol w="2511360"/>
              </a:tblGrid>
              <a:tr h="1224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anau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ve 4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ve 5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1590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fore W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fter W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1224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FF-elig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85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t elig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85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Amohia</cp:lastModifiedBy>
  <dcterms:modified xsi:type="dcterms:W3CDTF">2012-07-03T00:30:59Z</dcterms:modified>
  <cp:revision>201</cp:revision>
  <dc:subject/>
  <dc:title>Slide 1</dc:title>
</cp:coreProperties>
</file>