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3.jpeg" ContentType="image/jpeg"/>
  <Override PartName="/ppt/media/image16.png" ContentType="image/png"/>
  <Override PartName="/ppt/media/image15.png" ContentType="image/png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10.png" ContentType="image/png"/>
  <Override PartName="/ppt/media/image6.jpeg" ContentType="image/jpeg"/>
  <Override PartName="/ppt/media/image7.jpeg" ContentType="image/jpeg"/>
  <Override PartName="/ppt/media/image11.png" ContentType="image/png"/>
  <Override PartName="/ppt/media/image5.png" ContentType="image/pn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494C3-82CA-4340-A772-FE191DAC6ED5}" type="slidenum">
              <a:rPr b="0" lang="en-N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EC86D-6C2A-441A-8949-DA9554EB4D98}" type="slidenum">
              <a:rPr b="0" lang="en-NZ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DFFD9-0A38-4276-95EF-50CE542536B4}" type="slidenum">
              <a:rPr b="0" lang="en-NZ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A2B3F-302B-4DBD-A8BD-5BDB47721719}" type="slidenum">
              <a:rPr b="0" lang="en-NZ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CB75D-5CEE-4C7A-847E-A64559B02CB9}" type="slidenum">
              <a:rPr b="0" lang="en-NZ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84F76-9FC8-4128-A0C7-F673DD62E4D5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8937E-9529-4E57-96E3-A4F92FDB1200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FB790-E8AC-4E0E-A299-BBAB229470F7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01B56-8F8A-4D9A-A96C-406C594FDB91}" type="slidenum">
              <a:rPr b="0" lang="en-NZ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4FC42-C38F-4DFC-878E-BAF31BBDE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BFF5A-53A9-4BEA-8DAF-B27B6E4DB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9B9FA-F2DF-4435-85AA-BE4B69378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38CB8-62DB-4AC3-991C-6CEA9038C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11F2D-B6A7-40C2-9A32-4632173A6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A3DAF-0FF7-4BAC-9D6C-F6EEAD7B9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C0A9E-F5F6-408D-A36A-8DAE62842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278FD-F5E9-4E9E-AD90-4FA6E288A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6AE9D-6412-450E-8216-1EAEB50E6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A7C36-6FD9-4FB1-93A2-F49524428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4F563-0E41-46A7-9099-E1E038EA1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9DEB7-0F1D-440E-BEC7-FBCCF2D35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AFC75-866C-4078-83C2-4AD4B44363DE}" type="datetime">
              <a:rPr b="0" lang="en-US" sz="1200" spc="-1" strike="noStrike">
                <a:solidFill>
                  <a:srgbClr val="ffffff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11111-A81D-45EE-98EB-8D6B00392136}" type="slidenum">
              <a:rPr b="0" lang="en-NZ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image" Target="../media/image5.png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189000"/>
            <a:ext cx="7772400" cy="17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a0000"/>
                </a:solidFill>
                <a:latin typeface="Magneto"/>
              </a:rPr>
              <a:t> </a:t>
            </a:r>
            <a:br>
              <a:rPr sz="4000"/>
            </a:br>
            <a:r>
              <a:rPr b="1" lang="en-US" sz="2800" spc="-1" strike="noStrike">
                <a:solidFill>
                  <a:srgbClr val="8a0000"/>
                </a:solidFill>
                <a:latin typeface="Calibri"/>
              </a:rPr>
              <a:t>Tu Toa Tu Maia:  </a:t>
            </a:r>
            <a:r>
              <a:rPr b="1" lang="en-NZ" sz="2800" spc="-1" strike="noStrike">
                <a:solidFill>
                  <a:srgbClr val="8a0000"/>
                </a:solidFill>
                <a:latin typeface="Calibri"/>
              </a:rPr>
              <a:t>Implementing an indigenous gambling harm minimisation model in </a:t>
            </a:r>
            <a:br>
              <a:rPr sz="2800"/>
            </a:br>
            <a:r>
              <a:rPr b="1" lang="en-NZ" sz="2800" spc="-1" strike="noStrike">
                <a:solidFill>
                  <a:srgbClr val="8a0000"/>
                </a:solidFill>
                <a:latin typeface="Calibri"/>
              </a:rPr>
              <a:t>community-based health services</a:t>
            </a:r>
            <a:r>
              <a:rPr b="1" lang="en-US" sz="2800" spc="-1" strike="noStrike">
                <a:solidFill>
                  <a:srgbClr val="8a0000"/>
                </a:solidFill>
                <a:latin typeface="Calibri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58920" y="4076280"/>
            <a:ext cx="6400800" cy="249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ffffff"/>
                </a:solidFill>
                <a:latin typeface="Calibri"/>
              </a:rPr>
              <a:t>7</a:t>
            </a:r>
            <a:r>
              <a:rPr b="1" lang="en-NZ" sz="2000" spc="-1" strike="noStrike" baseline="30000">
                <a:solidFill>
                  <a:srgbClr val="ffffff"/>
                </a:solidFill>
                <a:latin typeface="Calibri"/>
              </a:rPr>
              <a:t>th</a:t>
            </a:r>
            <a:r>
              <a:rPr b="1" lang="en-NZ" sz="2000" spc="-1" strike="noStrike">
                <a:solidFill>
                  <a:srgbClr val="ffffff"/>
                </a:solidFill>
                <a:latin typeface="Calibri"/>
              </a:rPr>
              <a:t> Health Services &amp; Policy Research  Conference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ffffff"/>
                </a:solidFill>
                <a:latin typeface="Calibri"/>
              </a:rPr>
              <a:t>Adelaide 5-7</a:t>
            </a:r>
            <a:r>
              <a:rPr b="1" lang="en-NZ" sz="2000" spc="-1" strike="noStrike" baseline="30000">
                <a:solidFill>
                  <a:srgbClr val="ffffff"/>
                </a:solidFill>
                <a:latin typeface="Calibri"/>
              </a:rPr>
              <a:t>th</a:t>
            </a:r>
            <a:r>
              <a:rPr b="1" lang="en-NZ" sz="2000" spc="-1" strike="noStrike">
                <a:solidFill>
                  <a:srgbClr val="ffffff"/>
                </a:solidFill>
                <a:latin typeface="Calibri"/>
              </a:rPr>
              <a:t> December 2011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ffffff"/>
                </a:solidFill>
                <a:latin typeface="Calibri"/>
              </a:rPr>
              <a:t>Hilton Hotel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900" spc="-1" strike="noStrike">
                <a:solidFill>
                  <a:srgbClr val="ffffff"/>
                </a:solidFill>
                <a:latin typeface="Calibri"/>
              </a:rPr>
              <a:t>Dr. Laurie Morrison – Auckland University of Technology </a:t>
            </a:r>
            <a:endParaRPr b="0" lang="en-US" sz="19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900" spc="-1" strike="noStrike">
                <a:solidFill>
                  <a:srgbClr val="ffffff"/>
                </a:solidFill>
                <a:latin typeface="Calibri"/>
              </a:rPr>
              <a:t>Layla Lyndon-Tonga – Nga Manga Puriri </a:t>
            </a:r>
            <a:endParaRPr b="0" lang="en-US" sz="19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900" spc="-1" strike="noStrike">
                <a:solidFill>
                  <a:srgbClr val="ffffff"/>
                </a:solidFill>
                <a:latin typeface="Calibri"/>
              </a:rPr>
              <a:t>Dr. Amohia Boulton – Whakauae Research Centre</a:t>
            </a:r>
            <a:r>
              <a:rPr b="0" lang="en-NZ" sz="19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9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0" name="Picture 7" descr="http://t1.gstatic.com/images?q=tbn:ANd9GcQAWhhF4k5KDINeJY2pWAYpU8_quRDpKIxTnOHSSlPhKsUkO86vd-kGl_Gx"/>
          <p:cNvPicPr/>
          <p:nvPr/>
        </p:nvPicPr>
        <p:blipFill>
          <a:blip r:embed="rId1"/>
          <a:stretch/>
        </p:blipFill>
        <p:spPr>
          <a:xfrm>
            <a:off x="3851280" y="2133720"/>
            <a:ext cx="1444680" cy="1800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9" descr="Spurting Geysers - Te Puia, Rotorua"/>
          <p:cNvPicPr/>
          <p:nvPr/>
        </p:nvPicPr>
        <p:blipFill>
          <a:blip r:embed="rId2"/>
          <a:stretch/>
        </p:blipFill>
        <p:spPr>
          <a:xfrm>
            <a:off x="63360" y="-165240"/>
            <a:ext cx="9720" cy="97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1" descr="Spurting Geysers - Te Puia, Rotorua"/>
          <p:cNvPicPr/>
          <p:nvPr/>
        </p:nvPicPr>
        <p:blipFill>
          <a:blip r:embed="rId3"/>
          <a:stretch/>
        </p:blipFill>
        <p:spPr>
          <a:xfrm>
            <a:off x="63360" y="-165240"/>
            <a:ext cx="9720" cy="97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3" descr="Spurting Geysers - Te Puia, Rotorua"/>
          <p:cNvPicPr/>
          <p:nvPr/>
        </p:nvPicPr>
        <p:blipFill>
          <a:blip r:embed="rId4"/>
          <a:stretch/>
        </p:blipFill>
        <p:spPr>
          <a:xfrm>
            <a:off x="63360" y="-165240"/>
            <a:ext cx="9720" cy="9720"/>
          </a:xfrm>
          <a:prstGeom prst="rect">
            <a:avLst/>
          </a:prstGeom>
          <a:ln w="0">
            <a:noFill/>
          </a:ln>
        </p:spPr>
      </p:pic>
      <p:sp>
        <p:nvSpPr>
          <p:cNvPr id="54" name="AutoShape 15"/>
          <p:cNvSpPr/>
          <p:nvPr/>
        </p:nvSpPr>
        <p:spPr>
          <a:xfrm>
            <a:off x="63360" y="-406440"/>
            <a:ext cx="1095480" cy="8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AutoShape 17"/>
          <p:cNvSpPr/>
          <p:nvPr/>
        </p:nvSpPr>
        <p:spPr>
          <a:xfrm>
            <a:off x="63360" y="-406440"/>
            <a:ext cx="1095480" cy="8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Picture 19" descr="http://t3.gstatic.com/images?q=tbn:ANd9GcTIM-H0JiBKDjT7FcsT2pDQgI_JBEeJqzUqvgi6CshYNsK5V46ZhA"/>
          <p:cNvPicPr/>
          <p:nvPr/>
        </p:nvPicPr>
        <p:blipFill>
          <a:blip r:embed="rId5"/>
          <a:srcRect l="0" t="0" r="0" b="3737"/>
          <a:stretch/>
        </p:blipFill>
        <p:spPr>
          <a:xfrm>
            <a:off x="7308720" y="1700280"/>
            <a:ext cx="1800360" cy="24494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2" descr="The Mount.bmp"/>
          <p:cNvPicPr/>
          <p:nvPr/>
        </p:nvPicPr>
        <p:blipFill>
          <a:blip r:embed="rId6"/>
          <a:stretch/>
        </p:blipFill>
        <p:spPr>
          <a:xfrm>
            <a:off x="1979640" y="2205000"/>
            <a:ext cx="1871640" cy="13683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1" descr="http://t2.gstatic.com/images?q=tbn:ANd9GcQL-eLATdLmK2yxTp27-9hA2qcP9IfqhlaRq0n8uJdqt2vDc0eYCw"/>
          <p:cNvPicPr/>
          <p:nvPr/>
        </p:nvPicPr>
        <p:blipFill>
          <a:blip r:embed="rId7"/>
          <a:srcRect l="23264" t="0" r="0" b="13259"/>
          <a:stretch/>
        </p:blipFill>
        <p:spPr>
          <a:xfrm>
            <a:off x="-1440" y="2349360"/>
            <a:ext cx="1981080" cy="15112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3" descr="http://t1.gstatic.com/images?q=tbn:ANd9GcTXtfqVwPKa6vFZK9xZCyaGo-yyPwce7AogchLGVr1y9VBMZvvRRIZdO5RK"/>
          <p:cNvPicPr/>
          <p:nvPr/>
        </p:nvPicPr>
        <p:blipFill>
          <a:blip r:embed="rId8"/>
          <a:stretch/>
        </p:blipFill>
        <p:spPr>
          <a:xfrm>
            <a:off x="5292720" y="2205000"/>
            <a:ext cx="2016000" cy="14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8a0000"/>
                </a:solidFill>
                <a:latin typeface="Calibri"/>
              </a:rPr>
              <a:t>Lessons Learnt – Tai Tokerau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Calibri"/>
              </a:rPr>
              <a:t>Lack of Maori Problem Gambling Model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Calibri"/>
              </a:rPr>
              <a:t>Tailored the resource to suit local contex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Calibri"/>
              </a:rPr>
              <a:t>Integrating the resource across existing servic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Calibri"/>
              </a:rPr>
              <a:t>Age specificity ie, not acceptable with youth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8a0000"/>
                </a:solidFill>
                <a:latin typeface="Calibri"/>
              </a:rPr>
              <a:t>Implication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324000" y="1197000"/>
            <a:ext cx="83628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Calibri"/>
              </a:rPr>
              <a:t>Intervention and resource development needs to consider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Calibri"/>
              </a:rPr>
              <a:t>community vision and long-term goal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Calibri"/>
              </a:rPr>
              <a:t>self-empowerment  &amp;  ownership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Calibri"/>
              </a:rPr>
              <a:t>Community, Rangatahi, Kaumatua participation in every aspect of resource developmen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Calibri"/>
              </a:rPr>
              <a:t>local contex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Calibri"/>
              </a:rPr>
              <a:t>role of decision makers  to support intervention (e.g. government /iwi mandated advisory committees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8a0000"/>
                </a:solidFill>
                <a:latin typeface="Calibri"/>
              </a:rPr>
              <a:t>Implication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Calibri"/>
              </a:rPr>
              <a:t>Necessary to create an environment of respec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27920" indent="-280080">
              <a:lnSpc>
                <a:spcPct val="15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Calibri"/>
              </a:rPr>
              <a:t>Respect and inclusion of Maori knowledg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27920" indent="-280080">
              <a:lnSpc>
                <a:spcPct val="15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Calibri"/>
              </a:rPr>
              <a:t>Respect for community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27920" indent="-280080">
              <a:lnSpc>
                <a:spcPct val="15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Calibri"/>
              </a:rPr>
              <a:t>Inclusiveness i.e. kaumatua, pakeke and rangatahi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27920" indent="-280080">
              <a:lnSpc>
                <a:spcPct val="15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Calibri"/>
              </a:rPr>
              <a:t>Legitimacy of Maori epistemology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27920" indent="-280080">
              <a:lnSpc>
                <a:spcPct val="15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Calibri"/>
              </a:rPr>
              <a:t>Understanding of ecological relationship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8a0000"/>
                </a:solidFill>
                <a:latin typeface="Calibri"/>
              </a:rPr>
              <a:t>Summary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68360" y="134136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Calibri"/>
              </a:rPr>
              <a:t>Communities have a responsibility to transmit Maori knowledge and cultur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spcBef>
                <a:spcPts val="2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Calibri"/>
              </a:rPr>
              <a:t>HOWEVER..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Calibri"/>
              </a:rPr>
              <a:t>Responsibility must be shared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Calibri"/>
              </a:rPr>
              <a:t>Communities must be supported to participate in the development of appropriate and relevant health service initiativ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spcBef>
                <a:spcPts val="2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8a0000"/>
                </a:solidFill>
                <a:latin typeface="Calibri"/>
              </a:rPr>
              <a:t>Acknowledgement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0" y="1375920"/>
            <a:ext cx="70200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15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Calibri"/>
              </a:rPr>
              <a:t>Health Research Counci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294840" indent="-294840">
              <a:lnSpc>
                <a:spcPct val="15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Calibri"/>
              </a:rPr>
              <a:t>Taupua Waiora Maori Health Research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294840" indent="-294840">
              <a:lnSpc>
                <a:spcPct val="15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Calibri"/>
              </a:rPr>
              <a:t>Nga Manga Puriri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294840" indent="-294840">
              <a:lnSpc>
                <a:spcPct val="15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Calibri"/>
              </a:rPr>
              <a:t>Whakaue Research Centr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294840" indent="-294840">
              <a:lnSpc>
                <a:spcPct val="15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Calibri"/>
              </a:rPr>
              <a:t>Nga Pae o Te Maramatanga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1" name="Picture 4" descr="hrc"/>
          <p:cNvPicPr/>
          <p:nvPr/>
        </p:nvPicPr>
        <p:blipFill>
          <a:blip r:embed="rId1"/>
          <a:stretch/>
        </p:blipFill>
        <p:spPr>
          <a:xfrm>
            <a:off x="7947000" y="0"/>
            <a:ext cx="1197000" cy="13208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7" descr="AUT b&amp;w"/>
          <p:cNvPicPr/>
          <p:nvPr/>
        </p:nvPicPr>
        <p:blipFill>
          <a:blip r:embed="rId2"/>
          <a:stretch/>
        </p:blipFill>
        <p:spPr>
          <a:xfrm>
            <a:off x="7790040" y="1557360"/>
            <a:ext cx="1353960" cy="12762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9" descr="NMP.jpg"/>
          <p:cNvPicPr/>
          <p:nvPr/>
        </p:nvPicPr>
        <p:blipFill>
          <a:blip r:embed="rId3"/>
          <a:stretch/>
        </p:blipFill>
        <p:spPr>
          <a:xfrm>
            <a:off x="8115480" y="3213000"/>
            <a:ext cx="1028520" cy="19432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1" descr="Nga Pae.jpg"/>
          <p:cNvPicPr/>
          <p:nvPr/>
        </p:nvPicPr>
        <p:blipFill>
          <a:blip r:embed="rId4"/>
          <a:stretch/>
        </p:blipFill>
        <p:spPr>
          <a:xfrm>
            <a:off x="0" y="5924520"/>
            <a:ext cx="3809880" cy="9334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4" descr="WRS Logo for Outlook Email"/>
          <p:cNvPicPr/>
          <p:nvPr/>
        </p:nvPicPr>
        <p:blipFill>
          <a:blip r:embed="rId5"/>
          <a:stretch/>
        </p:blipFill>
        <p:spPr>
          <a:xfrm>
            <a:off x="7572240" y="5616720"/>
            <a:ext cx="1571760" cy="121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3" descr=""/>
          <p:cNvPicPr/>
          <p:nvPr/>
        </p:nvPicPr>
        <p:blipFill>
          <a:blip r:embed="rId1"/>
          <a:srcRect l="0" t="0" r="3411" b="11169"/>
          <a:stretch/>
        </p:blipFill>
        <p:spPr>
          <a:xfrm>
            <a:off x="0" y="0"/>
            <a:ext cx="9144000" cy="474984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7"/>
          <p:cNvSpPr/>
          <p:nvPr/>
        </p:nvSpPr>
        <p:spPr>
          <a:xfrm>
            <a:off x="357120" y="5013360"/>
            <a:ext cx="7786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Contact Detail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Dr Laurie Morris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Mob: +64 027259566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Em: laurie.morrison@aut.ac.nz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468360" y="1052280"/>
            <a:ext cx="8229600" cy="551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Calibri"/>
              </a:rPr>
              <a:t>Gambling misuse amongst Māori is a critical public health issu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Calibri"/>
              </a:rPr>
              <a:t>Little investment has been made in indigenous intervention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Calibri"/>
              </a:rPr>
              <a:t>Mainstream initiatives imposed on Maori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Calibri"/>
              </a:rPr>
              <a:t>Maori consulted post initiativ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Calibri"/>
              </a:rPr>
              <a:t>This does not reflect partnership!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0040" y="476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0000"/>
                </a:solidFill>
                <a:latin typeface="Calibri"/>
              </a:rPr>
              <a:t>Background – Development of the Tool in Te Arawa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8a0000"/>
                </a:solidFill>
                <a:latin typeface="Calibri"/>
              </a:rPr>
              <a:t>Context Relevance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19700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Calibri"/>
              </a:rPr>
              <a:t>Providing appropriate cultural contex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Calibri"/>
              </a:rPr>
              <a:t>Traditional knowledge is validated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en-NZ" sz="3200" spc="-1" strike="noStrike">
                <a:solidFill>
                  <a:srgbClr val="ffffff"/>
                </a:solidFill>
                <a:latin typeface="Calibri"/>
              </a:rPr>
              <a:t>Learning is a holistic process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Calibri"/>
              </a:rPr>
              <a:t>Hinengaro (emotional effect)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Calibri"/>
              </a:rPr>
              <a:t>Wairua       (reflective)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Calibri"/>
              </a:rPr>
              <a:t>Tinana        (listening and doing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Calibri"/>
              </a:rPr>
              <a:t>Titiro           (watching and monitoring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8a0000"/>
                </a:solidFill>
                <a:latin typeface="Calibri"/>
              </a:rPr>
              <a:t>Community Responsibility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5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NZ" sz="3600" spc="-1" strike="noStrike">
                <a:solidFill>
                  <a:srgbClr val="ffffff"/>
                </a:solidFill>
                <a:latin typeface="Calibri"/>
              </a:rPr>
              <a:t>Localising Resource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12120" indent="-312120">
              <a:lnSpc>
                <a:spcPct val="15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ffffff"/>
                </a:solidFill>
                <a:latin typeface="Calibri"/>
              </a:rPr>
              <a:t>Linking providers’ needs and abilities with community aspirations 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12120" indent="-312120">
              <a:lnSpc>
                <a:spcPct val="15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ffffff"/>
                </a:solidFill>
                <a:latin typeface="Calibri"/>
              </a:rPr>
              <a:t>Promoting specialized training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12120" indent="-312120">
              <a:lnSpc>
                <a:spcPct val="15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ffffff"/>
                </a:solidFill>
                <a:latin typeface="Calibri"/>
              </a:rPr>
              <a:t>Sharing, adapting and iwi (tribal) specific knowledge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12120" indent="-3121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7931160" cy="77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a0000"/>
                </a:solidFill>
                <a:latin typeface="Calibri"/>
              </a:rPr>
              <a:t>Hei Tiki: Commitment to culture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214880" y="1228320"/>
            <a:ext cx="4471920" cy="551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Tiki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symbolizes good luck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ikitiki – Pokie machin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Provides a rationale for continuing to gambl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Helps to keep you connected to cultur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Misuse of gambling icons has the potential to mislead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9" name="Picture 2" descr="DSC00357"/>
          <p:cNvPicPr/>
          <p:nvPr/>
        </p:nvPicPr>
        <p:blipFill>
          <a:blip r:embed="rId1"/>
          <a:srcRect l="20847" t="6939" r="19865" b="0"/>
          <a:stretch/>
        </p:blipFill>
        <p:spPr>
          <a:xfrm>
            <a:off x="436680" y="1268280"/>
            <a:ext cx="370368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Picture 2" descr="DSC00357"/>
          <p:cNvPicPr/>
          <p:nvPr/>
        </p:nvPicPr>
        <p:blipFill>
          <a:blip r:embed="rId1"/>
          <a:srcRect l="13079" t="13965" r="9481" b="6989"/>
          <a:stretch/>
        </p:blipFill>
        <p:spPr>
          <a:xfrm>
            <a:off x="1871640" y="0"/>
            <a:ext cx="5508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8a0000"/>
                </a:solidFill>
                <a:latin typeface="Calibri"/>
              </a:rPr>
              <a:t>Powhiri Tool: Safe Gambling Checklist 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ffff"/>
                </a:solidFill>
                <a:latin typeface="Calibri"/>
              </a:rPr>
              <a:t>Activity</a:t>
            </a:r>
            <a:r>
              <a:rPr b="1" lang="en-NZ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NZ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NZ" sz="24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alibri"/>
              </a:rPr>
              <a:t>Te Waharoa </a:t>
            </a:r>
            <a:r>
              <a:rPr b="1" lang="en-US" sz="2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26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alibri"/>
              </a:rPr>
              <a:t>Karanga </a:t>
            </a:r>
            <a:r>
              <a:rPr b="1" lang="en-US" sz="2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2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26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alibri"/>
              </a:rPr>
              <a:t>Marae atea </a:t>
            </a:r>
            <a:r>
              <a:rPr b="1" lang="en-US" sz="2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26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alibri"/>
              </a:rPr>
              <a:t>Whaikorero  </a:t>
            </a:r>
            <a:r>
              <a:rPr b="1" lang="en-US" sz="2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26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alibri"/>
              </a:rPr>
              <a:t>Waiata </a:t>
            </a:r>
            <a:r>
              <a:rPr b="1" lang="en-US" sz="2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2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26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alibri"/>
              </a:rPr>
              <a:t>Koha </a:t>
            </a:r>
            <a:r>
              <a:rPr b="1" lang="en-US" sz="2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2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26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alibri"/>
              </a:rPr>
              <a:t>Hariru </a:t>
            </a:r>
            <a:r>
              <a:rPr b="1" lang="en-US" sz="2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2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26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alibri"/>
              </a:rPr>
              <a:t>Hakari </a:t>
            </a:r>
            <a:r>
              <a:rPr b="1" lang="en-US" sz="2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2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2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26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alibri"/>
              </a:rPr>
              <a:t>Te Take o Marae</a:t>
            </a:r>
            <a:r>
              <a:rPr b="1" lang="en-US" sz="26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ffff"/>
                </a:solidFill>
                <a:latin typeface="Calibri"/>
              </a:rPr>
              <a:t>Application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alibri"/>
              </a:rPr>
              <a:t>Preparation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12120" indent="-31212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alibri"/>
              </a:rPr>
              <a:t>Connections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12120" indent="-31212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ffffff"/>
                </a:solidFill>
                <a:latin typeface="Calibri"/>
              </a:rPr>
              <a:t>Protection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12120" indent="-31212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ffffff"/>
                </a:solidFill>
                <a:latin typeface="Calibri"/>
              </a:rPr>
              <a:t>Gambling behaviour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12120" indent="-31212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ffffff"/>
                </a:solidFill>
                <a:latin typeface="Calibri"/>
              </a:rPr>
              <a:t>Losing sight of reality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12120" indent="-31212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ffffff"/>
                </a:solidFill>
                <a:latin typeface="Calibri"/>
              </a:rPr>
              <a:t>Attractions 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12120" indent="-31212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ffffff"/>
                </a:solidFill>
                <a:latin typeface="Calibri"/>
              </a:rPr>
              <a:t>Loss of mana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12120" indent="-31212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ffffff"/>
                </a:solidFill>
                <a:latin typeface="Calibri"/>
              </a:rPr>
              <a:t>Over compensating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12120" indent="-31212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ffffff"/>
                </a:solidFill>
                <a:latin typeface="Calibri"/>
              </a:rPr>
              <a:t>Identifying conflict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8a0000"/>
                </a:solidFill>
                <a:latin typeface="Calibri"/>
              </a:rPr>
              <a:t>Lessons Learn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179280" y="1125000"/>
            <a:ext cx="850752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Calibri"/>
              </a:rPr>
              <a:t>Culturally congruent resourc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5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Calibri"/>
              </a:rPr>
              <a:t>Relevant , Acceptable, Meaningfu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Calibri"/>
              </a:rPr>
              <a:t>Appropriate education and training resourc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5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Calibri"/>
              </a:rPr>
              <a:t>Informed indigenous and non-indigenous community based health worker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8a0000"/>
                </a:solidFill>
                <a:latin typeface="Calibri"/>
              </a:rPr>
              <a:t>Application of the resource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0" name="Content Placeholder 4" descr=""/>
          <p:cNvPicPr/>
          <p:nvPr/>
        </p:nvPicPr>
        <p:blipFill>
          <a:blip r:embed="rId1"/>
          <a:stretch/>
        </p:blipFill>
        <p:spPr>
          <a:xfrm>
            <a:off x="311040" y="1554120"/>
            <a:ext cx="86569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9T07:48:11Z</dcterms:created>
  <dc:creator>Laurie</dc:creator>
  <dc:description/>
  <dc:language>en-US</dc:language>
  <cp:lastModifiedBy>Amohia</cp:lastModifiedBy>
  <dcterms:modified xsi:type="dcterms:W3CDTF">2011-12-12T20:41:00Z</dcterms:modified>
  <cp:revision>97</cp:revision>
  <dc:subject/>
  <dc:title>Slide 1</dc:title>
</cp:coreProperties>
</file>