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8D86-CDDD-4D83-B5B7-E4E13531720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F97C-A398-4EE3-8AB8-C15CB11FA87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A1A5-EADF-484C-802E-C85D8969E96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D2F-F439-4E24-8C33-BA8A5F07C1F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7CD-3ECC-4BAF-9193-4E1B3F8C02C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3849-F665-4E07-A481-657F34B13E8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DD4B-75B2-46EE-8DE7-24DE50B0AFD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BB2D-B301-41FF-9660-6ECEA668691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2F59-2C87-47A2-A9F1-A2D67643AD0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841F-0AE0-4EA7-8B70-CF932BCF7F6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5DC-73E6-4A8E-9E72-2C448C130586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21F-90B2-41B8-AA1E-743F348FEA4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136-50AF-49F9-9768-49F96672CE6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BA65-5D82-41BB-92EA-F2ABCFBC583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096-3256-4606-90A9-1048E10B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B92-88B2-44A6-90FB-9EE9E7CF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F4E-3A4F-4D97-AC5F-B7A45027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33F-C1A1-4166-8B04-A943439E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AC8B-619E-4491-8217-CB281EEB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105-8DD5-42DC-AC0C-62B282A5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4956-FB80-45AB-A4F0-AB1E5808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070D-E9D6-415A-A955-AD7CFBF9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5E4B-A778-4243-9ADF-EB4CB16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143-ECB3-43F2-BED9-23DE897A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E29E-5E9F-451A-AF08-B955AD3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F10-A085-4A62-A7CB-BBA28128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92C7-BE67-4B47-AAF1-B05AE5F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42A-B3ED-4047-BF21-7CACAD4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6C1F-5D7F-46B2-BAF1-0E191838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E4FA-DD35-4FC8-AD93-E19C2837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731-BB74-4A1C-A58E-9B86ABA3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FC873-0E1D-4D70-8DBC-EBC94DC4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639A-8025-449E-8C4B-FF8E0A3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4B5D-28B9-4EAD-A540-7608EB3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AF80-B7F1-4D49-817B-8F73786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A635-35B1-4AB8-ADBE-7B72E713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102-E799-4855-BB10-CAB1669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BDF3-313D-447A-91E6-6B50368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B834-44DB-4720-91C2-E4961799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905D-9C9F-43D4-9A7F-1260531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DC94-FDA7-4EF4-8957-1F77CB0D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F153-BE3B-4BAB-86AA-93462E4F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BC30-55DD-4A5D-A9F5-6BF19716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7449-1B86-4B58-BE19-2AFE8E26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E9E-DA3D-41A8-8A57-17A10B1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5C9-3FF8-441F-AB81-DA7551F4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3BF-E0FE-4827-98C3-FA2CB3C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30A-F4F4-4EE5-92AE-81A989D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0DB-4B3A-402A-8FB7-845143DC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21B-A299-4E5E-9623-29FA37C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C45B-6E64-4887-BF1A-83B9EF38EE80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0" y="560556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7"/>
          <a:stretch/>
        </p:blipFill>
        <p:spPr>
          <a:xfrm>
            <a:off x="3995640" y="5821200"/>
            <a:ext cx="147636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8"/>
          <a:stretch/>
        </p:blipFill>
        <p:spPr>
          <a:xfrm>
            <a:off x="7942320" y="4784760"/>
            <a:ext cx="1201680" cy="2073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8A0-A8D1-4524-B199-EF3C083212B3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06F3-72F7-4E63-B992-553AFBB5244C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395280" y="4589640"/>
            <a:ext cx="82580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mohia Boulton, Heather Gifford, Jackie Cumming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Jennifer Tame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ealth Services and Policy Research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6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60336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We can’t actually help them unless they want to be helped”: </a:t>
            </a:r>
            <a:r>
              <a:rPr b="1" lang="en-NZ" sz="2800" spc="-1" strike="noStrike">
                <a:solidFill>
                  <a:srgbClr val="003300"/>
                </a:solidFill>
                <a:latin typeface="Comic Sans MS"/>
              </a:rPr>
              <a:t>the extent to which Māori health service providers can contribute to building more resilient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4240" y="1676520"/>
            <a:ext cx="43624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the coll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raditional examples of collective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dern challenges to the traditional family unit requires a new form of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9992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Impact on resilience</a:t>
            </a:r>
            <a:br>
              <a:rPr sz="4400"/>
            </a:b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f engagement with a M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191628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vider may provide the impetus for change in  behaviour or lif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offering support &amp; “dictating” to the cl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le model for whānau &amp; supports individuals &amp; whānau to become self sufficien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“doing for”                                &amp; “empowering” cli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724360" y="4869000"/>
            <a:ext cx="3294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s Māori processes and strengthens Māori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ong governance and leadership who role model the highest ethical, cultural, and profession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ff have the “right” mix                           of professional and                       personal val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850000" y="4405320"/>
            <a:ext cx="329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public health and primary healthcare facilities under one roof - physically locat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541760" y="3357720"/>
            <a:ext cx="4475160" cy="33559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779400" y="2860560"/>
            <a:ext cx="37623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reach services for more rural and isolated members of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ap-around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484280"/>
            <a:ext cx="8188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āori  primary health care providers can and do support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PH providers must use the full range of resources at their disposal to configure services to support those want to take the journey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whānau ora are linked: whānau ora will not be achieved without whānau being resi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managers and sta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gā Pae o te Māramata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ohia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Establishing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quest for Proposals 2008 from four funders: Ngā Pae o te Maramatanga, Health Research Council of NZ, ACC, 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onducted between 2009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research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FP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mmissioners had two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seek research that would focus on “whānau resilience”, i.e. the collective health and wellbeing of whānau at a level beyond individuals, families and individual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address factors that both promote and contribute to whānau health by maximising whānau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 Amohia Boulton (Lead),                      Dr Heather Gifford,                            Lynley Cvitanovic (WRMH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ssoc. Prof Jackie Cumming,           H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Jennifer Tamehana,                           CEO, TOIHA P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C:\Users\amohia\AppData\Local\Microsoft\Windows\Temporary Internet Files\Content.Outlook\NRJ87GL0\Jackie Cumming.jpg"/>
          <p:cNvPicPr/>
          <p:nvPr/>
        </p:nvPicPr>
        <p:blipFill>
          <a:blip r:embed="rId1"/>
          <a:stretch/>
        </p:blipFill>
        <p:spPr>
          <a:xfrm>
            <a:off x="7236000" y="3933720"/>
            <a:ext cx="1672920" cy="227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Amohia_2\Desktop\Jen cropped.jpg"/>
          <p:cNvPicPr/>
          <p:nvPr/>
        </p:nvPicPr>
        <p:blipFill>
          <a:blip r:embed="rId2"/>
          <a:stretch/>
        </p:blipFill>
        <p:spPr>
          <a:xfrm>
            <a:off x="4791240" y="4941720"/>
            <a:ext cx="2055600" cy="168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15415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Amohia_2\AppData\Local\Microsoft\Windows\Temporary Internet Files\Low\Content.IE5\DL2BDISJ\LC[1].JPG"/>
          <p:cNvPicPr/>
          <p:nvPr/>
        </p:nvPicPr>
        <p:blipFill>
          <a:blip r:embed="rId4"/>
          <a:stretch/>
        </p:blipFill>
        <p:spPr>
          <a:xfrm>
            <a:off x="7392960" y="1484280"/>
            <a:ext cx="1484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ur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000" y="148428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find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f the idea of “resilience” has any place in Māori primary healthcare (MPH)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ways in which whānau resilience is enhanced by MPH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ink between resilience and whānau o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resear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forms practi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ributes to Māori developmental aspi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280" y="1676520"/>
            <a:ext cx="81471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terature review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velopment of the conceptual frame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ey informant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staff, managers and governance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quential 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series of in-depth focus groups with TOIHA consumers (2 groups comprising 6-8 memb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et regularly over four wee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at we found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understandings of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engagement with a MPH provider has impacted on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MPH provider resources/ mechanisms contribute to enhanced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0920" y="198900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ner strength, “toughness’,                      flexibility, resourceful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aving values which allow                                        an individual to overcome                                 advers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lies on connections to people &amp;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regarding resilience being a “learned” attribute or on why some people appear more resilient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375160" y="2054160"/>
            <a:ext cx="35593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13880" y="1844280"/>
            <a:ext cx="7745400" cy="4273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s 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vement away from risk, harm, or a “bad” life to one which is “better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quires a cataly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on why,                                  when or how the journey                                    is instigat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5651640" y="2862360"/>
            <a:ext cx="2801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3-08T01:46:12Z</dcterms:modified>
  <cp:revision>169</cp:revision>
  <dc:subject/>
  <dc:title>Slide 1</dc:title>
</cp:coreProperties>
</file>