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23A6-BCF9-4D3F-9B4C-0172977837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8943-F0AD-498C-A560-ED0BEF28E2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BCF2-A762-4FDD-802F-57ECCB6394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F92A-158A-46B8-8BCE-64BE6ABBF9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F525-CCEF-4E77-BFD8-05C7D28D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7499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5280" y="3561480"/>
            <a:ext cx="7499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EC14-AB5E-4ADE-B45F-2784E115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38280" y="16282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95280" y="35614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38280" y="35614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52A6-DA17-4A3F-A4D0-48894418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2414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930760" y="1628280"/>
            <a:ext cx="2414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466600" y="1628280"/>
            <a:ext cx="2414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95280" y="3561480"/>
            <a:ext cx="2414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930760" y="3561480"/>
            <a:ext cx="2414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466600" y="3561480"/>
            <a:ext cx="2414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25C3-22A7-4712-97F3-EF01DA1E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749952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7F9A-BA8E-49A0-A9DB-F4F8EEEF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7499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4A1C-0C35-4BBC-8F34-786A4F09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36597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38280" y="1628280"/>
            <a:ext cx="36597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80DA-30F6-46FC-A820-6F37C308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B255-C29F-4961-BB6C-494A57B1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8C8A-2789-4EFF-951C-901CCC88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38280" y="1628280"/>
            <a:ext cx="36597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5280" y="35614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CBA5-7587-499E-866D-B568C841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36597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38280" y="16282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38280" y="35614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BF73-C672-4AE7-9704-2F85DAB0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38280" y="16282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561480"/>
            <a:ext cx="7499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8E05-3F35-44E3-8B0D-6B2FBDF4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image" Target="../media/image3.png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tretch/>
        </p:blipFill>
        <p:spPr>
          <a:xfrm>
            <a:off x="2268360" y="2997360"/>
            <a:ext cx="2665440" cy="2852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WRS Logo for Outlook Email"/>
          <p:cNvPicPr/>
          <p:nvPr/>
        </p:nvPicPr>
        <p:blipFill>
          <a:blip r:embed="rId3"/>
          <a:stretch/>
        </p:blipFill>
        <p:spPr>
          <a:xfrm>
            <a:off x="214200" y="5500800"/>
            <a:ext cx="1571760" cy="13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4" descr=""/>
          <p:cNvPicPr/>
          <p:nvPr/>
        </p:nvPicPr>
        <p:blipFill>
          <a:blip r:embed="rId4"/>
          <a:stretch/>
        </p:blipFill>
        <p:spPr>
          <a:xfrm>
            <a:off x="2340000" y="0"/>
            <a:ext cx="915840" cy="9810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5"/>
          <a:stretch/>
        </p:blipFill>
        <p:spPr>
          <a:xfrm>
            <a:off x="3635280" y="5589720"/>
            <a:ext cx="1908360" cy="12682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3" descr=""/>
          <p:cNvPicPr/>
          <p:nvPr/>
        </p:nvPicPr>
        <p:blipFill>
          <a:blip r:embed="rId6"/>
          <a:stretch/>
        </p:blipFill>
        <p:spPr>
          <a:xfrm>
            <a:off x="7259760" y="2276640"/>
            <a:ext cx="1884240" cy="2016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6" descr=""/>
          <p:cNvPicPr/>
          <p:nvPr/>
        </p:nvPicPr>
        <p:blipFill>
          <a:blip r:embed="rId7"/>
          <a:stretch/>
        </p:blipFill>
        <p:spPr>
          <a:xfrm>
            <a:off x="6012000" y="0"/>
            <a:ext cx="1873080" cy="17002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95280" y="1628280"/>
            <a:ext cx="7499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FD63-4F17-4ABF-9BE3-C929DD2605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3" descr="http://www.victoria.ac.nz/hsrc/gfx/logos/HSRC-logo.png"/>
          <p:cNvPicPr/>
          <p:nvPr/>
        </p:nvPicPr>
        <p:blipFill>
          <a:blip r:embed="rId8"/>
          <a:stretch/>
        </p:blipFill>
        <p:spPr>
          <a:xfrm>
            <a:off x="7786800" y="4643280"/>
            <a:ext cx="1197000" cy="207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97a"/>
                </a:solidFill>
                <a:latin typeface="Arial"/>
              </a:rPr>
              <a:t>Consolidating our Strengths:</a:t>
            </a: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42920" y="422064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3333cc"/>
                </a:solidFill>
                <a:latin typeface="Arial"/>
              </a:rPr>
              <a:t>Amohia Boulton, Gill Pirikahu, Jennifer Tamehana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3333cc"/>
                </a:solidFill>
                <a:latin typeface="Arial"/>
              </a:rPr>
              <a:t>INIHKD Conference, Poulsbo, WA, USA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3333cc"/>
                </a:solidFill>
                <a:latin typeface="Arial"/>
              </a:rPr>
              <a:t>25 May 2010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Subtitle 2"/>
          <p:cNvSpPr/>
          <p:nvPr/>
        </p:nvSpPr>
        <p:spPr>
          <a:xfrm>
            <a:off x="571680" y="2428920"/>
            <a:ext cx="7858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Collaboration as a means to further contemporary Indigenous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Manākitanga – Unique Contributions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TOIHA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 wealth of experience in service design and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n understanding of their community, of the community’s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 “grounded” reality to challenge the thinking of the acade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Manākitanga – Unique Contributions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WRMHD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xperience in academic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n understanding of the needs of policy and funding bodies, in both the research and health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bility to translate Māori community knowledge into palatable findings for the academy and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Tiakitanga – Caring for Each Other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5280" y="105228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Respect for each other’s strengths and abiliti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Communication is vital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Respect for participant’s knowledg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Desire for the research to contribute to service improvement </a:t>
            </a:r>
            <a:r>
              <a:rPr b="0" i="1" lang="en-NZ" sz="3200" spc="-1" strike="noStrike">
                <a:solidFill>
                  <a:srgbClr val="3333cc"/>
                </a:solidFill>
                <a:latin typeface="Arial"/>
              </a:rPr>
              <a:t>and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 new     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           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knowledge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The Story So Far?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Literature review has thrown up some challenges for the projec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Conceptually demandin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First round of interviews finishe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Beginning dissemination in a range of fora (academic and community-based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Research and the partnership are  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progressing wel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The research participant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OIHA Board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OIHA Managers and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anganui Whān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The research fund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Health Services Research Centr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WRMHD staff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41300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The research collabora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Who we ar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Principles underpinning the collabora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Principles in practic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Progress to dat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Research Collaboration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Is the concept of “resilience” relevant in Māori primary health?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Is “resilience” a relevant or useful concept for Māori whānau?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How can whānau resilience be supported and enhanced by Māori primary 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health services?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Whakauae Research for Māori Health and Development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355640" y="1700280"/>
            <a:ext cx="4010040" cy="28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Ng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ā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i Hauiti  - an Iwi (tribe) from Central Rangitikei, Aotearoa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Whakauae  - Iwi research unit of/for Ngāti Hauiti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4" name="Picture 9" descr="C:\Documents and Settings\Heather\My Documents\My Pictures\Picture Package\'05_09_10_01\DCIM\101MSDCF\DSC00659.JPG"/>
          <p:cNvPicPr/>
          <p:nvPr/>
        </p:nvPicPr>
        <p:blipFill>
          <a:blip r:embed="rId1"/>
          <a:stretch/>
        </p:blipFill>
        <p:spPr>
          <a:xfrm>
            <a:off x="32400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65" name="Content Placeholder 2"/>
          <p:cNvSpPr/>
          <p:nvPr/>
        </p:nvSpPr>
        <p:spPr>
          <a:xfrm>
            <a:off x="1476360" y="5157720"/>
            <a:ext cx="535788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ribally owned and accountable</a:t>
            </a: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Te Oranganui Iwi Health Authority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14280"/>
            <a:ext cx="840096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Inter-tribal organisation governed by 3 Iwi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141 staff, 6 service entities, 1 support servic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Protected by a cultural framework, Te Pitau Whakara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itau Whakarae based on the values and principles encapsulated within the  Kaupapa Ake (Vision Statement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How these Elements Fit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928800" y="1000080"/>
            <a:ext cx="7013520" cy="4929120"/>
            <a:chOff x="928800" y="1000080"/>
            <a:chExt cx="7013520" cy="4929120"/>
          </a:xfrm>
        </p:grpSpPr>
        <p:sp>
          <p:nvSpPr>
            <p:cNvPr id="70" name="AutoShape 5"/>
            <p:cNvSpPr/>
            <p:nvPr/>
          </p:nvSpPr>
          <p:spPr>
            <a:xfrm>
              <a:off x="928800" y="1000080"/>
              <a:ext cx="7013520" cy="4929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6"/>
            <p:cNvSpPr/>
            <p:nvPr/>
          </p:nvSpPr>
          <p:spPr>
            <a:xfrm>
              <a:off x="1873080" y="1369800"/>
              <a:ext cx="1888200" cy="49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GOVERNANC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Iwi Clinical &amp; Provi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7"/>
            <p:cNvSpPr/>
            <p:nvPr/>
          </p:nvSpPr>
          <p:spPr>
            <a:xfrm>
              <a:off x="1873080" y="1985400"/>
              <a:ext cx="1888200" cy="61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CE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HR, QIM,  Clinical, Cultural &amp; Fi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8"/>
            <p:cNvSpPr/>
            <p:nvPr/>
          </p:nvSpPr>
          <p:spPr>
            <a:xfrm>
              <a:off x="4300560" y="1616400"/>
              <a:ext cx="1753200" cy="61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ADVISORY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Committe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Group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9"/>
            <p:cNvSpPr/>
            <p:nvPr/>
          </p:nvSpPr>
          <p:spPr>
            <a:xfrm>
              <a:off x="1873080" y="2724840"/>
              <a:ext cx="1888200" cy="73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OPERATIONS / SERVIC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Service Leaders / Manag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Front line Primary Health Servic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0"/>
            <p:cNvSpPr/>
            <p:nvPr/>
          </p:nvSpPr>
          <p:spPr>
            <a:xfrm>
              <a:off x="2817000" y="4204080"/>
              <a:ext cx="2967120" cy="61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 Narrow"/>
                </a:rPr>
                <a:t>MODELL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Service models, Maori health models, Strateg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1"/>
            <p:cNvSpPr/>
            <p:nvPr/>
          </p:nvSpPr>
          <p:spPr>
            <a:xfrm>
              <a:off x="1738080" y="1000080"/>
              <a:ext cx="5664600" cy="24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 Narrow"/>
                </a:rPr>
                <a:t>WHANAU ORA – 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Organisational Driven Service Delivery Model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2"/>
            <p:cNvSpPr/>
            <p:nvPr/>
          </p:nvSpPr>
          <p:spPr>
            <a:xfrm>
              <a:off x="1738080" y="5436360"/>
              <a:ext cx="566460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 Narrow"/>
                </a:rPr>
                <a:t>TE PITAU WHAKARAE – Organisational Cultural Quality Framewor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3"/>
            <p:cNvSpPr/>
            <p:nvPr/>
          </p:nvSpPr>
          <p:spPr>
            <a:xfrm>
              <a:off x="4300560" y="2478960"/>
              <a:ext cx="1753200" cy="73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INFORMATION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Develop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Analy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4"/>
            <p:cNvSpPr/>
            <p:nvPr/>
          </p:nvSpPr>
          <p:spPr>
            <a:xfrm>
              <a:off x="2817000" y="3587400"/>
              <a:ext cx="2967120" cy="49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 Narrow"/>
                </a:rPr>
                <a:t>SUPPO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Full administration, finance, service assistanc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5"/>
            <p:cNvSpPr/>
            <p:nvPr/>
          </p:nvSpPr>
          <p:spPr>
            <a:xfrm>
              <a:off x="6863400" y="1739520"/>
              <a:ext cx="404280" cy="344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6"/>
            <p:cNvSpPr/>
            <p:nvPr/>
          </p:nvSpPr>
          <p:spPr>
            <a:xfrm>
              <a:off x="6998040" y="1246680"/>
              <a:ext cx="0" cy="492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7"/>
            <p:cNvSpPr/>
            <p:nvPr/>
          </p:nvSpPr>
          <p:spPr>
            <a:xfrm>
              <a:off x="6998040" y="5189400"/>
              <a:ext cx="0" cy="2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8"/>
            <p:cNvSpPr/>
            <p:nvPr/>
          </p:nvSpPr>
          <p:spPr>
            <a:xfrm>
              <a:off x="2817000" y="1862280"/>
              <a:ext cx="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9"/>
            <p:cNvSpPr/>
            <p:nvPr/>
          </p:nvSpPr>
          <p:spPr>
            <a:xfrm>
              <a:off x="2817000" y="2602080"/>
              <a:ext cx="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0"/>
            <p:cNvSpPr/>
            <p:nvPr/>
          </p:nvSpPr>
          <p:spPr>
            <a:xfrm>
              <a:off x="2817000" y="3464280"/>
              <a:ext cx="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1"/>
            <p:cNvSpPr/>
            <p:nvPr/>
          </p:nvSpPr>
          <p:spPr>
            <a:xfrm>
              <a:off x="2817000" y="4081320"/>
              <a:ext cx="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2"/>
            <p:cNvSpPr/>
            <p:nvPr/>
          </p:nvSpPr>
          <p:spPr>
            <a:xfrm>
              <a:off x="2815920" y="4820040"/>
              <a:ext cx="1800" cy="126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3"/>
            <p:cNvSpPr/>
            <p:nvPr/>
          </p:nvSpPr>
          <p:spPr>
            <a:xfrm flipH="1" flipV="1">
              <a:off x="5784120" y="3834360"/>
              <a:ext cx="269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4"/>
            <p:cNvSpPr/>
            <p:nvPr/>
          </p:nvSpPr>
          <p:spPr>
            <a:xfrm flipH="1">
              <a:off x="5784120" y="4449960"/>
              <a:ext cx="10789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5"/>
            <p:cNvSpPr/>
            <p:nvPr/>
          </p:nvSpPr>
          <p:spPr>
            <a:xfrm flipH="1">
              <a:off x="5784120" y="5189400"/>
              <a:ext cx="269640" cy="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6"/>
            <p:cNvSpPr/>
            <p:nvPr/>
          </p:nvSpPr>
          <p:spPr>
            <a:xfrm flipH="1">
              <a:off x="1467720" y="112284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27"/>
            <p:cNvSpPr/>
            <p:nvPr/>
          </p:nvSpPr>
          <p:spPr>
            <a:xfrm>
              <a:off x="1468080" y="1122840"/>
              <a:ext cx="0" cy="443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28"/>
            <p:cNvSpPr/>
            <p:nvPr/>
          </p:nvSpPr>
          <p:spPr>
            <a:xfrm>
              <a:off x="1468080" y="555948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9"/>
            <p:cNvSpPr/>
            <p:nvPr/>
          </p:nvSpPr>
          <p:spPr>
            <a:xfrm>
              <a:off x="7402680" y="112284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0"/>
            <p:cNvSpPr/>
            <p:nvPr/>
          </p:nvSpPr>
          <p:spPr>
            <a:xfrm>
              <a:off x="7672680" y="1122840"/>
              <a:ext cx="0" cy="443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31"/>
            <p:cNvSpPr/>
            <p:nvPr/>
          </p:nvSpPr>
          <p:spPr>
            <a:xfrm flipH="1">
              <a:off x="7402320" y="555948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2"/>
            <p:cNvSpPr/>
            <p:nvPr/>
          </p:nvSpPr>
          <p:spPr>
            <a:xfrm flipH="1">
              <a:off x="4165560" y="1862280"/>
              <a:ext cx="13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33"/>
            <p:cNvSpPr/>
            <p:nvPr/>
          </p:nvSpPr>
          <p:spPr>
            <a:xfrm>
              <a:off x="4165560" y="1862280"/>
              <a:ext cx="0" cy="11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4"/>
            <p:cNvSpPr/>
            <p:nvPr/>
          </p:nvSpPr>
          <p:spPr>
            <a:xfrm>
              <a:off x="4165560" y="2971800"/>
              <a:ext cx="13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5"/>
            <p:cNvSpPr/>
            <p:nvPr/>
          </p:nvSpPr>
          <p:spPr>
            <a:xfrm flipH="1">
              <a:off x="3760920" y="2355120"/>
              <a:ext cx="40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6"/>
            <p:cNvSpPr/>
            <p:nvPr/>
          </p:nvSpPr>
          <p:spPr>
            <a:xfrm flipH="1" flipV="1">
              <a:off x="3760920" y="1616400"/>
              <a:ext cx="404280" cy="73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7"/>
            <p:cNvSpPr/>
            <p:nvPr/>
          </p:nvSpPr>
          <p:spPr>
            <a:xfrm flipH="1">
              <a:off x="3760920" y="2355120"/>
              <a:ext cx="404280" cy="61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38"/>
            <p:cNvSpPr/>
            <p:nvPr/>
          </p:nvSpPr>
          <p:spPr>
            <a:xfrm>
              <a:off x="6054120" y="1862280"/>
              <a:ext cx="13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9"/>
            <p:cNvSpPr/>
            <p:nvPr/>
          </p:nvSpPr>
          <p:spPr>
            <a:xfrm>
              <a:off x="6188760" y="1862280"/>
              <a:ext cx="0" cy="11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40"/>
            <p:cNvSpPr/>
            <p:nvPr/>
          </p:nvSpPr>
          <p:spPr>
            <a:xfrm flipH="1">
              <a:off x="6054120" y="2971800"/>
              <a:ext cx="13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1"/>
            <p:cNvSpPr/>
            <p:nvPr/>
          </p:nvSpPr>
          <p:spPr>
            <a:xfrm>
              <a:off x="6188760" y="2355120"/>
              <a:ext cx="67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2"/>
            <p:cNvSpPr/>
            <p:nvPr/>
          </p:nvSpPr>
          <p:spPr>
            <a:xfrm>
              <a:off x="6054120" y="3834360"/>
              <a:ext cx="0" cy="1355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43"/>
            <p:cNvSpPr/>
            <p:nvPr/>
          </p:nvSpPr>
          <p:spPr>
            <a:xfrm>
              <a:off x="2817000" y="5313600"/>
              <a:ext cx="720" cy="122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The Research Collaboration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79280" y="1268280"/>
            <a:ext cx="82296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TOIHA and WRMHD share a </a:t>
            </a:r>
            <a:r>
              <a:rPr b="0" i="1" lang="en-NZ" sz="3200" spc="-1" strike="noStrike">
                <a:solidFill>
                  <a:srgbClr val="3333cc"/>
                </a:solidFill>
                <a:latin typeface="Arial"/>
              </a:rPr>
              <a:t>whakapapa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 (genealogical) connec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TOIHA and WRMHD share a </a:t>
            </a:r>
            <a:r>
              <a:rPr b="0" i="1" lang="en-NZ" sz="3200" spc="-1" strike="noStrike">
                <a:solidFill>
                  <a:srgbClr val="3333cc"/>
                </a:solidFill>
                <a:latin typeface="Arial"/>
              </a:rPr>
              <a:t>kaupapa 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(project) relationship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Our shared kaupapa - to understand the health and social services and practices 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required that best support whānau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Principles Underpinning the Work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760" y="114300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Kotahitanga – a unity of worldview, purpose and direc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Manākitanga – recognising and respecting each other’s unique contribution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Tiakitanga – acting in a manner which respects the people who participate and for whom the research is being 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conducte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Kotahitanga – Unity of Purpose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The research topic is an important one for both organisations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Research design and methodology meet the need for academic rigour </a:t>
            </a:r>
            <a:r>
              <a:rPr b="0" i="1" lang="en-NZ" sz="3200" spc="-1" strike="noStrike">
                <a:solidFill>
                  <a:srgbClr val="3333cc"/>
                </a:solidFill>
                <a:latin typeface="Arial"/>
              </a:rPr>
              <a:t>and 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community rigour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Joint data collection, analysis,      publication, and dissemination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2:44:02Z</dcterms:created>
  <dc:creator>tteki</dc:creator>
  <dc:description/>
  <dc:language>en-US</dc:language>
  <cp:lastModifiedBy>Reviewer 1</cp:lastModifiedBy>
  <dcterms:modified xsi:type="dcterms:W3CDTF">2010-06-04T01:47:21Z</dcterms:modified>
  <cp:revision>24</cp:revision>
  <dc:subject/>
  <dc:title>Slide 1</dc:title>
</cp:coreProperties>
</file>