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65DA-E43D-4A51-ACDD-613785B8704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91F3-D840-4E05-9074-CB0AC1EAA17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4EB1-76C4-4354-BBB3-E32A4E30056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93CA-370A-47A2-A222-4201D424D04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A47E-4809-4ED4-B9AE-89D0C6509A9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A1C6-DB30-4C47-B488-4ECC15849DE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D45-8FEB-462F-8B09-531D95F0246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195D-EFB0-4663-B094-829A6544FEF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90B7-3EDC-43E6-9065-45C5661A109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01A-9D41-4CD8-A316-75129471604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F01D-DC3D-4167-99D5-52C3ED4AF26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2BA-CE90-4949-83A8-81FAF979888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521-838D-4C48-A9B3-1590210114F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6F9-B129-49B3-9AB7-01B87C283C3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DC23-C5D0-40A1-8F49-D32EA620B64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21D0-A6B1-4339-BF60-01428C0F500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330C-7B06-46F2-830B-161C08235E4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EB64-E5DA-430B-B33D-698D8AD2665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695A-0084-4075-B1E0-4813BCB0437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B27-58D0-445A-B36D-6A930071630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CBEF-07C2-45A3-9AC4-39E129656CA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8A0F-8261-4C86-AE20-6F922890F48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3E7-E6A9-4D99-A311-7090A395E3B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230B-09F5-47DF-9029-94E44258DBB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8F4-F3B3-4C2E-9D20-12F54F9BB87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F205-D10B-4A10-B13A-0C375CA2688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EB5-DEDA-4D68-A214-3958A93E00E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0F8C-1E5D-4693-AC7B-B476B43A419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39E-5656-47AC-9120-1C25C0072A9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383-B7A5-40D0-8B45-B68CCFE9CFA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9C4A-E654-490A-8EEC-176F92EE085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928-683E-469A-95F9-134191F8924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9FAE-1B62-40D0-878D-CCD0A38789D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8784-9EB0-44E4-8CAF-01E301D9FD2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FF0A-6E1D-4891-8FD6-444A028ACB0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F79-78B4-4DFB-A65F-A3E91BBBEA7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6F1-0FEE-4A68-B984-300F9EF04C0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E04B-52D5-4202-8D44-F19C0C69906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41C2-435A-4643-854E-3580E8BF666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3EB1-858E-4940-A864-361C9C36C59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3AA-FB91-4654-97FB-657BF25C2A3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D5FA-A3F6-4EF1-9F4A-440EA41F7EB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75E6-49C7-48B3-B3F6-271476B53C5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2E69-CB13-4B89-8B4C-3D620070960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91B-3258-4887-B992-BE65AC59223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E692-7FF3-4448-9910-7B9E2F5881A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1696-5D90-44A7-B531-F7199DAAB05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F17-98ED-47BE-8BFB-1F14E65B64F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A59-1558-49AF-B69E-586BE6FBCBE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2AF-04EB-4330-907F-FA7DECC8FC8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CFA9-736E-463C-9228-2FE0A3C9B00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FB77-2789-4F22-9379-F5FA46C7961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9D3-D1B8-4E50-A395-AA801237EBF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FC9C-1417-4C35-9F8C-EA6D30610C0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88F1-F755-421F-B077-CA4984B20C4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B61-FE24-40CC-AD82-3B0BE0AE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DBB-FCF1-42C9-97AF-A79433E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AB7-343D-4848-92C5-CA114D4D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E5C-4A6C-44E1-8ED6-A9E530E8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A2DF-644E-4CFB-A61E-CE9E7542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C181-65FE-4416-824C-591DF07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E985-1337-4913-9C51-8935EA4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EE1A-70C2-49EA-B6F1-F339DD82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9A8C-9449-4F83-98F5-C56FC2F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6CF5-652F-46A3-ACF4-5E008E4E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9E4D-EE78-42C7-903E-F88FC192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07A-F9C5-47E6-88EB-2E4D0A2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5D60-CE71-4FAB-8B29-4CC42F0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91A-5E41-4976-BCFF-424F520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EF1-2852-459D-8A9D-FD774E38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6772-7140-49E7-84CB-A69DEB35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ABFF-4286-4243-A968-7B6226C4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D07-A8A4-403B-BA65-C4D6639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ABA-FD85-419D-AA27-3712B06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500-CE36-40F0-BD74-5B2C3EC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0FD-A335-407B-9429-3614D21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C88-2DE5-4507-9B1D-DA10977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5D0-C5B7-4432-894D-1B3911E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FB4-F7B9-4E1B-A6C2-42BC239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D8F7-EEBB-48B2-8CEE-591DF44C782E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5" descr=""/>
          <p:cNvPicPr/>
          <p:nvPr/>
        </p:nvPicPr>
        <p:blipFill>
          <a:blip r:embed="rId6"/>
          <a:stretch/>
        </p:blipFill>
        <p:spPr>
          <a:xfrm>
            <a:off x="0" y="5773680"/>
            <a:ext cx="26431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WRS Logo for Outlook Email"/>
          <p:cNvPicPr/>
          <p:nvPr/>
        </p:nvPicPr>
        <p:blipFill>
          <a:blip r:embed="rId7"/>
          <a:stretch/>
        </p:blipFill>
        <p:spPr>
          <a:xfrm>
            <a:off x="7572240" y="5643720"/>
            <a:ext cx="1571760" cy="121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WRS Logo for HRC Panui.png"/>
          <p:cNvPicPr/>
          <p:nvPr/>
        </p:nvPicPr>
        <p:blipFill>
          <a:blip r:embed="rId8"/>
          <a:stretch/>
        </p:blipFill>
        <p:spPr>
          <a:xfrm>
            <a:off x="208080" y="1420920"/>
            <a:ext cx="8753400" cy="4887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9678-24EC-407C-8D91-698CD161F898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Māori Health Research Writ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4" name="Content Placeholder 2"/>
          <p:cNvSpPr/>
          <p:nvPr/>
        </p:nvSpPr>
        <p:spPr>
          <a:xfrm>
            <a:off x="428760" y="3929040"/>
            <a:ext cx="825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June-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Heather Gif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Amohia Boul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Investment Signals (IS) for the four Research Investment Steams (RIS) are currently being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art of this process the scope of each signal will be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s will be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of $66M to be invested through the annual contestable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nnual Funding Round 10/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609480" y="1557360"/>
            <a:ext cx="82584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nd Programm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ntract types with fixed maximum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4 Research Investment Streams (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Investment Signals (IS) to initiate the call for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NZ Health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health service delivery over the short-medium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in productivity, performance, organisation and sustainability of the health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, equity, quality and efficacy of car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, regional or nation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earch is not ex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ealth and Well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link between knowledge generated and improving the health and wellbeing of individuals and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, maintaining and enhancing health and well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disease and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and reducing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/ economic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Improving Outcomes for Acute and Chronic Cond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a disease state, condition or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ble or non-communicabl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pectrum of health improvement from diagnosis, development of treatments through to patient self management, rehabilitation and pallia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the pathology of a disease, through to the management of the disease or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Rangahau Hauora Mā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evidence base which contributes to Māori health gains derived from high-quality Māori health research that upholds Rangatirat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health research that values Māori worldviews and builds Māori research capacity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s and advances Māori knowledge, resource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ypes of Funding Avail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Contracts (Annual Funding 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/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 and Grants-in-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ori Knowledge and Development Community Health Research Grants (Ngā Kanohi Kit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HRP (international initi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428760" y="121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ontrac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, Summer Studentships, Masters and PhD Scholarships, Postdoctoral Fellow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457200" y="1571760"/>
            <a:ext cx="82580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alon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he long-term development of a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equire three or more established researchers, with a history of receiving contr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outcomes, vision, collaboration/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 M over fiv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am: Welcome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5: Session 1 - Fun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am Morning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0: Session 2 - Grant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30 pm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0p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3 - Working 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n individual or a group if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duration is three years (five years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contracts will have a budget cap of    $400,000 per annum, to a maximum contract price of $1.2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pport emerging researchers with a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not have previously held a competitive contract for research expenses of &gt; $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 maximum of $150,000 over thre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o test feasibi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150,0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ademic background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/involvement in Māori community activities and/or be working or training in a health-rela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12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to pay for travel, koha, accommodation, living expenses and cour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ure for a period of up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Student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/work undertaken during the summer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term of 1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eport at the conclusion of the student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by letter with the support of the research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4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’s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one year of personal support for students completing the research component of a Master’s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1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D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ree years of personal support for students undertaking a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25,000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0,000 may be awarded to assist with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doctoral 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utstanding graduates who have recently completed a PhD to conduct further research and gain experience in their chos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based on recipient’s qualifications and University salar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25,000 for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he planning and scoping of a potential research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piloting an idea, or consultation with a community, prior to a gra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-in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issemination for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395280" y="112536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ā Kanohi Ki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.5M total, $250k pe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whānau, hapū and iwi ability to develop and lea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Proposals likely to be released in Nov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to undertake research in a range of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571680" y="114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comprises a number of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view for research excellence is the stage most people are familiar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(usually only 1 for Māori Health) brought together to determine refe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ough peer review of application by up to 5 reviewers resulting in review summ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uttal by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wn entity responsible for investment in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d by Minister of Health, funded by Minister of RS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iomedical, clinical, health services &amp; public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on: to improve human health through promoting and fund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642960" y="150012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considers each application on the basis of 4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n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determined “fun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 of the process still being confi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ior to 10/11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6429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“internal” prioritisation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prioritisation was to ensure the HRC invested in a balanced portfolio of research that was both scientifically excellent and of high priority to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best applications were identified by SACs, priority review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10/11 Funding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611280" y="1125360"/>
            <a:ext cx="825804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scoring will no longer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d by an assessment on the impac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researchers to consider the links between their research and the specific goals outlined in research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pending on how this will occur at the assessmen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tent Placeholder 2"/>
          <p:cNvSpPr/>
          <p:nvPr/>
        </p:nvSpPr>
        <p:spPr>
          <a:xfrm>
            <a:off x="571680" y="1071720"/>
            <a:ext cx="835812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pplications are determined to be fundable by the SACs, they are considered by the General Assess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ises Chairs of each of the Science Assessing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C have an overview of the range of potential investment and consider the scope of the investment HRC will make in any one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Excellence and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609480" y="1724040"/>
            <a:ext cx="82584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547640" y="1125360"/>
          <a:ext cx="6046920" cy="508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25360"/>
                    <a:ext cx="6046920" cy="50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1571760" y="1143000"/>
          <a:ext cx="6046560" cy="50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143000"/>
                    <a:ext cx="6046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Oval 10"/>
          <p:cNvSpPr/>
          <p:nvPr/>
        </p:nvSpPr>
        <p:spPr>
          <a:xfrm>
            <a:off x="3857760" y="1071720"/>
            <a:ext cx="3600360" cy="3456000"/>
          </a:xfrm>
          <a:prstGeom prst="ellipse">
            <a:avLst/>
          </a:prstGeom>
          <a:solidFill>
            <a:srgbClr val="dd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2-Grant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ranslating ideas into a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214200" y="157176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question you want answered (can you say it in a couple of sentences, does it make sense to other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ealth significance (how does it relate to priorities and current poli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t been asked befo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able to be answered with some degree of confidence? Is the question too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research methodology and the specific methods answer the research question po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explain your methods clea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explained 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the research process in your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analysis link with the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udgetary implications of the methods chos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pecific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erest in Māori &amp; Pacific peoples’ health research &amp; capac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Investmen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areer development &amp; monitors health research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funding partnerships with private &amp; public secto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sufficient detail to convince the reviewers of your ability to carry out the research in a timely fashion, using the methods and methodology you have outl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previous experience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ise of team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need an advisory committ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 methods adequately expla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staffing work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outside influences might impact on research tim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the stages of the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GANTT charts and timelines to assist in mapping the projec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s to be on your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methodological or clinical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specific locality issues you need to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orce development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needs to occur early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 lengthy process of negotiating roles,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(MoUs) or informal 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428760" y="135720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guidelines carefully to ascertain what can and can’t be included in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to develop a budget and revie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costings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can justify your budget (more detail makes it easier to agree to funding reques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n over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you keep end-users, funders, advisors engaged and in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using the full range of dissemin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dissemination methods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d approaches are useful both for you as the researcher and the research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nowledg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regarded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lier in the process you can consider knowledge translation opportunities the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ow your research can improve services, practice at a local level, national level and implications inter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Writing a funda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ontent Placeholder 2"/>
          <p:cNvSpPr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o the HRC 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language clear, precise and jargon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is important, use headings to ensure a logical argu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for writing, review, peer review, r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building up a profile start small and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ome final t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overambi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(whether it be methodological or simply a novel idea) is highly reg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/impact also sought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relevant material to assist in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scared to ask others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HRC Guidelin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Research Portfolios replaced with 4 Research Investment Streams (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priority areas for healt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 these will remain stable for at least a five-year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responsiveness to government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mmunication of research needs an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Māori Health Committee review of the Health Research Strategy to Improve Māori Health and Wellbeing 2004 –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i Whakapiripiri – March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worksh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with key experts in Māori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395280" y="141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document to be presented at Hui Whakapiripiri in Rotorua 8-9 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for the Maori Health Committee to present the document back to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to seek the sector’s input/comments before presenting the document to the HRC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4-Working o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ell u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help? 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her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539640" y="1628640"/>
            <a:ext cx="82584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vestment Streams and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Investment Signal for each stream will be released prior to the annual funding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define the priorities for HRC investment i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present high-level information for researchers on HRC’s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11280" y="1773360"/>
            <a:ext cx="8258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ers will be requir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te which Investment Signal they are responding to in their application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make a case for how their proposal addresses the Investment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t between the proposal and the IS will be a crucial part of the assess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539640" y="1628640"/>
            <a:ext cx="8258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be included in each Investmen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apply only to  Programme and Projec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dget indications will be used by the HRC Board as a means of determining future research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 </cp:lastModifiedBy>
  <dcterms:modified xsi:type="dcterms:W3CDTF">2010-07-12T21:52:29Z</dcterms:modified>
  <cp:revision>141</cp:revision>
  <dc:subject/>
  <dc:title>Slide 1</dc:title>
</cp:coreProperties>
</file>