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BC9-D961-4E8E-9594-89D698F63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E99-FD65-4881-A2F8-EC7B5FEDD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uj[op’j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1A2-B7D5-4AD0-9689-2EAEC5E17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CAB-5A50-4AB4-A5AA-CC0976176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344-A208-4163-9F7B-D442C0C59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397-E0FB-498B-9760-6D96BC309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BA71-016F-4118-B338-A10521EF2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A636-090A-4ABB-8C08-06D494513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6220-4310-46D6-96C0-75F071FAC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15D3-56D8-41D6-84A2-3D3F5D3FE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008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BDC8-E209-4882-8CE9-C528568D7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096-F137-4D9F-9C01-5FE6E5EEC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1CF-F7EF-4502-A563-3EA887DD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B2D-7DA4-4BBB-B48C-EF4B607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F86-A8AF-48FF-92B3-B91FAEEB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ED7-36C9-4CE6-8F39-C186E09B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45B5-3AF3-4003-9BD7-4ABD65949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11FF-B2CE-4408-838F-F358D85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9B4A-99C1-4157-9C32-B0EBE04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4438-4F4A-46C0-B4FB-71C285A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8045-AA40-451C-A21D-4C12AD64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20FD-B0A2-46CC-AABE-8D43A51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673C-DD5D-436C-87BC-164C75A6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326-14E7-4458-A7F7-633AD54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E763-071C-4A4D-9ADF-60ABCF8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F41A-5510-4553-823D-E939ED82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83A9-B2C7-4813-AE79-0BF65D7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F472-D0E3-4ABE-A63F-365BCAD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8C493-4589-41E0-B7CA-B52611BB3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29D-CB86-49A5-B7FB-4F643E27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C8B-1764-40B4-ADB7-3C2E7518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826-FD87-4E4B-92C4-1454EEE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846-7E7F-469B-B3F5-584AA6FE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B77-0939-4F00-9044-E3B3F18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FD0-CCA0-4D80-9401-836AA83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F44-C16B-4204-B4EB-A662539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8F3A-6EB0-484C-BA52-1739FDEB80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"/>
          <p:cNvSpPr/>
          <p:nvPr/>
        </p:nvSpPr>
        <p:spPr>
          <a:xfrm>
            <a:off x="3429000" y="6460560"/>
            <a:ext cx="19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rowaitia te puna wai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i oranga motuhake mo te Iw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4" descr=""/>
          <p:cNvPicPr/>
          <p:nvPr/>
        </p:nvPicPr>
        <p:blipFill>
          <a:blip r:embed="rId7"/>
          <a:stretch/>
        </p:blipFill>
        <p:spPr>
          <a:xfrm>
            <a:off x="3429000" y="507204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7"/>
          <a:stretch/>
        </p:blipFill>
        <p:spPr>
          <a:xfrm>
            <a:off x="3419640" y="544500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victoria.ac.nz/hsrc/gfx/logos/HSRC-logo.png"/>
          <p:cNvPicPr/>
          <p:nvPr/>
        </p:nvPicPr>
        <p:blipFill>
          <a:blip r:embed="rId9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71C6-09CB-4408-963A-B8B1CBF18B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ohia.whakauae@xtra.co.nz" TargetMode="External"/><Relationship Id="rId2" Type="http://schemas.openxmlformats.org/officeDocument/2006/relationships/hyperlink" Target="http://www.whakauae.co.nz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222268"/>
                </a:solidFill>
                <a:latin typeface="Arial"/>
              </a:rPr>
              <a:t>Supporting Whānau Wellbeing:</a:t>
            </a:r>
            <a:br>
              <a:rPr sz="2000"/>
            </a:b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000" y="407664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Amohia Boulton, Jennifer Tamehana, Jackie Cumm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Lynley Cvitan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Families Commission Research Seminar, 3 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How Māori Primary Health Care Contributes to Whānau Resil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Conceptually very demanding, linking three distinct concepts into a cohesive framework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ranslational of “academic” theory and theory testing into meaningful practice and lessons for service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re we simply attempting to ‘fit’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to a Western framework of resilience – is conceptual adaptation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dentifying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concepts, ways of being and doing that are meaningful for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 attaining and/or sustaining wh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funders (HRC, Ngā Pae o te Maramatanga, ACC, Families Com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hakauae Research for Maori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Research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ontex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How these goals relate to Whā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hallenges posed by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Goal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213920"/>
            <a:ext cx="821520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                     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levance of the concept of ‘resilience’ for Māori whānau and in Māori primary health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 what ways whānau resilience can be supported and enhanced by Māori primary health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Contex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4280"/>
            <a:ext cx="82152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Māori-led, iwi-based research partnersh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Whakauae  Research (l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e Oranganui Iwi Health Authority (TOIHA) P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Health Services Research Centre, VUW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Single case stud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Research question in response to a Request for Proposal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lationship to Whānau Ora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267920"/>
            <a:ext cx="8462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What is the relationship between whānau ora and resilience in a primary health car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TOIHA’s mission is to achieve whānau ora through Māori primary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Must TOIHA enable resilience for whānau to achieve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Is being resilient critical to achieving       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hase One nearing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tegrated literature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resilience, Māori primary health and whānau 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Development of a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ey informant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OIHA staff, managers and governance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Literature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International academic resilience literature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limited relevance for whānau, hapū, 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Dearth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otential for recent indigenous and cultural resilience literature to inform a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resili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Document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Mapping” resilience to Māori primary health care approaches in the TOIHA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Four principles identified for furthe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hānau Ora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Focus on Well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Cultur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Purpose to test whether the concept of resilience understood and used by health practitioners/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How does the concept relate to whānau ora, if at 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Eleven face to face, in-depth key informant interview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Team data analysis – mahi a rō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3T20:54:08Z</dcterms:modified>
  <cp:revision>136</cp:revision>
  <dc:subject/>
  <dc:title>Slide 1</dc:title>
</cp:coreProperties>
</file>