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0868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1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2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BE40-8738-40F1-A148-BBEABB0ADE70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F05C-F368-4F6E-9F3B-000A93C396D9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C516-1467-4B13-A124-95626537C619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C6C9-9575-499A-9860-D6DDAF760938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9B71-4259-4FF0-9FA0-2473F9F1FBC5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66FA-75B7-477D-A6BC-B48424D02FF3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288A-CD40-4C35-947A-8C4EBF5B2878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F8D2-2757-4FBA-B7BC-31F01537B40F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048F-EBDA-49D5-AB43-AEE346260BE8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DE80-4339-4B15-935E-F83EE86B40DD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A929-6FFF-4865-9605-01902F2ACDDD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45DD-83E8-4A25-98D8-B5B159B959ED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2F69-8B90-48E4-9486-375666999F92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C267-7689-4FD2-9564-896F83FAF684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69A0-9477-4F51-B026-0A595F04EA73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88E6-4F7C-4198-81F9-2715C6C246A0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E3F6-5ED5-4DEA-B5DD-26E51C783BE9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2A41-DF03-4E54-8E43-B0BF964E9EEF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9936-7E12-4BD1-B6BF-444FCA29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1DD-9C27-4AF2-A11B-94DE47E3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294-FCF9-41CD-B321-EB7BD0A0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A79-6C1F-46A4-ABAC-95E8F960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066A-2A44-4FB9-9B19-3D8B2F76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F193-83AD-4579-AF42-A443DE3C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455E-DAC8-43FB-9D4A-E4B65E04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3D40-0C3A-4167-B5B1-4602FE48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1161-7CA6-4991-AEA1-DA44456E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DC8D-60ED-40AD-8D6A-46E2FB2F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4E39-4B28-4EB6-9BB7-3F1DB451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3BB-6788-4B64-BB7E-7D844795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FD44-E0FA-4A10-9BDE-ECB3936E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AA64-E766-4A78-A0E8-97AF393A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B6CB-B588-4259-A5B3-F192831E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F189-10E6-4454-99DC-D998B7DE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BF8A-8DA4-4848-904F-ACF847B9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A46FB-D513-4B13-A7BB-46A006C9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C01ED-29EE-4588-A89A-7561C857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16E7-F239-4FF6-88C7-AEB6EFFA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575FA-FA12-46C5-A343-F9A59205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F8670-CFB6-4AB6-809B-60EC18B6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FF77-ECC4-4CB1-88A7-C6AEA927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B723C-53BD-4AB6-99DD-735D4ED4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05438-5270-446C-B969-C8230FCD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97770-6806-4CA3-8EF6-35D95EC4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6E3EB-45CA-4284-AD65-6F2C1289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5DE24-D488-4BF4-8352-147F2CB6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7632D-97D3-448C-8396-BECA6FE7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E4395-2265-4C98-BA29-B66CC221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290-CCA4-4BDD-BA5F-778C54A9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D09-F291-4AB8-A8D9-2A0777B6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8437-00BF-4E23-9159-483BF845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EEE-62C7-43DE-8A8A-78504810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1FC-A8CB-4003-8C80-BCF0EED6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973-94F2-48C0-B0FD-DB21C9EB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7ED1-59F9-43A8-915C-ACB6B56D82CA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" name="Picture 4" descr="WRS Logo for Outlook Email"/>
          <p:cNvPicPr/>
          <p:nvPr/>
        </p:nvPicPr>
        <p:blipFill>
          <a:blip r:embed="rId6"/>
          <a:stretch/>
        </p:blipFill>
        <p:spPr>
          <a:xfrm>
            <a:off x="1440" y="5602320"/>
            <a:ext cx="1619280" cy="125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7"/>
          <a:stretch/>
        </p:blipFill>
        <p:spPr>
          <a:xfrm>
            <a:off x="6454800" y="6261120"/>
            <a:ext cx="2689200" cy="596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3500-7608-43F6-844D-B9D0F6C67BA0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108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10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11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Rectangle 13"/>
          <p:cNvSpPr/>
          <p:nvPr/>
        </p:nvSpPr>
        <p:spPr>
          <a:xfrm>
            <a:off x="468360" y="2274840"/>
            <a:ext cx="82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5B57-682C-44EE-946C-57794E494CE6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NZ" sz="36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541440" y="4653000"/>
            <a:ext cx="82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r H Gifford, Dr A Boulton, Dr S Triggs, Prof C Cunning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gā Pae o te Māramata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ternational Indigenous Development Con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uckland, 27-30 Jun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603360" y="1989000"/>
            <a:ext cx="82296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3300"/>
                </a:solidFill>
                <a:latin typeface="Comic Sans MS"/>
              </a:rPr>
              <a:t>Tipping the balanc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3300"/>
                </a:solidFill>
                <a:latin typeface="Comic Sans MS"/>
              </a:rPr>
              <a:t>the impact of the Working for Families (WFF) policy on Māori whāna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4000" y="1341360"/>
            <a:ext cx="7972200" cy="4967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FF- eligible whānau demonstrated the need for financial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6760" indent="-24084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prior to the policy’s existence, the living standards of WFF-eligible whānau were markedly and significantly lower than ineligible Māori househo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eneficiary families with dependant children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ere the worst-off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followed by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other beneficiary households (excl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SAs) and low-income working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families with dependant childr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1"/>
          <a:stretch/>
        </p:blipFill>
        <p:spPr>
          <a:xfrm>
            <a:off x="468360" y="4745160"/>
            <a:ext cx="273528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400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FF eligible whānau experienced an improvement in income 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 decline in the proportion of whānau whose income was ‘not enough’ to meet their everyday need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n equivalent increase in the                               ‘just enough’ categ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housing satisfaction also impro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 higher proportion of families having                     to economise on the purchase of fruit                   and vegetables in 2011 compared to 200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6647040" y="3357720"/>
            <a:ext cx="2414520" cy="25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460520"/>
            <a:ext cx="8177040" cy="3408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ānau dynamics play an important part in income 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280" indent="-23832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hanges in household circumstances such as family formation and split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fluctuation in labour force status between full-time and part-time work and between work, parenting,                     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   study and looking for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51640" indent="-203040">
              <a:spcBef>
                <a:spcPts val="4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49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Content Placeholder 2"/>
          <p:cNvSpPr/>
          <p:nvPr/>
        </p:nvSpPr>
        <p:spPr>
          <a:xfrm>
            <a:off x="3276720" y="4653000"/>
            <a:ext cx="5327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ole of whānau in caring for whānau members and/or giving money to help whānau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1"/>
          <a:stretch/>
        </p:blipFill>
        <p:spPr>
          <a:xfrm>
            <a:off x="468360" y="4438800"/>
            <a:ext cx="31338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C:\Users\Amohia_2\Pictures\Pictures\David and Arwyn Photos\DSC00353.JPG"/>
          <p:cNvPicPr/>
          <p:nvPr/>
        </p:nvPicPr>
        <p:blipFill>
          <a:blip r:embed="rId1"/>
          <a:stretch/>
        </p:blipFill>
        <p:spPr>
          <a:xfrm>
            <a:off x="6227640" y="2997360"/>
            <a:ext cx="2802240" cy="3735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539280" y="1341000"/>
            <a:ext cx="8116920" cy="5256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impact of WFF was significant but modest, and possibly frag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FF payments do make a contribution  towards improving income adequ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however gains may be fragile, as                        the economic situation of low                                -income families remains one of                   considerable hardship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economising on basic necessities                   such as fruit and vegetables, and                     visits to the doctor, evid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3640" y="1412640"/>
            <a:ext cx="8475480" cy="2663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vident tensions between WFF policy objecti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4336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onceptualised as a tool to target those experiencing social disadvantage with a view to increasing overall living standards and reducing poverty in the commun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179280" y="4149720"/>
            <a:ext cx="3294000" cy="2325600"/>
          </a:xfrm>
          <a:prstGeom prst="rect">
            <a:avLst/>
          </a:prstGeom>
          <a:ln w="0">
            <a:noFill/>
          </a:ln>
        </p:spPr>
      </p:pic>
      <p:sp>
        <p:nvSpPr>
          <p:cNvPr id="202" name="Content Placeholder 2"/>
          <p:cNvSpPr/>
          <p:nvPr/>
        </p:nvSpPr>
        <p:spPr>
          <a:xfrm>
            <a:off x="3708360" y="4149720"/>
            <a:ext cx="5243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however a divergence between the ‘making work pay’ and the ‘income adequacy’ aims of the WFF policy is apparent, with significant impact on Māor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8000" y="1484280"/>
            <a:ext cx="835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FF targeted whānau who were financially limited but excluded the most economically disadvantaged i.e. beneficiaries, and therefore the children of benefici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discernible but “modest” improvement in income adequacy for those in receipt of WFF during the period 2004-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5280" y="148428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research setting of considerable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Policy:  inherently complex, with inter-related components, which changed during the period of examin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ontext: a time of social and economic change, including recession and changing gover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hānau: dynamic entities, moving in and out of employment, changing household ty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research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earch Centre for Māori Health and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alth Research Council of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oundation for Research Science an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For 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ntent Placeholder 2"/>
          <p:cNvSpPr/>
          <p:nvPr/>
        </p:nvSpPr>
        <p:spPr>
          <a:xfrm>
            <a:off x="457200" y="1709640"/>
            <a:ext cx="8258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r Heather Gif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kauae Research for Māori  Health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ather@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ations availabl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ww.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5280" y="1484280"/>
            <a:ext cx="842472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ree year study with an overarching aim to identify whether Working for Families (WFF) has contributed towards whānau 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unded by the Health Research Council of New Zealand (HRC) and the Foundation for Research Science and Technology (FoR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llaboration between an iwi-based research centre &amp; a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9" descr="C:\Users\Amohia_2\AppData\Local\Microsoft\Windows\Temporary Internet Files\Content.Outlook\GK2I35KW\Professor Chris Cunningham.jpg"/>
          <p:cNvPicPr/>
          <p:nvPr/>
        </p:nvPicPr>
        <p:blipFill>
          <a:blip r:embed="rId1"/>
          <a:stretch/>
        </p:blipFill>
        <p:spPr>
          <a:xfrm>
            <a:off x="7156440" y="4013280"/>
            <a:ext cx="1898640" cy="2852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0920" y="1511280"/>
            <a:ext cx="7972200" cy="4968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rom WRMHD                                         Dr Heather Gifford (Lead) &amp;                      Dr Amohia Boulton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rom the Research Centre for           Māori Health and Development,     Massey University                                Dr Sue Triggs &amp;                                         Prof Chris Cunning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6138720" y="189000"/>
            <a:ext cx="1541520" cy="2160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Users\Amohia_2\Pictures\Photos of Me\WRMHD Photo of Me.JPG"/>
          <p:cNvPicPr/>
          <p:nvPr/>
        </p:nvPicPr>
        <p:blipFill>
          <a:blip r:embed="rId3"/>
          <a:stretch/>
        </p:blipFill>
        <p:spPr>
          <a:xfrm>
            <a:off x="7551720" y="1052640"/>
            <a:ext cx="1484280" cy="207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4"/>
          <a:stretch/>
        </p:blipFill>
        <p:spPr>
          <a:xfrm>
            <a:off x="6759720" y="2924280"/>
            <a:ext cx="15843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Additional 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280" y="1484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ndertake new analysis using an existing and on-going Māori data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est Outcomes for Māori: Te Hoe Nuku Roa (THN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HNR is a stratified, random, longitudinal survey of Māori households, initiated in a series of waves beginning in 199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duct high-quality research to inform policy development for Māo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Background to the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3640" y="148428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troduced in 2004, by a Labour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ttempted to address a number of social policy goals (Johnson 20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8240" indent="-2260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duce child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mprove the incomes of working famil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strengthen work incentives for unemployed par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ake it easier for families to access financial assist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Johnson, N. (2005). ‘Working for Families’ in New Zealand: Some Early Lessons. http://www.fulbright.org.nz/voices/axford/johnson.html. Accessed 26 August 2008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Components of W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0" y="1197000"/>
            <a:ext cx="91346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THNR Analysis - 3 P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14240" y="1557000"/>
            <a:ext cx="7972560" cy="4691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dentification of households in the THNR dataset with characteristics qualifying them to receive W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escriptiv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quantitativ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analysis of the longitudinal dataset of Māori househo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llection of new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qualitative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ata on whānau wellb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4000" y="1699920"/>
            <a:ext cx="7972200" cy="4692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HNR survey collected data on broad range of issues includ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nomic Living Standards Indicator (ELS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irst part of the research examined changes in living standards of whānau using data from households interviewed in Wave 4 (2004-2007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he second part of the research examined changes in the living circumstances of households between Wave 4 and Wave 5 of THNR and looked at the </a:t>
            </a:r>
            <a:r>
              <a:rPr b="0" i="1" lang="en-AU" sz="2600" spc="-1" strike="noStrike">
                <a:solidFill>
                  <a:srgbClr val="000000"/>
                </a:solidFill>
                <a:latin typeface="Arial"/>
              </a:rPr>
              <a:t>effect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of these changes on living standar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Sa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26920" y="1413000"/>
          <a:ext cx="7561440" cy="5208480"/>
        </p:xfrm>
        <a:graphic>
          <a:graphicData uri="http://schemas.openxmlformats.org/drawingml/2006/table">
            <a:tbl>
              <a:tblPr/>
              <a:tblGrid>
                <a:gridCol w="2065680"/>
                <a:gridCol w="981000"/>
                <a:gridCol w="1150920"/>
                <a:gridCol w="852480"/>
                <a:gridCol w="2511360"/>
              </a:tblGrid>
              <a:tr h="1224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anau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ave 4 s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ave 5 s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1590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fore W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fter W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1224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FF-elig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858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t elig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858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00:04:57Z</dcterms:created>
  <dc:creator>Heather</dc:creator>
  <dc:description/>
  <dc:language>en-US</dc:language>
  <cp:lastModifiedBy>Amohia</cp:lastModifiedBy>
  <dcterms:modified xsi:type="dcterms:W3CDTF">2012-07-03T00:30:59Z</dcterms:modified>
  <cp:revision>201</cp:revision>
  <dc:subject/>
  <dc:title>Slide 1</dc:title>
</cp:coreProperties>
</file>