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1D73-80E6-4C58-9B84-78E892D4A4E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CC8-56A4-46AD-9645-78163955737E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D64-25DF-44FD-AC57-429E87FE8D9D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E26-0661-4A82-8C59-195F24CEE718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B3A-7454-4CA6-A794-686D716C10A3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793-0D32-41C5-80A1-E7F5F72E0F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9EE-0170-4D65-A13A-A0620219A6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8E0F-BF90-49EA-AE19-E3AA84BABE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7C8-E671-4A76-BB08-6BAE0B9331A1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64B-C8E4-4A4E-8F26-99543E36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CB1-EBB2-4746-A962-E444A91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4DE-80BC-4E24-919D-94056C4F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916-FF84-485E-9FA6-3B443830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0BB-D2AF-4379-95E7-5E302ADA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657-4948-4F5E-AF72-536485F1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997-DBAB-4B28-B399-45D1174A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BA6-FB3A-4D92-AF62-F71B6050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FD8-E2CA-4D70-8FE2-E8EE460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CB6-CD17-4E95-9FCC-EEEAF9E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BBC-D2CB-42F9-ACCD-1E7D967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9D7-390C-469F-B178-8F9ECD3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2F88-479E-4F7D-8708-F3136BE2884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8392-CC3D-4E75-BDB5-0D37C1094A65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0000"/>
                </a:solidFill>
                <a:latin typeface="Magneto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Tu Toa Tu Maia:  </a:t>
            </a: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Implementing an indigenous gambling harm minimisation model in </a:t>
            </a:r>
            <a:br>
              <a:rPr sz="2800"/>
            </a:b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community-based health services</a:t>
            </a: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Health Services &amp; Policy Research 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Adelaide 5-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December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Hilton Hot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Laurie Morrison – Auckland University of Technology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Layla Lyndon-Tonga – Nga Manga Puriri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Amohia Boulton – Whakauae Research Centre</a:t>
            </a:r>
            <a:r>
              <a:rPr b="0" lang="en-NZ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7" descr="http://t1.gstatic.com/images?q=tbn:ANd9GcQAWhhF4k5KDINeJY2pWAYpU8_quRDpKIxTnOHSSlPhKsUkO86vd-kGl_Gx"/>
          <p:cNvPicPr/>
          <p:nvPr/>
        </p:nvPicPr>
        <p:blipFill>
          <a:blip r:embed="rId1"/>
          <a:stretch/>
        </p:blipFill>
        <p:spPr>
          <a:xfrm>
            <a:off x="3851280" y="2133720"/>
            <a:ext cx="144468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purting Geysers - Te Puia, Rotorua"/>
          <p:cNvPicPr/>
          <p:nvPr/>
        </p:nvPicPr>
        <p:blipFill>
          <a:blip r:embed="rId2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Spurting Geysers - Te Puia, Rotorua"/>
          <p:cNvPicPr/>
          <p:nvPr/>
        </p:nvPicPr>
        <p:blipFill>
          <a:blip r:embed="rId3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Spurting Geysers - Te Puia, Rotorua"/>
          <p:cNvPicPr/>
          <p:nvPr/>
        </p:nvPicPr>
        <p:blipFill>
          <a:blip r:embed="rId4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5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9" descr="http://t3.gstatic.com/images?q=tbn:ANd9GcTIM-H0JiBKDjT7FcsT2pDQgI_JBEeJqzUqvgi6CshYNsK5V46ZhA"/>
          <p:cNvPicPr/>
          <p:nvPr/>
        </p:nvPicPr>
        <p:blipFill>
          <a:blip r:embed="rId5"/>
          <a:srcRect l="0" t="0" r="0" b="3737"/>
          <a:stretch/>
        </p:blipFill>
        <p:spPr>
          <a:xfrm>
            <a:off x="7308720" y="1700280"/>
            <a:ext cx="1800360" cy="244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The Mount.bmp"/>
          <p:cNvPicPr/>
          <p:nvPr/>
        </p:nvPicPr>
        <p:blipFill>
          <a:blip r:embed="rId6"/>
          <a:stretch/>
        </p:blipFill>
        <p:spPr>
          <a:xfrm>
            <a:off x="1979640" y="2205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http://t2.gstatic.com/images?q=tbn:ANd9GcQL-eLATdLmK2yxTp27-9hA2qcP9IfqhlaRq0n8uJdqt2vDc0eYCw"/>
          <p:cNvPicPr/>
          <p:nvPr/>
        </p:nvPicPr>
        <p:blipFill>
          <a:blip r:embed="rId7"/>
          <a:srcRect l="23264" t="0" r="0" b="13259"/>
          <a:stretch/>
        </p:blipFill>
        <p:spPr>
          <a:xfrm>
            <a:off x="-1440" y="2349360"/>
            <a:ext cx="198108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http://t1.gstatic.com/images?q=tbn:ANd9GcTXtfqVwPKa6vFZK9xZCyaGo-yyPwce7AogchLGVr1y9VBMZvvRRIZdO5RK"/>
          <p:cNvPicPr/>
          <p:nvPr/>
        </p:nvPicPr>
        <p:blipFill>
          <a:blip r:embed="rId8"/>
          <a:stretch/>
        </p:blipFill>
        <p:spPr>
          <a:xfrm>
            <a:off x="5292720" y="2205000"/>
            <a:ext cx="2016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 – Tai Tokera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ack of Maori Problem Gambling Mod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ilored the resource to suit loc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grating the resource across existing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ge specificity ie, not acceptable with you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rvention and resource development needs to consi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 vision and long-term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self-empowerment  &amp;  ownership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, Rangatahi, Kaumatua participation in every aspect of resource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ocal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ole of decision makers  to support intervention (e.g. government /iwi mandated advisory committe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ecessary to create an environment of resp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and inclusion of Maori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for commun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Inclusiveness i.e. kaumatua, pakeke and rangatah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egitimacy of Maori epistem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Understanding of ecological relationshi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have a responsibility to transmit Maori knowledge and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OWEVER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sponsibility must be sha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must be supported to participate in the development of appropriate and relevant health service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a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375920"/>
            <a:ext cx="70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ealth Research Counci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upua Waiora Maori Health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Manga Puri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hakaue Research Cent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Pae o Te Maramatang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hrc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3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AUT b&amp;w"/>
          <p:cNvPicPr/>
          <p:nvPr/>
        </p:nvPicPr>
        <p:blipFill>
          <a:blip r:embed="rId2"/>
          <a:stretch/>
        </p:blipFill>
        <p:spPr>
          <a:xfrm>
            <a:off x="7790040" y="1557360"/>
            <a:ext cx="135396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MP.jpg"/>
          <p:cNvPicPr/>
          <p:nvPr/>
        </p:nvPicPr>
        <p:blipFill>
          <a:blip r:embed="rId3"/>
          <a:stretch/>
        </p:blipFill>
        <p:spPr>
          <a:xfrm>
            <a:off x="8115480" y="3213000"/>
            <a:ext cx="1028520" cy="194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Nga Pae.jpg"/>
          <p:cNvPicPr/>
          <p:nvPr/>
        </p:nvPicPr>
        <p:blipFill>
          <a:blip r:embed="rId4"/>
          <a:stretch/>
        </p:blipFill>
        <p:spPr>
          <a:xfrm>
            <a:off x="0" y="5924520"/>
            <a:ext cx="3809880" cy="9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WRS Logo for Outlook Email"/>
          <p:cNvPicPr/>
          <p:nvPr/>
        </p:nvPicPr>
        <p:blipFill>
          <a:blip r:embed="rId5"/>
          <a:stretch/>
        </p:blipFill>
        <p:spPr>
          <a:xfrm>
            <a:off x="7572240" y="5616720"/>
            <a:ext cx="1571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rcRect l="0" t="0" r="3411" b="11169"/>
          <a:stretch/>
        </p:blipFill>
        <p:spPr>
          <a:xfrm>
            <a:off x="0" y="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57120" y="50133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tact Deta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r Laurie Mor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b: +64 02725956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m: laurie.morrison@aut.ac.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05228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Gambling misuse amongst Māori is a critical public health 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ittle investment has been made in indigenous inter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instream initiatives imposed on Maor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ori consulted post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his does not reflect partnership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Calibri"/>
              </a:rPr>
              <a:t>Background – Development of the Tool in Te Araw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ntext Relev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Providing appropriate cultur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raditional knowledge is valid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earning is a holistic proce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inengaro (emotional effect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airua       (reflectiv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nana        (listening and do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tiro           (watching and monitor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mmunity Responsi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ocalising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inking providers’ needs and abilities with community aspiratio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Promoting specialized trai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Sharing, adapting and iwi (tribal) specific knowled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3116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0000"/>
                </a:solidFill>
                <a:latin typeface="Calibri"/>
              </a:rPr>
              <a:t>Hei Tiki: Commitment to cul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880" y="1228320"/>
            <a:ext cx="447192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k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ymbolizes good lu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kitiki – Pokie mach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a rationale for continuing to gam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s to keep you connected to cul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suse of gambling icons has the potential to misle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DSC00357"/>
          <p:cNvPicPr/>
          <p:nvPr/>
        </p:nvPicPr>
        <p:blipFill>
          <a:blip r:embed="rId1"/>
          <a:srcRect l="20847" t="6939" r="19865" b="0"/>
          <a:stretch/>
        </p:blipFill>
        <p:spPr>
          <a:xfrm>
            <a:off x="436680" y="1268280"/>
            <a:ext cx="3703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DSC00357"/>
          <p:cNvPicPr/>
          <p:nvPr/>
        </p:nvPicPr>
        <p:blipFill>
          <a:blip r:embed="rId1"/>
          <a:srcRect l="13079" t="13965" r="9481" b="6989"/>
          <a:stretch/>
        </p:blipFill>
        <p:spPr>
          <a:xfrm>
            <a:off x="187164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Powhiri Tool: Safe Gambling Checklis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ctivity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Waharo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arang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Marae ate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ikorero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aiat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oh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riru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kari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Take o Marae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pplic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epar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Prote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Gambling behaviou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ing sight of re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Attraction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s of man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Over compensat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Identifying confli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ulturally congruent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levant , Acceptable, Meaningfu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ppropriate education and training resou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formed indigenous and non-indigenous community based health wo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Application of the resou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Content Placeholder 4" descr=""/>
          <p:cNvPicPr/>
          <p:nvPr/>
        </p:nvPicPr>
        <p:blipFill>
          <a:blip r:embed="rId1"/>
          <a:stretch/>
        </p:blipFill>
        <p:spPr>
          <a:xfrm>
            <a:off x="311040" y="1554120"/>
            <a:ext cx="865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7:48:11Z</dcterms:created>
  <dc:creator>Laurie</dc:creator>
  <dc:description/>
  <dc:language>en-US</dc:language>
  <cp:lastModifiedBy>Amohia</cp:lastModifiedBy>
  <dcterms:modified xsi:type="dcterms:W3CDTF">2011-12-12T20:41:00Z</dcterms:modified>
  <cp:revision>97</cp:revision>
  <dc:subject/>
  <dc:title>Slide 1</dc:title>
</cp:coreProperties>
</file>