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593B-5E0D-42D2-A52C-87FCC0449D7C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933C-31F2-40AA-BE14-FF3468F5E6D8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83FA-0320-4608-8F0F-C333219D6D9B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AD19-A221-4358-8816-1118A8E313A0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7248-C032-4320-823F-8DFB79DA53D8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915C-DC85-4F83-A1A7-32501897A32B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D2B1-992A-4F98-AC99-926EB72F1029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72F8-5DE8-4A6D-965D-21F47FF5991E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3D16-B5E3-48E3-8BAF-F4293ECF018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5466-D534-461D-9FE3-230B4AB8CB4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A181-5B5E-40E8-8165-1279A6B41DA2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E45D-2BEF-4792-8F11-5BA7F03A1627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714E-C906-4A67-B033-CC613E003ABC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5C5A-C4D3-4F00-AF41-30F9F270BE28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2D4-E2AF-4702-9580-1F7D6EC1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EBB-C848-43A4-9268-E7083C97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E25-F80C-4E27-BADB-E215EE2F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446-3BEC-40AC-B807-C04F9288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67FB-67B0-4F77-8B8F-0BEF7B8E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E611-23FF-4D1F-BC4F-35A77863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814A-7A04-4B2A-AF5F-E49A1F69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02FD-1C22-4E24-9BF2-EFA4AD02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7933-A8E6-48ED-A294-D8226F98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51F3-9EDD-4E69-9E92-EDB94961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EBEB-3202-425F-8B19-F87670B0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EAA-B896-4A4D-B164-D9F5987F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4EC9-8990-4714-8B9A-C1E20101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865C-FB93-4283-8FA7-0DA02B01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DA4A-EF40-40AC-9CF5-0442892E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32A2-0201-489A-8030-8771B474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4696-44EE-4F29-9090-A6A6D63D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78C24-FE3E-41E9-86DA-B17E2BFD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CC78-2E82-4E5C-9676-5E9DB5B8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F3B0-45F3-4E59-B2AF-78046025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9802-D88B-46FF-8A6F-5F617FEE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4632-E5F3-4DF6-8493-182E0EDD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1EF-02F0-4B74-A02A-2A743D9E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8697-CF6D-4220-A688-D517156B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7BC0-5B43-4605-B89B-D588EE3D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739D-020D-4459-9045-1DDA2F3C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1287-9606-457F-88EF-AF54B113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BB7BF-1CBC-4DA9-BF13-3475BB91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88F3-5A1A-419F-91FF-95131D73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E3CD-9EB7-4E77-9D45-6E446637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A5E-78B9-470A-8B26-E1285799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124-72B7-4C73-9C71-75406D8D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FAA-FBF4-4E65-8487-AA59B810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DEA-D997-4B13-BCF3-2C58B49E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84E-9BA3-4210-94E6-8D652716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313-D3B2-4695-ACF8-11273A58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D849-062C-4FC2-AE1D-7BACD0F8E008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Picture 4" descr="WRS Logo for Outlook Email"/>
          <p:cNvPicPr/>
          <p:nvPr/>
        </p:nvPicPr>
        <p:blipFill>
          <a:blip r:embed="rId6"/>
          <a:stretch/>
        </p:blipFill>
        <p:spPr>
          <a:xfrm>
            <a:off x="0" y="5605560"/>
            <a:ext cx="161928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7"/>
          <a:stretch/>
        </p:blipFill>
        <p:spPr>
          <a:xfrm>
            <a:off x="3995640" y="5821200"/>
            <a:ext cx="1476360" cy="105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8"/>
          <a:stretch/>
        </p:blipFill>
        <p:spPr>
          <a:xfrm>
            <a:off x="7942320" y="4784760"/>
            <a:ext cx="1201680" cy="2073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03A0-806D-4933-A1B9-812F4721F129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109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Rectangle 13"/>
          <p:cNvSpPr/>
          <p:nvPr/>
        </p:nvSpPr>
        <p:spPr>
          <a:xfrm>
            <a:off x="468360" y="227484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4DF1-B64E-4D0E-9661-8E0668A7EC58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395280" y="4589640"/>
            <a:ext cx="825804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mohia Boulton, Heather Gifford, Jackie Cumming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Jennifer Tame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ealth Services and Policy Research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6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603360" y="213372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“</a:t>
            </a: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We can’t actually help them unless they want to be helped”: </a:t>
            </a:r>
            <a:r>
              <a:rPr b="1" lang="en-NZ" sz="2800" spc="-1" strike="noStrike">
                <a:solidFill>
                  <a:srgbClr val="003300"/>
                </a:solidFill>
                <a:latin typeface="Comic Sans MS"/>
              </a:rPr>
              <a:t>the extent to which Māori health service providers can contribute to building more resilient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ānau Understandings of Resi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4240" y="1676520"/>
            <a:ext cx="43624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lience and the coll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raditional examples of collective resil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odern challenges to the traditional family unit requires a new form of resil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99924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Impact on resilience</a:t>
            </a:r>
            <a:br>
              <a:rPr sz="4400"/>
            </a:b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of engagement with a M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191628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vider may provide the impetus for change in  behaviour or lif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alance between offering support &amp; “dictating” to the cl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ole model for whānau &amp; supports individuals &amp; whānau to become self sufficien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alance between “doing for”                                &amp; “empowering” cli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5724360" y="4869000"/>
            <a:ext cx="3294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eatures of a resilience-promoting health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ānau 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s Māori processes and strengthens Māori id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rong governance and leadership who role model the highest ethical, cultural, and professional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aff have the “right” mix                           of professional and                       personal val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5850000" y="4405320"/>
            <a:ext cx="32940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eatures of a resilience-promoting health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nge of public health and primary healthcare facilities under one roof - physically located in one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541760" y="3357720"/>
            <a:ext cx="4475160" cy="3355920"/>
          </a:xfrm>
          <a:prstGeom prst="rect">
            <a:avLst/>
          </a:prstGeom>
          <a:ln w="0">
            <a:noFill/>
          </a:ln>
        </p:spPr>
      </p:pic>
      <p:sp>
        <p:nvSpPr>
          <p:cNvPr id="201" name="Content Placeholder 2"/>
          <p:cNvSpPr/>
          <p:nvPr/>
        </p:nvSpPr>
        <p:spPr>
          <a:xfrm>
            <a:off x="779400" y="2860560"/>
            <a:ext cx="376236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utreach services for more rural and isolated members of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rap-around”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000" y="1484280"/>
            <a:ext cx="8188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āori  primary health care providers can and do support whānau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PH providers must use the full range of resources at their disposal to configure services to support those want to take the journey towards whānau 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lience and whānau ora are linked: whānau ora will not be achieved without whānau being resi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IHA Board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IHA managers and staf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anganui whāna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alth Research Council of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gā Pae o te Māramata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Families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457200" y="1709640"/>
            <a:ext cx="825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 Amohia Bou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kauae Research for Māori  Heal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mohia@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tions availabl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Establishing 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quest for Proposals 2008 from four funders: Ngā Pae o te Maramatanga, Health Research Council of NZ, ACC, the Families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earch conducted between 2009-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ree research part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FP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mmissioners had two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 seek research that would focus on “whānau resilience”, i.e. the collective health and wellbeing of whānau at a level beyond individuals, families and individual househo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 address factors that both promote and contribute to whānau health by maximising whānau resil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 Amohia Boulton (Lead),                      Dr Heather Gifford,                            Lynley Cvitanovic (WRMH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ssoc. Prof Jackie Cumming,           H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Jennifer Tamehana,                           CEO, TOIHA P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C:\Users\amohia\AppData\Local\Microsoft\Windows\Temporary Internet Files\Content.Outlook\NRJ87GL0\Jackie Cumming.jpg"/>
          <p:cNvPicPr/>
          <p:nvPr/>
        </p:nvPicPr>
        <p:blipFill>
          <a:blip r:embed="rId1"/>
          <a:stretch/>
        </p:blipFill>
        <p:spPr>
          <a:xfrm>
            <a:off x="7236000" y="3933720"/>
            <a:ext cx="1672920" cy="2274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:\Users\Amohia_2\Desktop\Jen cropped.jpg"/>
          <p:cNvPicPr/>
          <p:nvPr/>
        </p:nvPicPr>
        <p:blipFill>
          <a:blip r:embed="rId2"/>
          <a:stretch/>
        </p:blipFill>
        <p:spPr>
          <a:xfrm>
            <a:off x="4791240" y="4941720"/>
            <a:ext cx="2055600" cy="1684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6227640" y="260280"/>
            <a:ext cx="15415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Amohia_2\AppData\Local\Microsoft\Windows\Temporary Internet Files\Low\Content.IE5\DL2BDISJ\LC[1].JPG"/>
          <p:cNvPicPr/>
          <p:nvPr/>
        </p:nvPicPr>
        <p:blipFill>
          <a:blip r:embed="rId4"/>
          <a:stretch/>
        </p:blipFill>
        <p:spPr>
          <a:xfrm>
            <a:off x="7392960" y="1484280"/>
            <a:ext cx="14842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Our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000" y="1484280"/>
            <a:ext cx="7972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find 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f the idea of “resilience” has any place in Māori primary healthcare (MPH)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he ways in which whānau resilience is enhanced by MPH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link between resilience and whānau o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duct research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nforms practic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ontributes to Māori developmental aspi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9280" y="1676520"/>
            <a:ext cx="81471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terature review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velopment of the conceptual frame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Key informant 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IHA staff, managers and governance board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quential Foc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series of in-depth focus groups with TOIHA consumers (2 groups comprising 6-8 memb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et regularly over four wee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at we found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ānau understandings of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engagement with a MPH provider has impacted on whānau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nge of MPH provider resources/ mechanisms contribute to enhanced whānau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ānau Understandings of Resi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10920" y="1989000"/>
            <a:ext cx="7972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ersonal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nner strength, “toughness’,                      flexibility, resourceful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having values which allow                                        an individual to overcome                                 advers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lies on connections to people &amp; th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no agreement regarding resilience being a “learned” attribute or on why some people appear more resilient than oth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5375160" y="2054160"/>
            <a:ext cx="35593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ānau Understandings of Resi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13880" y="1844280"/>
            <a:ext cx="7745400" cy="4273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lience as a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ovement away from risk, harm, or a “bad” life to one which is “better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quires a cataly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no agreement on why,                                  when or how the journey                                    is instigat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5" descr="C:\Users\Amohia_2\Pictures\Pictures\David and Arwyn Photos\DSC00353.JPG"/>
          <p:cNvPicPr/>
          <p:nvPr/>
        </p:nvPicPr>
        <p:blipFill>
          <a:blip r:embed="rId1"/>
          <a:stretch/>
        </p:blipFill>
        <p:spPr>
          <a:xfrm>
            <a:off x="5651640" y="2862360"/>
            <a:ext cx="2801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04:57Z</dcterms:created>
  <dc:creator>Heather</dc:creator>
  <dc:description/>
  <dc:language>en-US</dc:language>
  <cp:lastModifiedBy>Amohia</cp:lastModifiedBy>
  <dcterms:modified xsi:type="dcterms:W3CDTF">2012-03-08T01:46:12Z</dcterms:modified>
  <cp:revision>169</cp:revision>
  <dc:subject/>
  <dc:title>Slide 1</dc:title>
</cp:coreProperties>
</file>