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5545-374B-43BB-B395-92A5EE58016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43E4-A17C-4096-A146-CE52370B3BF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A7A-5752-46C7-A6BE-2031F3D32AB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F1BA-AA30-4829-9673-7EF80F8D1E4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576-3263-4079-88B5-DE5435CF95B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44C-E97F-418C-AA47-F2A2E2D6AEA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FFCF-9B88-4A14-B22E-B28D6C3DF2C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9DA-71AE-4804-B3E4-41E9BBDAD1C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A28-9298-4EF7-B056-42908CF0A4D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2E68-AD39-479A-9FEC-F5A10C514C5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23D-A347-4388-9B1D-C410EC6DE0D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AEE-B51D-4E1B-B1B2-24772EA465A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D54-375B-4976-8BB2-C6F79B57A11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59E5-0F52-4B35-A267-92AB6A6EED4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E00-2AAD-4BEF-9BEF-FE07ED31FB3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7C6-56B0-4896-972F-C6C9728EB9B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7B4E-EDE1-4FE8-AF1D-CBAC3CBB983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E12-FBB4-425F-9C77-66213C705ED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651E-BD6E-425B-AEDC-0CED3F03CB0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B90-0B14-40F0-9A78-4EA5B72C649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F0B-66F7-4FBE-83D4-534070D2736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F9FA-4586-404A-B543-81838A3FE54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1FE-2A70-403E-864D-E950F86FBB5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81D1-A15F-41EA-908E-DE46401B0C0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981-A947-46AD-856A-B3DB40DF651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0C88-BE5D-4D88-8AFE-743A285896E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1879-33B0-40A7-BC2E-FBD5EF7EE66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15BE-739B-417D-940F-BD1AB1B5E77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C8BB-A84D-4F09-83F9-92077CFB74D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FBC-FF88-450C-9F21-CD00170C180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9400-584D-4894-AF0E-FED312B3293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88C-ACA1-4F3E-B112-775D6806A17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476D-BC6A-4E03-8296-559FE3C72F9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813F-9ACC-4840-BA85-7C4C1917FD0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F4EB-CB6C-4BDC-8F5A-0C8D57A398D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2562-13B3-4A60-93E8-33ADA910A62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A97-40AA-43C9-AD92-F4330A03D40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E06C-7980-45D6-9D66-E2B1CC9ABC7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030-8875-4FC7-A6DA-A1E6F5E8400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A53-659A-4557-A187-57913289467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4E5-D61B-4762-B959-C459ADCE2DB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840-7DF0-45F1-B461-0CCDBE3BF0F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46E7-C3F0-4157-8BA4-1521350DD1A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E01-0C06-47E8-ADA3-4694718EB6E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F43-E768-4712-BFB9-CF57DB16EF2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B5B-1BDA-4557-96A4-6820760068F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6222-9415-4FBC-B494-B7770979DFC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5077-E809-4F1B-BD58-8040E401199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C73D-2134-4D87-B1BF-EC832766E85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FB9-A97E-4E57-B424-EE847B729DE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7973-354C-495C-BBCF-C0601417AE7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72FF-C901-46C4-BC5B-257F8F4C71F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7CEA-9129-4A9B-9D77-A1D5B2EC248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592-85D1-40EA-9020-4C1C50B27D7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ADA-0DB1-4E42-A1B0-4FFC7DADA1B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58B-A526-4875-9BA6-8183F4D5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47C-25F4-4C3B-ADF7-31493455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BE1-7D36-4CD4-93FB-B6BFEB01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2D5-F70F-4201-8CF6-8EFA75BC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E6A7-CB06-4AE5-90EA-51F917C6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B661-52E2-4049-BF43-59868EC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CB4-621F-41B4-B8AD-26669650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63AE-1F4F-43CE-8093-CA59C26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B07-B921-4574-B1AC-7ED507B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9752-C074-4935-B660-2C3E97C3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377-F274-41BB-AB64-D6AFA864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4DE-F212-4AAF-B64F-9ED8047C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D9BD-435D-48D2-9931-D7AE0F89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A406-8C22-45E1-B32A-020D838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1526-7238-4AF4-9891-179C064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23E-93BB-4A20-8EE0-2DDED6FB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695-AF01-484C-9C12-61C0D65F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BB7-6BA3-4717-AEAB-22F69A1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2D6-2987-4086-9040-4615356C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384-4976-4669-BB4A-1DE2618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E99-0329-4292-9BAB-776081CC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772-B409-42F8-8EA6-55AFD57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825-882A-4032-B26C-239ACAD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1EF-3085-4765-90DD-E712D42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2BE-066B-4DD0-8812-8E217BB8F64D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5" descr=""/>
          <p:cNvPicPr/>
          <p:nvPr/>
        </p:nvPicPr>
        <p:blipFill>
          <a:blip r:embed="rId6"/>
          <a:stretch/>
        </p:blipFill>
        <p:spPr>
          <a:xfrm>
            <a:off x="0" y="5773680"/>
            <a:ext cx="26431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WRS Logo for Outlook Email"/>
          <p:cNvPicPr/>
          <p:nvPr/>
        </p:nvPicPr>
        <p:blipFill>
          <a:blip r:embed="rId7"/>
          <a:stretch/>
        </p:blipFill>
        <p:spPr>
          <a:xfrm>
            <a:off x="7572240" y="5643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WRS Logo for HRC Panui.png"/>
          <p:cNvPicPr/>
          <p:nvPr/>
        </p:nvPicPr>
        <p:blipFill>
          <a:blip r:embed="rId8"/>
          <a:stretch/>
        </p:blipFill>
        <p:spPr>
          <a:xfrm>
            <a:off x="208080" y="1420920"/>
            <a:ext cx="8753400" cy="4887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9BB-2A08-4F91-BCDF-616EEC4FDB30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Māori Health Research Writ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428760" y="3929040"/>
            <a:ext cx="825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June-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Heather Gif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Amohia Boul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Investment Signals (IS) for the four Research Investment Steams (RIS) are currently being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art of this process the scope of each signal will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s will be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of $66M to be invested through the annual contestabl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nnual Funding Round 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609480" y="1557360"/>
            <a:ext cx="82584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nd Programm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ntract types with fixed maximum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4 Research Investment Streams (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Investment Signals (IS) to initiate the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NZ Health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health service delivery over the short-medium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productivity, performance, organisation and sustainability of the health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, equity, quality and efficacy of car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, regional or nation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earch is not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ealth and Well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link between knowledge generated and improving the health and wellbeing of individuals and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, maintaining and enhancing health and well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an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and reducing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/ economic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Improving Outcomes for Acute and Chronic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 disease state, condition or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ble or non-communicab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ctrum of health improvement from diagnosis, development of treatments through to patient self management, rehabilitation and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the pathology of a disease, through to the management of the disease or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Rangahau Hauora Mā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evidence base which contributes to Māori health gains derived from high-quality Māori health research that upholds Rangatirat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health research that values Māori worldviews and builds Māori research capacity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s and advances Māori knowledge, resource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ypes of Funding Avail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Contracts (Annual Funding 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 and Grants-in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ori Knowledge and Development Community Health Research Grants (Ngā Kanohi Kit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HRP (international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428760" y="121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ontrac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, Summer Studentships, Masters and PhD Scholarships, Postdoctoral Fellow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457200" y="1571760"/>
            <a:ext cx="82580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alon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he long-term development of a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equire three or more established researchers, with a history of receiving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outcomes, vision, collaboration/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 M over fiv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m: Welcome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5: Session 1 -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am Morning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0: Session 2 - Gra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30 pm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p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3 - Working 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n individual or a group if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duration is three years (five years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contracts will have a budget cap of    $400,000 per annum, to a maximum contract price of $1.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emerging researchers with a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not have previously held a competitive contract for research expenses of &gt; $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maximum of $150,000 ove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o test feasibi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150,0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ademic background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/involvement in Māori community activities and/or be working or training in a health-rela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12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to pay for travel, koha, accommodation, living expenses and cour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ure for a period of up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Student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/work undertaken during the summer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term of 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eport at the conclusion of the student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by letter with the support of the research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4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’s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one year of personal support for students completing the research component of a Master’s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1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D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ree years of personal support for students undertaking a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25,0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0,000 may be awarded to assist with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doctoral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utstanding graduates who have recently completed a PhD to conduct further research and gain experience in their chos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based on recipient’s qualifications and University salar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25,000 for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e planning and scoping of a potential research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piloting an idea, or consultation with a community, prior to a gra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-in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issemination for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395280" y="112536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ā Kanohi Ki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.5M total, $250k p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whānau, hapū and iwi ability to develop and lea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Proposals likely to be released in Nov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to undertake research in a range of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571680" y="114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comprises a number of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view for research excellence is the stage most people are familiar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(usually only 1 for Māori Health) brought together to determine refe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 peer review of application by up to 5 reviewers resulting in review summ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uttal by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wn entity responsible for investment in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d by Minister of Health, funded by Minister of RS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iomedical, clinical, health services &amp; public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on: to improve human health through promoting and fund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642960" y="150012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considers each application on the basis of 4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determined “fun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of the process still being confi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ior to 10/11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6429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“internal” prioritisation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prioritisation was to ensure the HRC invested in a balanced portfolio of research that was both scientifically excellent and of high priority to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best applications were identified by SACs, priority review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10/11 Funding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11280" y="1125360"/>
            <a:ext cx="825804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scoring will no longer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d by an assessment on the impac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researchers to consider the links between their research and the specific goals outlined in research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pending on how this will occur at the assessm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2"/>
          <p:cNvSpPr/>
          <p:nvPr/>
        </p:nvSpPr>
        <p:spPr>
          <a:xfrm>
            <a:off x="571680" y="1071720"/>
            <a:ext cx="835812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pplications are determined to be fundable by the SACs, they are considered by the General Assess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ises Chairs of each of the Science Assessing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C have an overview of the range of potential investment and consider the scope of the investment HRC will make in any one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Excellence and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609480" y="1724040"/>
            <a:ext cx="82584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547640" y="1125360"/>
          <a:ext cx="6046920" cy="508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25360"/>
                    <a:ext cx="6046920" cy="50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1571760" y="1143000"/>
          <a:ext cx="6046560" cy="50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046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10"/>
          <p:cNvSpPr/>
          <p:nvPr/>
        </p:nvSpPr>
        <p:spPr>
          <a:xfrm>
            <a:off x="3857760" y="1071720"/>
            <a:ext cx="3600360" cy="3456000"/>
          </a:xfrm>
          <a:prstGeom prst="ellipse">
            <a:avLst/>
          </a:prstGeom>
          <a:solidFill>
            <a:srgbClr val="dd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2-Grant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ranslating ideas into a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214200" y="157176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question you want answered (can you say it in a couple of sentences, does it make sense to other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ealth significance (how does it relate to priorities and current poli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been asked befo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able to be answered with some degree of confidence? Is the question too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esearch methodology and the specific methods answer the research question po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explain your methods clea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explained 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research process in your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nalysis link with the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udgetary implications of the methods chos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pecific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erest in Māori &amp; Pacific peoples’ health research &amp; capac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Invest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areer development &amp; monitors health research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funding partnerships with private &amp; public secto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sufficient detail to convince the reviewers of your ability to carry out the research in a timely fashion, using the methods and methodology you have outl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revious experience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ise of team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need an advisory committ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 methods adequately expla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staffing work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side influences might impact on research tim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the stages of th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GANTT charts and timelines to assist in mapping the proje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s to be on your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thodological or clinical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specific locality issues you need to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orce development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needs to occur early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 lengthy process of negotiating roles,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(MoUs) or informal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28760" y="135720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guidelines carefully to ascertain what can and can’t be included in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to develop a budget and revie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costings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can justify your budget (more detail makes it easier to agree to funding reques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n over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you keep end-users, funders, advisors engaged and in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using the full range of dissemin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issemination method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d approaches are useful both for you as the researcher and the research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nowledg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regarded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lier in the process you can consider knowledge translation opportunities th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ow your research can improve services, practice at a local level, national level and implications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Writing a funda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ontent Placeholder 2"/>
          <p:cNvSpPr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o the HRC 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language clear, precise and jargon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is important, use headings to ensure a logical arg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for writing, review, peer review, r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building up a profile start small and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ome final t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over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(whether it be methodological or simply a novel idea) is highly reg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/impact also sough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levant material to assist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cared to ask others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HRC Guidelin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Research Portfolios replaced with 4 Research Investment Streams (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priority areas for healt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 these will remain stable for at least a five-yea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responsiveness to government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mmunication of research needs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Māori Health Committee review of the Health Research Strategy to Improve Māori Health and Wellbeing 2004 –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 Whakapiripiri – March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worksh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with key experts in Māori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395280" y="141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document to be presented at Hui Whakapiripiri in Rotorua 8-9 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e Maori Health Committee to present the document back to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to seek the sector’s input/comments before presenting the document to the HRC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4-Working o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elp?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her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539640" y="1628640"/>
            <a:ext cx="82584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vestment Streams and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Investment Signal for each stream will be released prior to the annual funding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define the priorities for HRC investment i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present high-level information for researchers on HRC’s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1280" y="1773360"/>
            <a:ext cx="8258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ers will be requi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te which Investment Signal they are responding to in their applicatio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make a case for how their proposal addresses the Investment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t between the proposal and the IS will be a crucial part of the assess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539640" y="1628640"/>
            <a:ext cx="8258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be included in each Investmen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apply only to  Programme and Projec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dget indications will be used by the HRC Board as a means of determining future research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 </cp:lastModifiedBy>
  <dcterms:modified xsi:type="dcterms:W3CDTF">2010-07-12T21:52:29Z</dcterms:modified>
  <cp:revision>141</cp:revision>
  <dc:subject/>
  <dc:title>Slide 1</dc:title>
</cp:coreProperties>
</file>