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BF03-B955-4C3D-A9E3-84F3E5BDBA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C837-1C76-4CAB-8F53-0959D9987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uj[op’jp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0312-8B74-43A9-9A21-0D80596F50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0E70-1B6A-4F75-AB01-DE8C57F00F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D66E-62FB-4949-AF20-2B2CCA9001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22AE-DA72-4627-80E5-A5A483F8C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5422-B03C-4AC9-B8B4-D1792906EF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7665-E2AF-4985-8DBD-89477AD71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79E4-08CA-4221-B5E9-6A15A47133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56C2-E5DA-43FC-86DB-D270AFEA1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000080" y="714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1816-F05C-490B-A5BE-ED7EEFB8C6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C9A5-666C-468D-A990-81CD5E38E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D4E-E604-42A8-9E02-44A7339D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0D1-6CFC-4C9A-AF6E-62C60826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3B7-1C37-43E8-BBD3-007E8846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A7E-A0AB-44C0-A6D6-4D83B525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1B180-5E8C-4C77-A335-7F00EA6D3C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431E2-068B-4E17-AA2A-3E476F47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EA41B-E05B-4A9B-9DD5-AB84DD3B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3F14C-6829-4AD7-AB77-89146A52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D6C74-E7CE-491B-85BA-BCB38113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6F9F1-7099-4EA1-AEB4-7467E9D5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A1759-BAAA-4841-B9F5-A12CC8D1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858-D786-425E-A249-CFB171A7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71F93-1EF8-41A5-855E-EE4B25B8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C6F2A-0FF8-4C20-80A3-731264D6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69D56-3AC4-4D07-9060-7C88F48B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F7957-1E17-4834-90F2-7EA239E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37896-55CF-436B-9352-6BC9F2728F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06D-1A86-43A7-847C-3347626F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B7C-78BA-44A4-8FE4-B135E6C1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677-9FAC-41AD-B7AB-E9B5D43C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2F8-8991-4FDD-A880-4E3E97D1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232-0980-48FA-AC7D-1E598B23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494-4071-45FF-AED3-3DCC94FA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14D-00AE-499C-97F4-83581755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Outlook Email"/>
          <p:cNvPicPr/>
          <p:nvPr/>
        </p:nvPicPr>
        <p:blipFill>
          <a:blip r:embed="rId2"/>
          <a:stretch/>
        </p:blipFill>
        <p:spPr>
          <a:xfrm>
            <a:off x="214200" y="55008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"/>
          <p:cNvPicPr/>
          <p:nvPr/>
        </p:nvPicPr>
        <p:blipFill>
          <a:blip r:embed="rId3"/>
          <a:stretch/>
        </p:blipFill>
        <p:spPr>
          <a:xfrm>
            <a:off x="2340000" y="0"/>
            <a:ext cx="915840" cy="981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"/>
          <p:cNvPicPr/>
          <p:nvPr/>
        </p:nvPicPr>
        <p:blipFill>
          <a:blip r:embed="rId4"/>
          <a:stretch/>
        </p:blipFill>
        <p:spPr>
          <a:xfrm>
            <a:off x="7259760" y="2276640"/>
            <a:ext cx="1884240" cy="2016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"/>
          <p:cNvPicPr/>
          <p:nvPr/>
        </p:nvPicPr>
        <p:blipFill>
          <a:blip r:embed="rId5"/>
          <a:stretch/>
        </p:blipFill>
        <p:spPr>
          <a:xfrm>
            <a:off x="2556000" y="3068640"/>
            <a:ext cx="2665440" cy="2852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" descr=""/>
          <p:cNvPicPr/>
          <p:nvPr/>
        </p:nvPicPr>
        <p:blipFill>
          <a:blip r:embed="rId6"/>
          <a:stretch/>
        </p:blipFill>
        <p:spPr>
          <a:xfrm>
            <a:off x="6012000" y="0"/>
            <a:ext cx="1873080" cy="1700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FC07-AA5C-4E00-A7E3-1988B95825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"/>
          <p:cNvSpPr/>
          <p:nvPr/>
        </p:nvSpPr>
        <p:spPr>
          <a:xfrm>
            <a:off x="3429000" y="6460560"/>
            <a:ext cx="19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rowaitia te puna waio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i oranga motuhake mo te Iw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4" descr=""/>
          <p:cNvPicPr/>
          <p:nvPr/>
        </p:nvPicPr>
        <p:blipFill>
          <a:blip r:embed="rId7"/>
          <a:stretch/>
        </p:blipFill>
        <p:spPr>
          <a:xfrm>
            <a:off x="3429000" y="5072040"/>
            <a:ext cx="1908000" cy="14130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3" descr="http://www.victoria.ac.nz/hsrc/gfx/logos/HSRC-logo.png"/>
          <p:cNvPicPr/>
          <p:nvPr/>
        </p:nvPicPr>
        <p:blipFill>
          <a:blip r:embed="rId8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WRS Logo for Outlook Email"/>
          <p:cNvPicPr/>
          <p:nvPr/>
        </p:nvPicPr>
        <p:blipFill>
          <a:blip r:embed="rId2"/>
          <a:stretch/>
        </p:blipFill>
        <p:spPr>
          <a:xfrm>
            <a:off x="214200" y="55008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"/>
          <p:cNvPicPr/>
          <p:nvPr/>
        </p:nvPicPr>
        <p:blipFill>
          <a:blip r:embed="rId3"/>
          <a:stretch/>
        </p:blipFill>
        <p:spPr>
          <a:xfrm>
            <a:off x="2340000" y="0"/>
            <a:ext cx="9158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4"/>
          <a:stretch/>
        </p:blipFill>
        <p:spPr>
          <a:xfrm>
            <a:off x="7259760" y="2276640"/>
            <a:ext cx="1884240" cy="201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5"/>
          <a:stretch/>
        </p:blipFill>
        <p:spPr>
          <a:xfrm>
            <a:off x="2556000" y="3068640"/>
            <a:ext cx="2665440" cy="285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6"/>
          <a:stretch/>
        </p:blipFill>
        <p:spPr>
          <a:xfrm>
            <a:off x="6012000" y="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7"/>
          <a:stretch/>
        </p:blipFill>
        <p:spPr>
          <a:xfrm>
            <a:off x="3419640" y="5445000"/>
            <a:ext cx="1908000" cy="141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www.victoria.ac.nz/hsrc/gfx/logos/HSRC-logo.png"/>
          <p:cNvPicPr/>
          <p:nvPr/>
        </p:nvPicPr>
        <p:blipFill>
          <a:blip r:embed="rId8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victoria.ac.nz/hsrc/gfx/logos/HSRC-logo.png"/>
          <p:cNvPicPr/>
          <p:nvPr/>
        </p:nvPicPr>
        <p:blipFill>
          <a:blip r:embed="rId9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6A9D-2C61-438C-89B0-F0A2812CE9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ohia.whakauae@xtra.co.nz" TargetMode="External"/><Relationship Id="rId2" Type="http://schemas.openxmlformats.org/officeDocument/2006/relationships/hyperlink" Target="http://www.whakauae.co.nz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222268"/>
                </a:solidFill>
                <a:latin typeface="Arial"/>
              </a:rPr>
              <a:t>Supporting Whānau Wellbeing:</a:t>
            </a:r>
            <a:br>
              <a:rPr sz="2000"/>
            </a:b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68000" y="4076640"/>
            <a:ext cx="8286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Amohia Boulton, Jennifer Tamehana, Jackie Cumm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Lynley Cvitanov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Families Commission Research Seminar, 3 Jun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ubtitle 2"/>
          <p:cNvSpPr/>
          <p:nvPr/>
        </p:nvSpPr>
        <p:spPr>
          <a:xfrm>
            <a:off x="571680" y="2428920"/>
            <a:ext cx="7858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How Māori Primary Health Care Contributes to Whānau Resil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Challenges Posed by the Research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628640"/>
            <a:ext cx="8215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Conceptually very demanding, linking three distinct concepts into a cohesive framework fo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ranslational of “academic” theory and theory testing into meaningful practice and lessons for service improv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Challenges Posed by the Research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628640"/>
            <a:ext cx="8215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Are we simply attempting to ‘fit’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into a Western framework of resilience – is conceptual adaptation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Identifying kaupapa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concepts, ways of being and doing that are meaningful for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in attaining and/or sustaining wh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nau 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b6bcf"/>
                </a:solidFill>
                <a:latin typeface="Arial"/>
              </a:rPr>
              <a:t>TOIHA Boar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b6bcf"/>
                </a:solidFill>
                <a:latin typeface="Arial"/>
              </a:rPr>
              <a:t>TOIHA Managers and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b6bcf"/>
                </a:solidFill>
                <a:latin typeface="Arial"/>
              </a:rPr>
              <a:t>Whanganui Whā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search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search funders (HRC, Ngā Pae o te Maramatanga, ACC, Families Commi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Arial"/>
              </a:rPr>
              <a:t>Contact Details</a:t>
            </a:r>
            <a:endParaRPr b="0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Amohia Bou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Whakauae Research for Maori Heal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</a:rPr>
              <a:t>a</a:t>
            </a: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hia.whakauae@xtra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19664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Research go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Context of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How these goals relate to Whānau 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Challenges posed by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Research Goals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213920"/>
            <a:ext cx="821520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                      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o deter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levance of the concept of ‘resilience’ for Māori whānau and in Māori primary health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in what ways whānau resilience can be supported and enhanced by Māori primary health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Research Contex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214280"/>
            <a:ext cx="82152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Māori-led, iwi-based research partnersh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Whakauae  Research (l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Te Oranganui Iwi Health Authority (TOIHA) P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Health Services Research Centre, VUW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Single case study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Research question in response to a Request for Proposal by f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Relationship to Whānau Ora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1267920"/>
            <a:ext cx="846288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What is the relationship between whānau ora and resilience in a primary health care set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2268"/>
                </a:solidFill>
                <a:latin typeface="Arial"/>
              </a:rPr>
              <a:t>TOIHA’s mission is to achieve whānau ora through Māori primary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2268"/>
                </a:solidFill>
                <a:latin typeface="Arial"/>
              </a:rPr>
              <a:t>Must TOIHA enable resilience for whānau to achieve whānau 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2268"/>
                </a:solidFill>
                <a:latin typeface="Arial"/>
              </a:rPr>
              <a:t>Is being resilient critical to achieving        whānau 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214280"/>
            <a:ext cx="82152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Phase One nearing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Integrated literature re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resilience, Māori primary health and whānau 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Development of a conceptu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Key informant intervi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TOIHA staff, managers and governance boar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Literature review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267920"/>
            <a:ext cx="82072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International academic resilience literature of 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limited relevance for whānau, hapū, i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Dearth of 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kaupapa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Potential for recent indigenous and cultural resilience literature to inform a kaupapa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resilienc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Document review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213920"/>
            <a:ext cx="82152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Mapping” resilience to Māori primary health care approaches in the TOIHA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Four principles identified for further tes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Whānau Ora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Focus on Well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Cultural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Empow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Key informant interviews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213920"/>
            <a:ext cx="82152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Purpose to test whether the concept of resilience understood and used by health practitioners/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How does the concept relate to whānau ora, if at a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Eleven face to face, in-depth key informant interviews u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Team data analysis – mahi a rōp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44:02Z</dcterms:created>
  <dc:creator>tteki</dc:creator>
  <dc:description/>
  <dc:language>en-US</dc:language>
  <cp:lastModifiedBy>Reviewer 1</cp:lastModifiedBy>
  <dcterms:modified xsi:type="dcterms:W3CDTF">2010-06-03T20:54:08Z</dcterms:modified>
  <cp:revision>136</cp:revision>
  <dc:subject/>
  <dc:title>Slide 1</dc:title>
</cp:coreProperties>
</file>